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3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2337-13F3-4422-8285-EA28446EDE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B17B-26D3-481B-9220-402D39384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EBDB-1A25-44C3-9EA2-7E75E52AC21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B0CD-0705-49DB-81F8-133E7B3C5C1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5B6D-67BD-4672-81A5-AF7301014B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E5E2-BAEF-4E26-98B3-17833033C99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A20E-DFE7-43F7-94C1-F47E0D3D0A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131E-E021-47E8-9F9D-226E4CEC296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BE40-608D-4EC3-8027-04A810266CD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CC17-CC8D-47E2-A603-6E1AD1B30E4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2AB9-6160-4D78-8D51-14B97B3286E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1886-3F4B-4C5F-A07A-184BB93C7FF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95F8-10B9-4299-A955-5EA83066F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9CCB-A1A0-46EA-8329-9954B5CB661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25AF-B30F-47F6-A3F0-9194624E5B3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7507-D2D7-490E-9A1E-BB0B52881C0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1C40-8EC4-46B9-B3D2-D5190ED00DD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A1B8-3A1A-4BEB-A1C6-ACC2F017A8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F804-A98B-4670-BDBC-3B7663135EE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E2DE-69CE-42C8-A099-89C4C719F7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C2F7-7EE2-4D96-9069-579EBF0DC4A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2085-1AA0-4F23-9559-7F56B297A5F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AD51-FE8E-4923-A0CB-C3B6745E652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3218-BFE2-48C6-A192-855B612E4E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FC92-3843-4F35-B56B-7915808713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867F-B32F-43A0-996D-B5BC45096C9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F904-98CE-4647-9CB1-A2421DAA7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9850-3587-4DBA-B93C-1C01883AE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0B17-DAA4-42B2-AA5C-959BE0131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39E3-2EE7-48F1-AA1E-9C6E048C0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D259-8CF3-403B-96BD-9164F5BEA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9DCF-E04B-4194-9B5F-DE08940007C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B72E-0442-494F-BF54-B6ACEBD6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206A-2356-404D-A0F5-40BEC22CE6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F7DF-1E09-44C8-B5DB-2EFE1B2773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5F4C-932A-4673-962A-00586F4B8C8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E94D-F01C-4147-8E7A-2800B8D8BE0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7E5B-086A-4600-92BE-D0EAE9F9CA4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6048-2282-4CE8-A7EA-78F18D08C6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E0BD-2B41-41D2-966F-DA4012179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97C2-3F9C-4CCB-8A88-B277FDE5D75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6E22-A7AC-434D-B602-C1CEDC10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8B78-9D11-4372-8D5D-865AB771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CAC0-F5CB-48E5-BB11-FE00B431F8A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971D-A3E2-41CB-9AAB-3A065870A1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B321-8364-47D2-82D3-9A33A0DA06A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3C27-DDF6-4819-9A53-B8400AEAD5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42EC-8835-42EE-B934-B9C8318109D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0F63-B6A5-462A-A825-4560536AE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43E8-3AE4-42AF-8A88-F935B58F3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78CF-6812-4BC2-8316-1B3EC51BE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B65D-DC7C-4E1E-A96E-6FBB68BDF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72C7-A0B7-4459-A40F-35244EF13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24AC-9334-498C-BC38-45A35CF17F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2A87E-A172-48A1-B30F-A9E3855017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5752-8E51-4AF9-8D34-BF1066E5A8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733C-288B-4823-B047-BB12056074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DD65-8F0F-4ECD-BE38-28EB2D9B4B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81E4-A978-4F0E-AEEA-F9A18C6FE0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8A6B-30FA-49B3-8F56-4789CFFEA0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3624-FC00-44C6-8061-50A2B6FC1E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0DFE-A84A-46F3-B85F-109DFB4EEA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F630-6C06-4FED-8781-DC9E8C2618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30739-F2F5-432E-B9CF-449B91A9D7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A5F6-465D-440E-B5A8-1E13A4DBE9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053D-0F62-443E-980C-F5D798623B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6CA-8B9A-416F-9A63-17D6B500A6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B9D-0B82-4603-9BA2-DEFF3064E3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E35-8576-4F40-977D-3DA59CC84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3768-302B-455E-91CD-B632E5DB6B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49B-06B6-4912-8877-7CB6A86DBA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D4D-CFDB-45E9-8C26-208E674CFF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C65-56E5-4BAA-B421-EF17E7A232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5F83-9C14-4991-BE1F-84F4AC1AED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865-7977-4A2E-8215-2B34D0EB2D2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C31-0A18-4B59-88C5-B4E2240D59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671-841C-4D33-B9B3-7B271B104D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009-CF8D-4C84-9CFC-8A5AB3E026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D46-7556-4CC3-9EEB-F4B5740217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5FEF-21BD-45C0-B67B-109DE97E1B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106E1-57AE-4895-8CE2-68450E49CA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7D0D-EC9B-45C0-84A0-004995CC9A0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58A2-A040-4EA2-9496-3C0E86A1E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8CD7-978F-45B9-B7D1-3140860EE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98DA-6060-458D-BC24-D6FB2DB50ABD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6"/>
          <p:cNvSpPr/>
          <p:nvPr/>
        </p:nvSpPr>
        <p:spPr>
          <a:xfrm>
            <a:off x="309600" y="357120"/>
            <a:ext cx="9286920" cy="6143760"/>
          </a:xfrm>
          <a:prstGeom prst="rect">
            <a:avLst/>
          </a:prstGeom>
          <a:noFill/>
          <a:ln w="19080">
            <a:solidFill>
              <a:srgbClr val="84a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onnettore 1 7"/>
          <p:cNvSpPr/>
          <p:nvPr/>
        </p:nvSpPr>
        <p:spPr>
          <a:xfrm>
            <a:off x="8382240" y="213480"/>
            <a:ext cx="136260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nettore 1 8"/>
          <p:cNvSpPr/>
          <p:nvPr/>
        </p:nvSpPr>
        <p:spPr>
          <a:xfrm>
            <a:off x="167040" y="5285520"/>
            <a:ext cx="136296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9"/>
          <p:cNvSpPr/>
          <p:nvPr/>
        </p:nvSpPr>
        <p:spPr>
          <a:xfrm>
            <a:off x="309600" y="62247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Consulente: Gianmarco Fal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10"/>
          <p:cNvSpPr/>
          <p:nvPr/>
        </p:nvSpPr>
        <p:spPr>
          <a:xfrm>
            <a:off x="7167600" y="621504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www.personeorganizzazioni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6EC1-A1A5-421F-BD86-47BE77F58441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ttore 1 6"/>
          <p:cNvSpPr/>
          <p:nvPr/>
        </p:nvSpPr>
        <p:spPr>
          <a:xfrm>
            <a:off x="166680" y="785880"/>
            <a:ext cx="9286920" cy="144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ttore 1 7"/>
          <p:cNvSpPr/>
          <p:nvPr/>
        </p:nvSpPr>
        <p:spPr>
          <a:xfrm>
            <a:off x="496800" y="285840"/>
            <a:ext cx="28800" cy="621504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uppo 10"/>
          <p:cNvGrpSpPr/>
          <p:nvPr/>
        </p:nvGrpSpPr>
        <p:grpSpPr>
          <a:xfrm>
            <a:off x="3916080" y="6357960"/>
            <a:ext cx="2394360" cy="450720"/>
            <a:chOff x="3916080" y="6357960"/>
            <a:chExt cx="2394360" cy="450720"/>
          </a:xfrm>
        </p:grpSpPr>
        <p:pic>
          <p:nvPicPr>
            <p:cNvPr id="128" name="Immagine 9" descr="solo logo sopra stretto.jpg"/>
            <p:cNvPicPr/>
            <p:nvPr/>
          </p:nvPicPr>
          <p:blipFill>
            <a:blip r:embed="rId2"/>
            <a:stretch/>
          </p:blipFill>
          <p:spPr>
            <a:xfrm>
              <a:off x="4800600" y="6357960"/>
              <a:ext cx="15098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asellaDiTesto 10"/>
            <p:cNvSpPr/>
            <p:nvPr/>
          </p:nvSpPr>
          <p:spPr>
            <a:xfrm>
              <a:off x="3916080" y="64022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1b587c"/>
                  </a:solidFill>
                  <a:latin typeface="Century Gothic"/>
                </a:rPr>
                <a:t>Realizzato 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EED2-B99B-4299-9CB2-269A692CFC0D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2680" y="2987640"/>
            <a:ext cx="8420040" cy="147024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Comunicare e lavorare in gruppo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485720" y="4743000"/>
            <a:ext cx="6933960" cy="971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e strumenti per migliorare la prestazione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027"/>
          <p:cNvSpPr/>
          <p:nvPr/>
        </p:nvSpPr>
        <p:spPr>
          <a:xfrm>
            <a:off x="1523880" y="1495440"/>
            <a:ext cx="259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N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SCO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CC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RD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PPL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28"/>
          <p:cNvSpPr/>
          <p:nvPr/>
        </p:nvSpPr>
        <p:spPr>
          <a:xfrm>
            <a:off x="5486400" y="149544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sen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sco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comp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cc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ricord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ppl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mante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Non diamo niente per sconta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2ACF-1A81-442E-B710-075EF500330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3"/>
          <p:cNvSpPr/>
          <p:nvPr/>
        </p:nvSpPr>
        <p:spPr>
          <a:xfrm>
            <a:off x="1523880" y="1295280"/>
            <a:ext cx="264348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Attribuisce alle parole significati diversi da quelli intesi da colui che par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019920" y="1371600"/>
            <a:ext cx="250488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’ preoccupato, impaziente, sulla difensiva, ostile, sospettoso, timo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447920" y="3505320"/>
            <a:ext cx="2719440" cy="13136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E’ occupato a preparare la sua risposta, vuole parl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019920" y="3581280"/>
            <a:ext cx="2719440" cy="1618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Prende in considerazione solo le idee che contrastano con le sue convi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575080" y="5305320"/>
            <a:ext cx="2520720" cy="7038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b587c"/>
                </a:solidFill>
                <a:latin typeface="Arial"/>
              </a:rPr>
              <a:t>Sente ciò che si aspetta di s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barriere della 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3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F97E-B134-419F-A589-E50BB2E465E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842040" y="928800"/>
            <a:ext cx="831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UTTO QUELLO CHE SI PUO’ DIRE, SI PUO’ DIRE CHIARAM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 patto di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584280" y="1859040"/>
            <a:ext cx="9155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1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ere chiari gli obiettivi della comunicazione in relazione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 target di ascolto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obiettiv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2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adroneggiare i contenuti della comunicazion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competenz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3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un linguaggio comprensibile per il destinatario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decodific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4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trutturare il messaggio in modo efficac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esemp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5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i supporti audiovisivi utili rispetto al contesto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medi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6)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aper correggere la rotta in funzione dei bisogni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ll’interlocutore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[feedback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466360" y="6372360"/>
            <a:ext cx="4841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patto di … VOLER ESSERE CHI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8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33B2-546F-4CD8-8DA2-89378ED39A4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3"/>
          <p:cNvSpPr/>
          <p:nvPr/>
        </p:nvSpPr>
        <p:spPr>
          <a:xfrm>
            <a:off x="759600" y="1355760"/>
            <a:ext cx="728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COMUNICAZIONE EFFICACE E’ FUNZIONE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36560" y="2143080"/>
            <a:ext cx="84837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CH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INGUAGGIO COMPRENSIBILE PER CHI ASCO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ETENZA SUI 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RUTTURA DEL DISCORSO FINALIZZATA ALLO SC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UPPORTI AUDIOVISIVI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455C-5B35-4970-99AF-E44DB92E9BA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2170080" y="819000"/>
            <a:ext cx="535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COMUNICAZIONE EFFICACE E’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RESPONSABILITA’ CONDIV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cui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736560" y="2924280"/>
            <a:ext cx="848376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EDERSI SEMPRE IL PERCHE’ DI UN MESSAGGIO ALL’APPARENZA POCO CHIARO O DISORIEN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ARE FEEDBACK “INTELLIGE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IUTARE A SCIOGLIERE I “NOD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Ma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1F53-CAAB-40F5-8974-BE9426FE74D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2857320" y="138600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QUALCHE SUGG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736560" y="2357280"/>
            <a:ext cx="878832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RCARE DI CAMBIARE LE “REGOLE DEL GIO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MESSAGGI DI RELAZIONE OSTILI RISPONDERE SUI 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40000"/>
              </a:lnSpc>
              <a:spcBef>
                <a:spcPts val="2999"/>
              </a:spcBef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VITARE “BRACCI DI FERRO” INUTILI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= VITTORIE DI PIR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ciogliere i nod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0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F32C-0C16-48C5-BE42-FEC9E4EC12D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1165320" y="1179360"/>
            <a:ext cx="68072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ORD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STR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PO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ASSUM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DRAMMATIZ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IFICARE LA COMPR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8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ORIZ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e mosse uti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810E-D348-4F41-90F1-6C17C934BC7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571680" y="1219320"/>
            <a:ext cx="399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OSSE INUTILI (IN GENER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38080" y="2152800"/>
            <a:ext cx="342900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AC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ERROMP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RONIZ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22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ANALIZZ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080400" y="1219320"/>
            <a:ext cx="2847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OSSE AMBIVAL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5334120" y="2152800"/>
            <a:ext cx="4114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AC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AMBIARE ARG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FENDE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SSEN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OMAND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PO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BBANDO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3480" indent="-663480">
              <a:lnSpc>
                <a:spcPct val="160000"/>
              </a:lnSpc>
              <a:buClr>
                <a:srgbClr val="1b587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NV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ciogliere i nodi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29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444C-F370-4059-AF40-9983DEF2FE5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685800" y="1523880"/>
            <a:ext cx="86104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 certo grado di conflittualità è fisi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pesso non è possibile far ricorso al superiore comune (è troppo lont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i può far ricorso alla propria autorità di ruolo per imporre la propria idea (siamo pa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è possibile (ma conviene?) ricorrere al proprio super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905120" y="4964040"/>
            <a:ext cx="6262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A L’ENTITA’ DEL CONFLITTO CHE LA SUA SOLUZIONE DIPENDONO QUINDI DALLE CARATTERISTICHE INDIVID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ndo il rapporto è tra pa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3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156E-077E-4F41-9D00-2470D6D0DBD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638360" y="3929040"/>
            <a:ext cx="23623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TE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3"/>
          <p:cNvSpPr/>
          <p:nvPr/>
        </p:nvSpPr>
        <p:spPr>
          <a:xfrm>
            <a:off x="6705720" y="2328840"/>
            <a:ext cx="2819160" cy="289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E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1143000" y="652320"/>
            <a:ext cx="3352680" cy="2438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BIET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4343400" y="4843080"/>
            <a:ext cx="23623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"/>
          <p:cNvSpPr/>
          <p:nvPr/>
        </p:nvSpPr>
        <p:spPr>
          <a:xfrm>
            <a:off x="4343400" y="1795320"/>
            <a:ext cx="205740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819520" y="293832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1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4A5B-B090-4E00-A9CD-6614CD7FD3A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perce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E1CF-5095-41CD-A309-B82C9B05976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magine 4" descr="Vecchia-Giovane big.JPG"/>
          <p:cNvPicPr/>
          <p:nvPr/>
        </p:nvPicPr>
        <p:blipFill>
          <a:blip r:embed="rId1"/>
          <a:stretch/>
        </p:blipFill>
        <p:spPr>
          <a:xfrm>
            <a:off x="3381480" y="114300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3"/>
          <p:cNvSpPr/>
          <p:nvPr/>
        </p:nvSpPr>
        <p:spPr>
          <a:xfrm>
            <a:off x="2615040" y="2023920"/>
            <a:ext cx="457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IM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SEDU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PREPO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200000"/>
              </a:lnSpc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ttro tipi di approccio con il col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FC69-3B64-48EA-A7AD-00F5AE5D6E8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738360" y="1136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’è solo il problema, il collega è tenuto a darmi le risposte perché lo prevede il suo ru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2909880" y="218916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792000" y="3381480"/>
            <a:ext cx="34466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u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involgimento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cer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4554360" y="3379680"/>
            <a:ext cx="50421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blem solving limi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o utilizzo della crea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a moti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le di lavoro burocr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namica difensiva nella 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im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0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0158-747A-4C10-BC1D-BF82E02E11D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3"/>
          <p:cNvSpPr/>
          <p:nvPr/>
        </p:nvSpPr>
        <p:spPr>
          <a:xfrm>
            <a:off x="1600200" y="110160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llega è uno strumento da “oliare”, se lo faccio sentire importante collaborerà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013200" y="23972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85800" y="3300480"/>
            <a:ext cx="32148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since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ipo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leal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4419720" y="3298680"/>
            <a:ext cx="50292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fiducia (presto o tardi)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etitività nasc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lima organizzativo “sospetto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solamento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seduttiv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6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CDF5-935F-4D42-9EA4-264DA5CB6CC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1600200" y="1084320"/>
            <a:ext cx="67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mio problema è urgente, il collega “deve” ascoltarm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013200" y="23036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614520" y="3405240"/>
            <a:ext cx="34099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fiducia nella competenza altr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ccessiva fiducia in 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arsa disponibilità alla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4363920" y="3403440"/>
            <a:ext cx="5166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stilità e risentimento da parte de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canza di aiuto nei momenti diffic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poste “alla lette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prepot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2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5080-2D71-4153-AE4D-071CDE13DD2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2028960" y="1000080"/>
            <a:ext cx="58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vvero rispetto per sé e per l’altro nella risoluzione di problemi da condivide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13200" y="221472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posizione e feed-back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14520" y="3024360"/>
            <a:ext cx="26668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gnal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per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ce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ns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38600" y="3022560"/>
            <a:ext cx="579132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eguen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cerità recip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lima organizzativo 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alizzazione delle potenzialità 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luzioni veloci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buClr>
                <a:srgbClr val="1b587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attamento reciproco per limitare problem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lazione 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8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6563-EA2B-46A4-8222-59ECB0AB5D3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604800" y="1000080"/>
            <a:ext cx="89917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LA CAPACITA’ DI UN INDIVID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CONOSCERE LE PROPRIE ESIGENZ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 AFFERMARLE ALL’INTERNO DEL PROPRIO AMB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 BUONE PROBABILITA’ DI RAGGIUNGERE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I PROPRI OBIETTIVI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NTENENDO POSITIVA LA PROPRIA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ELAZIONE CON GLI ALTRI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sertiv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89D9-77DC-45D2-8344-72AC1DC2F2F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Oval 5"/>
          <p:cNvSpPr/>
          <p:nvPr/>
        </p:nvSpPr>
        <p:spPr>
          <a:xfrm>
            <a:off x="2793960" y="762120"/>
            <a:ext cx="4318200" cy="4317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3"/>
          <p:cNvSpPr/>
          <p:nvPr/>
        </p:nvSpPr>
        <p:spPr>
          <a:xfrm>
            <a:off x="914400" y="1981080"/>
            <a:ext cx="4317840" cy="431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4724280" y="1981080"/>
            <a:ext cx="4318200" cy="4318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3809880" y="108432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Altre aree di appropriata espressione: (ammirazione, gratitudine, apprezzam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3110040" y="2836800"/>
            <a:ext cx="14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Espressione di affetto comunicata accur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5334120" y="283680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Opposizione espressa in modo corretto o richieste fatte appropri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1447920" y="2928960"/>
            <a:ext cx="12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RELAZIONE AFFET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7170840" y="292896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RELAZIONE OPPOSI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1219320" y="3706920"/>
            <a:ext cx="1690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Comportamento socialmente inadeguato (sentimenti inespressi o espressi in modo esager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7010280" y="3657600"/>
            <a:ext cx="1690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</a:rPr>
              <a:t>Comportamento oppositivo socialmente riprovevole (aggressione, prevaricazione, violenza, intimidaz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sertiv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3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D19B-E598-4730-BF8A-3218F39858C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685800" y="1155600"/>
            <a:ext cx="85345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verso gli altri è condizionato nella ricerca delle mete personali, tanto che non si oppone alle influenze che subisce e si realizza in situazioni che risultano essere positive più per altri che per se st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pass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B9D0-B5D1-4468-BFEB-EDEE25AEFB8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027"/>
          <p:cNvSpPr/>
          <p:nvPr/>
        </p:nvSpPr>
        <p:spPr>
          <a:xfrm>
            <a:off x="685800" y="1071720"/>
            <a:ext cx="85345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è rivolto esclusivamente verso la propria persona e verso la soddisfazione senza limiti dei propri bisogni; con qualsiasi mezzo, anche distruttivo, e con qualsiasi azione, anche violenta, domina gli altri, sfruttandoli per arrivare ad ottenere pot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aggress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372E-0E51-4010-A136-F11BEC45185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027"/>
          <p:cNvSpPr/>
          <p:nvPr/>
        </p:nvSpPr>
        <p:spPr>
          <a:xfrm>
            <a:off x="704880" y="1143000"/>
            <a:ext cx="85345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è rivolto verso se stesso e verso gli altri; nel rispetto e nella valorizzazione delle proprie e delle altrui risorse, si realizza favorendo la crescita reciproca e attuando cambiam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assert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2180-AF25-421F-ADF2-9BA8B3E109A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1438200" y="15238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ONTATT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810040" y="390204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ONTATTO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6306120" y="2590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O SPAZIO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862680" y="15238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POS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047600" y="259092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’ESPRESSIONE FAC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2365200" y="51055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TONO E L’INFLESSIONE DELLA V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1628640" y="367344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GESTUALITA’ DELLE 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ponenti non verb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5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9B9C-A0B3-431F-A21E-4F797740BA0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027"/>
          <p:cNvSpPr/>
          <p:nvPr/>
        </p:nvSpPr>
        <p:spPr>
          <a:xfrm>
            <a:off x="685800" y="1214280"/>
            <a:ext cx="365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A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solo 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condizionato e influenzato d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ubis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si op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Ha un’elevata ansia soc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benevolenza degli altri e fuga dal confli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28"/>
          <p:cNvSpPr/>
          <p:nvPr/>
        </p:nvSpPr>
        <p:spPr>
          <a:xfrm>
            <a:off x="5410080" y="1214280"/>
            <a:ext cx="3810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GGRE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solo a s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revarica 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 metodi coercitivi e distrutt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potere personale e soc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vari stili di rispost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125B-068A-4FE6-AC96-EBDCA1B58F4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1523880" y="1143000"/>
            <a:ext cx="670572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ER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a se’ e 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è condizionato d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 metodi motivanti e gratifica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successo personale e con 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vari stili di rispost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5EDF-A611-4DB1-B12A-FC076223048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85720" y="2928960"/>
            <a:ext cx="693396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b587c"/>
                </a:solidFill>
                <a:latin typeface="Century Gothic"/>
              </a:rPr>
              <a:t>Lavorare in gruppo</a:t>
            </a:r>
            <a:endParaRPr b="0" lang="en-US" sz="32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01" name="Segnaposto numero diapositiva 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7E2C-339F-4774-A1FA-85924560344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gruppo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776160" y="1329840"/>
            <a:ext cx="8033040" cy="32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49320" bIns="0" anchor="ctr">
            <a:sp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Almeno due pers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… </a:t>
            </a: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he si danno un’organizzazi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… </a:t>
            </a:r>
            <a:r>
              <a:rPr b="0" lang="it-IT" sz="28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per raggiungere uno o più obiett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1C81-B2E8-4884-AF57-04A4DE88BB7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4210200" y="2286000"/>
            <a:ext cx="2806560" cy="2525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664160" cy="1676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3"/>
          <a:stretch/>
        </p:blipFill>
        <p:spPr>
          <a:xfrm>
            <a:off x="6934320" y="0"/>
            <a:ext cx="2614320" cy="1727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"/>
          <p:cNvPicPr/>
          <p:nvPr/>
        </p:nvPicPr>
        <p:blipFill>
          <a:blip r:embed="rId4"/>
          <a:stretch/>
        </p:blipFill>
        <p:spPr>
          <a:xfrm>
            <a:off x="0" y="2362320"/>
            <a:ext cx="2806560" cy="2641320"/>
          </a:xfrm>
          <a:prstGeom prst="rect">
            <a:avLst/>
          </a:prstGeom>
          <a:ln w="0">
            <a:noFill/>
          </a:ln>
        </p:spPr>
      </p:pic>
      <p:grpSp>
        <p:nvGrpSpPr>
          <p:cNvPr id="409" name="Group 6"/>
          <p:cNvGrpSpPr/>
          <p:nvPr/>
        </p:nvGrpSpPr>
        <p:grpSpPr>
          <a:xfrm>
            <a:off x="4808160" y="0"/>
            <a:ext cx="1671480" cy="2192400"/>
            <a:chOff x="4808160" y="0"/>
            <a:chExt cx="1671480" cy="2192400"/>
          </a:xfrm>
        </p:grpSpPr>
        <p:pic>
          <p:nvPicPr>
            <p:cNvPr id="410" name="Picture 7" descr=""/>
            <p:cNvPicPr/>
            <p:nvPr/>
          </p:nvPicPr>
          <p:blipFill>
            <a:blip r:embed="rId5"/>
            <a:stretch/>
          </p:blipFill>
          <p:spPr>
            <a:xfrm>
              <a:off x="5007600" y="0"/>
              <a:ext cx="1472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Rectangle 8"/>
            <p:cNvSpPr/>
            <p:nvPr/>
          </p:nvSpPr>
          <p:spPr>
            <a:xfrm>
              <a:off x="4808160" y="16765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4995000" y="1917720"/>
              <a:ext cx="105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10" descr=""/>
          <p:cNvPicPr/>
          <p:nvPr/>
        </p:nvPicPr>
        <p:blipFill>
          <a:blip r:embed="rId6"/>
          <a:stretch/>
        </p:blipFill>
        <p:spPr>
          <a:xfrm>
            <a:off x="7346880" y="1752480"/>
            <a:ext cx="1940040" cy="1981440"/>
          </a:xfrm>
          <a:prstGeom prst="rect">
            <a:avLst/>
          </a:prstGeom>
          <a:ln w="0">
            <a:noFill/>
          </a:ln>
        </p:spPr>
      </p:pic>
      <p:grpSp>
        <p:nvGrpSpPr>
          <p:cNvPr id="414" name="Group 11"/>
          <p:cNvGrpSpPr/>
          <p:nvPr/>
        </p:nvGrpSpPr>
        <p:grpSpPr>
          <a:xfrm>
            <a:off x="7743960" y="3657600"/>
            <a:ext cx="2161800" cy="2044800"/>
            <a:chOff x="7743960" y="3657600"/>
            <a:chExt cx="2161800" cy="2044800"/>
          </a:xfrm>
        </p:grpSpPr>
        <p:graphicFrame>
          <p:nvGraphicFramePr>
            <p:cNvPr id="415" name="Object 4"/>
            <p:cNvGraphicFramePr/>
            <p:nvPr/>
          </p:nvGraphicFramePr>
          <p:xfrm>
            <a:off x="7743960" y="3657600"/>
            <a:ext cx="2161800" cy="1087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16" name="Object 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3960" y="3657600"/>
                      <a:ext cx="2161800" cy="10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7" name="Picture 13" descr=""/>
            <p:cNvPicPr/>
            <p:nvPr/>
          </p:nvPicPr>
          <p:blipFill>
            <a:blip r:embed="rId9"/>
            <a:stretch/>
          </p:blipFill>
          <p:spPr>
            <a:xfrm>
              <a:off x="7743960" y="4724280"/>
              <a:ext cx="2146320" cy="978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8" name="Picture 14" descr=""/>
          <p:cNvPicPr/>
          <p:nvPr/>
        </p:nvPicPr>
        <p:blipFill>
          <a:blip r:embed="rId10"/>
          <a:stretch/>
        </p:blipFill>
        <p:spPr>
          <a:xfrm>
            <a:off x="0" y="5295960"/>
            <a:ext cx="2367000" cy="1562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5" descr=""/>
          <p:cNvPicPr/>
          <p:nvPr/>
        </p:nvPicPr>
        <p:blipFill>
          <a:blip r:embed="rId11"/>
          <a:stretch/>
        </p:blipFill>
        <p:spPr>
          <a:xfrm>
            <a:off x="2558880" y="5473800"/>
            <a:ext cx="2945160" cy="1384200"/>
          </a:xfrm>
          <a:prstGeom prst="rect">
            <a:avLst/>
          </a:prstGeom>
          <a:ln w="0">
            <a:noFill/>
          </a:ln>
        </p:spPr>
      </p:pic>
      <p:pic>
        <p:nvPicPr>
          <p:cNvPr id="420" name="Group 16" descr=""/>
          <p:cNvPicPr/>
          <p:nvPr/>
        </p:nvPicPr>
        <p:blipFill>
          <a:blip r:embed="rId12"/>
          <a:stretch/>
        </p:blipFill>
        <p:spPr>
          <a:xfrm>
            <a:off x="5450040" y="4803840"/>
            <a:ext cx="3833640" cy="21146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9"/>
          <p:cNvGrpSpPr/>
          <p:nvPr/>
        </p:nvGrpSpPr>
        <p:grpSpPr>
          <a:xfrm>
            <a:off x="1913760" y="1752480"/>
            <a:ext cx="2201400" cy="1938240"/>
            <a:chOff x="1913760" y="1752480"/>
            <a:chExt cx="2201400" cy="1938240"/>
          </a:xfrm>
        </p:grpSpPr>
        <p:graphicFrame>
          <p:nvGraphicFramePr>
            <p:cNvPr id="422" name="Object 2"/>
            <p:cNvGraphicFramePr/>
            <p:nvPr/>
          </p:nvGraphicFramePr>
          <p:xfrm>
            <a:off x="2228760" y="1752480"/>
            <a:ext cx="1815840" cy="1235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3" name="Object 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28760" y="1752480"/>
                      <a:ext cx="1815840" cy="12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4" name="Text Box 21"/>
            <p:cNvSpPr/>
            <p:nvPr/>
          </p:nvSpPr>
          <p:spPr>
            <a:xfrm>
              <a:off x="1913760" y="3048120"/>
              <a:ext cx="22014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ALORI DI FON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ONDIVI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22"/>
          <p:cNvGrpSpPr/>
          <p:nvPr/>
        </p:nvGrpSpPr>
        <p:grpSpPr>
          <a:xfrm>
            <a:off x="2409840" y="3581280"/>
            <a:ext cx="2174040" cy="2020680"/>
            <a:chOff x="2409840" y="3581280"/>
            <a:chExt cx="2174040" cy="2020680"/>
          </a:xfrm>
        </p:grpSpPr>
        <p:pic>
          <p:nvPicPr>
            <p:cNvPr id="426" name="Picture 23" descr=""/>
            <p:cNvPicPr/>
            <p:nvPr/>
          </p:nvPicPr>
          <p:blipFill>
            <a:blip r:embed="rId15"/>
            <a:stretch/>
          </p:blipFill>
          <p:spPr>
            <a:xfrm>
              <a:off x="2926800" y="3581280"/>
              <a:ext cx="13464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24"/>
            <p:cNvSpPr/>
            <p:nvPr/>
          </p:nvSpPr>
          <p:spPr>
            <a:xfrm>
              <a:off x="2409840" y="4959360"/>
              <a:ext cx="217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CAPACITA’ D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PPREND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"/>
          <p:cNvSpPr/>
          <p:nvPr/>
        </p:nvSpPr>
        <p:spPr>
          <a:xfrm>
            <a:off x="660240" y="859320"/>
            <a:ext cx="8936280" cy="524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6800" rIns="100440" tIns="3045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UN BUON CLIMA DI GRUPPO NON E’ ALTRO CHE LA SENSAZIONE DI BENESSERE NELLO STARE INSIEME, DIFFUSA TRA I PARTECIP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OME SI REALIZZ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COMUNICANDO IN MODO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SVILUPPANDO RAPPORTI INTERPERSONALI MIRATI ALLA CONOSCENZA ED ALLA FIDUCIA RECIP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RAFFORZANDO LA CONDIVISIONE DEI VAL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VALORIZZANDO IL CONTRIBUTO DI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lima 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3785-3AF6-41F9-AA0A-729A7ECD4FF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Noi e gli alt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432" name="Picture 18" descr=""/>
          <p:cNvPicPr/>
          <p:nvPr/>
        </p:nvPicPr>
        <p:blipFill>
          <a:blip r:embed="rId1"/>
          <a:stretch/>
        </p:blipFill>
        <p:spPr>
          <a:xfrm>
            <a:off x="1442880" y="1068480"/>
            <a:ext cx="7021800" cy="5097240"/>
          </a:xfrm>
          <a:prstGeom prst="rect">
            <a:avLst/>
          </a:prstGeom>
          <a:ln w="0">
            <a:noFill/>
          </a:ln>
        </p:spPr>
      </p:pic>
      <p:sp>
        <p:nvSpPr>
          <p:cNvPr id="43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294A-FD8A-48BF-9607-AE76409F54C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1697040" y="1087560"/>
            <a:ext cx="6512040" cy="2190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Evoluzione nel lavoro in team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6" name="CasellaDiTesto 5"/>
          <p:cNvSpPr/>
          <p:nvPr/>
        </p:nvSpPr>
        <p:spPr>
          <a:xfrm>
            <a:off x="666720" y="3500280"/>
            <a:ext cx="912168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 un gruppo di recente formazione l’area APERTA è molto piccola, non c’è molta interazione libera e sponta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ia via che il gruppo cresce e matura, l’area APERTA si espande perché ci si sente più liberi di esprimersi e di comunicare, l’area NASCOSTA, di conseguenza, si contr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L’area CIECA si modifica più lentamente e in maniera diversificata, mano a mano che le aperture sono più consapevoli; l’area IGNOTA si modifica ancora più lent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B277-3A59-406C-A92F-5B00A5C314A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3"/>
          <p:cNvSpPr/>
          <p:nvPr/>
        </p:nvSpPr>
        <p:spPr>
          <a:xfrm>
            <a:off x="649440" y="1219320"/>
            <a:ext cx="9064440" cy="642600"/>
          </a:xfrm>
          <a:prstGeom prst="rect">
            <a:avLst/>
          </a:pr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GARE L’ESISTENZA D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FRA DI NOI E’ TUTTO 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633240" y="2209680"/>
            <a:ext cx="9080640" cy="6426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TTRIBUIRE AGLI ALTRI LA CAUSA DE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’ TUTTA COLPA LO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633240" y="3200400"/>
            <a:ext cx="9080640" cy="642600"/>
          </a:xfrm>
          <a:prstGeom prst="rect">
            <a:avLst/>
          </a:prstGeom>
          <a:solidFill>
            <a:srgbClr val="9f293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CCETTARE LA PROPRIA RESPONSABIL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CI CREIAMO RECIPROCAMENTE DEI PROBL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649440" y="4191120"/>
            <a:ext cx="9064440" cy="642600"/>
          </a:xfrm>
          <a:prstGeom prst="rect">
            <a:avLst/>
          </a:prstGeom>
          <a:solidFill>
            <a:srgbClr val="f07f0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VORARE SUI PROBLEMI COM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TROVIAMO INSIEME LE SOLUZIO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649440" y="5181480"/>
            <a:ext cx="9064440" cy="91692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TICIPARE L’EMERGERE DEI PROBL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DEFINIAMO MECCANISMI FORMALI O INFOR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TRATTARE PROBLEMI RICORREN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41840" y="121428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141840" y="221616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41840" y="319572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141840" y="418608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141840" y="5334120"/>
            <a:ext cx="46260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 sviluppo delle relazioni nel grup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49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6FA6-6F0E-4559-8B1E-4B112280710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funziona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588960" y="876600"/>
            <a:ext cx="8935920" cy="542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6800" rIns="100440" tIns="3045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IL GRUPPO HA UNA FONDAMENTALE DIMENSIONE FUNZIONALE CHE SI COSTRUISCE E MANTIENE ATTRAVER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CHIAREZZA E LA CONDIVISIONE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PPLICAZIONE DI MODALITA’ ORGANIZZATIVE ED OPERATIVE ADE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PRESENZA DELLE COMPETENZE NECESS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A COSTRUZIONE DI UN METODO COMUNE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TTIVAZIONE DI MOMENTI DI AUTO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IL FUNZIONAMENTO DI UNA LEADERSHIP POS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  <a:ea typeface="Times New Roman"/>
              </a:rPr>
              <a:t>L’ATTIVAZIONE E LO STIMOLO DI PROCESSI DI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5CB1-19C6-447C-AAB3-535C9AB1042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882720" y="1428840"/>
            <a:ext cx="79941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, PRECI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LETEZZA SINTETIC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ES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TERESSE (DEL TRASMITTENTE E DEL RICEV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quisiti della 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BC82-48A0-438E-BA1C-291A2FB3026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2341440" y="1600200"/>
            <a:ext cx="4772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FUNZIONI DI PRO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480" y="3429000"/>
            <a:ext cx="24087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FUNZION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6632640" y="3429000"/>
            <a:ext cx="22716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FU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"/>
          <p:cNvGrpSpPr/>
          <p:nvPr/>
        </p:nvGrpSpPr>
        <p:grpSpPr>
          <a:xfrm>
            <a:off x="3213360" y="1578240"/>
            <a:ext cx="3782880" cy="3679200"/>
            <a:chOff x="3213360" y="1578240"/>
            <a:chExt cx="3782880" cy="3679200"/>
          </a:xfrm>
        </p:grpSpPr>
        <p:sp>
          <p:nvSpPr>
            <p:cNvPr id="457" name="Freeform 7"/>
            <p:cNvSpPr/>
            <p:nvPr/>
          </p:nvSpPr>
          <p:spPr>
            <a:xfrm rot="18664200">
              <a:off x="4149720" y="1823400"/>
              <a:ext cx="1710000" cy="2327400"/>
            </a:xfrm>
            <a:custGeom>
              <a:avLst/>
              <a:gdLst>
                <a:gd name="textAreaLeft" fmla="*/ 0 w 1710000"/>
                <a:gd name="textAreaRight" fmla="*/ 1710360 w 1710000"/>
                <a:gd name="textAreaTop" fmla="*/ 0 h 2327400"/>
                <a:gd name="textAreaBottom" fmla="*/ 2327760 h 232740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8"/>
            <p:cNvSpPr/>
            <p:nvPr/>
          </p:nvSpPr>
          <p:spPr>
            <a:xfrm rot="18664200">
              <a:off x="4623120" y="3285720"/>
              <a:ext cx="2273400" cy="129852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9"/>
            <p:cNvSpPr/>
            <p:nvPr/>
          </p:nvSpPr>
          <p:spPr>
            <a:xfrm rot="18664200">
              <a:off x="3890160" y="2905560"/>
              <a:ext cx="1145880" cy="2317320"/>
            </a:xfrm>
            <a:custGeom>
              <a:avLst/>
              <a:gdLst>
                <a:gd name="textAreaLeft" fmla="*/ 0 w 1145880"/>
                <a:gd name="textAreaRight" fmla="*/ 1145880 w 1145880"/>
                <a:gd name="textAreaTop" fmla="*/ 0 h 2317320"/>
                <a:gd name="textAreaBottom" fmla="*/ 2317680 h 231732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0"/>
            <p:cNvSpPr/>
            <p:nvPr/>
          </p:nvSpPr>
          <p:spPr>
            <a:xfrm rot="18664200">
              <a:off x="4060080" y="1864080"/>
              <a:ext cx="1710000" cy="2089800"/>
            </a:xfrm>
            <a:custGeom>
              <a:avLst/>
              <a:gdLst>
                <a:gd name="textAreaLeft" fmla="*/ 0 w 1710000"/>
                <a:gd name="textAreaRight" fmla="*/ 1710360 w 1710000"/>
                <a:gd name="textAreaTop" fmla="*/ 0 h 2089800"/>
                <a:gd name="textAreaBottom" fmla="*/ 2090160 h 20898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.A.I.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2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827D-AC1D-49B5-9AD0-50A23515B35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"/>
          <p:cNvSpPr/>
          <p:nvPr/>
        </p:nvSpPr>
        <p:spPr>
          <a:xfrm>
            <a:off x="1270440" y="1600200"/>
            <a:ext cx="1846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096200" y="2514600"/>
            <a:ext cx="2087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CHIARIF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887480" y="3657600"/>
            <a:ext cx="104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ES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5800680" y="1600200"/>
            <a:ext cx="2009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RACCOLTA 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5588280" y="2438280"/>
            <a:ext cx="23281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INTERPRE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D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759280" y="3581280"/>
            <a:ext cx="2075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ANALOGIE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FATTI CONCR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0"/>
          <p:cNvSpPr/>
          <p:nvPr/>
        </p:nvSpPr>
        <p:spPr>
          <a:xfrm>
            <a:off x="4292640" y="16002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1"/>
          <p:cNvSpPr/>
          <p:nvPr/>
        </p:nvSpPr>
        <p:spPr>
          <a:xfrm>
            <a:off x="4375080" y="25146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2"/>
          <p:cNvSpPr/>
          <p:nvPr/>
        </p:nvSpPr>
        <p:spPr>
          <a:xfrm>
            <a:off x="4375080" y="3657600"/>
            <a:ext cx="825480" cy="533520"/>
          </a:xfrm>
          <a:custGeom>
            <a:avLst/>
            <a:gdLst>
              <a:gd name="textAreaLeft" fmla="*/ 128880 w 825480"/>
              <a:gd name="textAreaRight" fmla="*/ 722520 w 8254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784080" y="4749840"/>
            <a:ext cx="5883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ERRORE PIU’ COMUNE:GRUPPO IPERPRODUT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442520" y="5359320"/>
            <a:ext cx="4960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OVERDOSE DI CONTRIBUTI/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A SCAPITO DELLA FASE DECI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e di produ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75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48C8-1854-4BD5-8F73-74BF265195A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4"/>
          <p:cNvSpPr/>
          <p:nvPr/>
        </p:nvSpPr>
        <p:spPr>
          <a:xfrm>
            <a:off x="1171440" y="1371600"/>
            <a:ext cx="260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UTOAFFE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5131800" y="1295280"/>
            <a:ext cx="23936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DIFESA DI OPIN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DEE POS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680400" y="2743200"/>
            <a:ext cx="3164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INFLUENZA/PERSUA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5118120" y="2666880"/>
            <a:ext cx="445752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ESERCIZIO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PERSUASIONE SUGLI ALTRI MEMBRI DELGRUPPO P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CONVINCERLI DELLA BONTA’ DELLA PROPRIA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1194480" y="4732200"/>
            <a:ext cx="5349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ERRORE PIU’ COMUNE:GRUPPO INES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758960" y="5265720"/>
            <a:ext cx="4338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GGRESSIVITA’/IPERCOMPETI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ATTITUDINE A CREARE OSTA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ESTRANE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 flipV="1">
            <a:off x="2889360" y="1904400"/>
            <a:ext cx="1238040" cy="609480"/>
          </a:xfrm>
          <a:custGeom>
            <a:avLst/>
            <a:gdLst>
              <a:gd name="textAreaLeft" fmla="*/ 712440 w 1238040"/>
              <a:gd name="textAreaRight" fmla="*/ 1044720 w 123804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 flipV="1">
            <a:off x="2971800" y="3276000"/>
            <a:ext cx="1238400" cy="609480"/>
          </a:xfrm>
          <a:custGeom>
            <a:avLst/>
            <a:gdLst>
              <a:gd name="textAreaLeft" fmla="*/ 712440 w 1238400"/>
              <a:gd name="textAreaRight" fmla="*/ 1045080 w 1238400"/>
              <a:gd name="textAreaTop" fmla="*/ 82080 h 609480"/>
              <a:gd name="textAreaBottom" fmla="*/ 26100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i individu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5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5A9E-669B-4CF0-983C-9D5A824EF7A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4"/>
          <p:cNvSpPr/>
          <p:nvPr/>
        </p:nvSpPr>
        <p:spPr>
          <a:xfrm>
            <a:off x="1006560" y="1295280"/>
            <a:ext cx="22777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OINVOLG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4540320" y="1219320"/>
            <a:ext cx="462276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MANTENERE A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TUTTI I CANALI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COMUN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MANTENERE AT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TUTTI I MEMBRIDE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06560" y="2895480"/>
            <a:ext cx="1896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INTEG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40320" y="2971800"/>
            <a:ext cx="5035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CONCILIAZIONE DI DISACCO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RIDUZIONE DI TEN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1127880" y="4724280"/>
            <a:ext cx="561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ERRORE PIU’ COMUNE:GRUPPO ASSIS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2064240" y="5334120"/>
            <a:ext cx="4053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ENTRALITA’ DEL “VOLERSI BE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ANCHE A SCAPITO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RISULTATO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1027800" y="3809880"/>
            <a:ext cx="1730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CAPACITA’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MEDI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4292640" y="3886200"/>
            <a:ext cx="5283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FORMULARE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8000"/>
                </a:solidFill>
                <a:latin typeface="Arial"/>
              </a:rPr>
              <a:t>FARE SINTESI DI OPINIONI D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2"/>
          <p:cNvSpPr/>
          <p:nvPr/>
        </p:nvSpPr>
        <p:spPr>
          <a:xfrm flipV="1">
            <a:off x="1816200" y="2209680"/>
            <a:ext cx="2228760" cy="533520"/>
          </a:xfrm>
          <a:custGeom>
            <a:avLst/>
            <a:gdLst>
              <a:gd name="textAreaLeft" fmla="*/ 1282320 w 2228760"/>
              <a:gd name="textAreaRight" fmla="*/ 1881000 w 2228760"/>
              <a:gd name="textAreaTop" fmla="*/ 72000 h 533520"/>
              <a:gd name="textAreaBottom" fmla="*/ 2286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3879720" y="2971800"/>
            <a:ext cx="578160" cy="762120"/>
          </a:xfrm>
          <a:custGeom>
            <a:avLst/>
            <a:gdLst>
              <a:gd name="textAreaLeft" fmla="*/ 72000 w 578160"/>
              <a:gd name="textAreaRight" fmla="*/ 506160 w 5781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4"/>
          <p:cNvSpPr/>
          <p:nvPr/>
        </p:nvSpPr>
        <p:spPr>
          <a:xfrm>
            <a:off x="3632040" y="3886200"/>
            <a:ext cx="578160" cy="762120"/>
          </a:xfrm>
          <a:custGeom>
            <a:avLst/>
            <a:gdLst>
              <a:gd name="textAreaLeft" fmla="*/ 72000 w 578160"/>
              <a:gd name="textAreaRight" fmla="*/ 506160 w 57816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45f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unzioni di assiste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8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DDA3-8E62-49E8-8BAD-7077B36B2BD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3"/>
          <p:cNvSpPr/>
          <p:nvPr/>
        </p:nvSpPr>
        <p:spPr>
          <a:xfrm>
            <a:off x="2351520" y="2022480"/>
            <a:ext cx="48502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FUNZIONI DI PRO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ASSISTITE DA UN ME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91480" y="3317760"/>
            <a:ext cx="30762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FUNZION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ASSIS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DA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COORDIN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5824800" y="3317760"/>
            <a:ext cx="31374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FU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INDIVID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ASSIS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AUTODISCIP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Group 6"/>
          <p:cNvGrpSpPr/>
          <p:nvPr/>
        </p:nvGrpSpPr>
        <p:grpSpPr>
          <a:xfrm>
            <a:off x="3446640" y="2652480"/>
            <a:ext cx="3011040" cy="2900520"/>
            <a:chOff x="3446640" y="2652480"/>
            <a:chExt cx="3011040" cy="2900520"/>
          </a:xfrm>
        </p:grpSpPr>
        <p:sp>
          <p:nvSpPr>
            <p:cNvPr id="503" name="Freeform 7"/>
            <p:cNvSpPr/>
            <p:nvPr/>
          </p:nvSpPr>
          <p:spPr>
            <a:xfrm rot="18664200">
              <a:off x="4214160" y="2765520"/>
              <a:ext cx="1218960" cy="20188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018880"/>
                <a:gd name="textAreaBottom" fmla="*/ 2019240 h 201888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"/>
            <p:cNvSpPr/>
            <p:nvPr/>
          </p:nvSpPr>
          <p:spPr>
            <a:xfrm rot="18664200">
              <a:off x="4690440" y="4008600"/>
              <a:ext cx="1620360" cy="112644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1126440"/>
                <a:gd name="textAreaBottom" fmla="*/ 1126800 h 112644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 rot="18664200">
              <a:off x="4064040" y="3568320"/>
              <a:ext cx="816840" cy="200988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 rot="18664200">
              <a:off x="4136400" y="2801160"/>
              <a:ext cx="1218960" cy="18126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Buon funzionamento del grup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8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BDFD-5509-41D1-B300-E73287F2B68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ili di coordina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0" name="Segnaposto numero diapositiva 2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E5D2-8D30-40DF-8A3C-878DF8754C7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e 2"/>
          <p:cNvSpPr/>
          <p:nvPr/>
        </p:nvSpPr>
        <p:spPr>
          <a:xfrm>
            <a:off x="660240" y="3865680"/>
            <a:ext cx="4710240" cy="236196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riangolo isoscele 3"/>
          <p:cNvSpPr/>
          <p:nvPr/>
        </p:nvSpPr>
        <p:spPr>
          <a:xfrm>
            <a:off x="5624640" y="925560"/>
            <a:ext cx="3681360" cy="2419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ttore 1 5"/>
          <p:cNvSpPr/>
          <p:nvPr/>
        </p:nvSpPr>
        <p:spPr>
          <a:xfrm flipH="1">
            <a:off x="6550200" y="924840"/>
            <a:ext cx="91440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Connettore 1 7"/>
          <p:cNvSpPr/>
          <p:nvPr/>
        </p:nvSpPr>
        <p:spPr>
          <a:xfrm>
            <a:off x="7464600" y="925560"/>
            <a:ext cx="40608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onnettore 1 8"/>
          <p:cNvSpPr/>
          <p:nvPr/>
        </p:nvSpPr>
        <p:spPr>
          <a:xfrm flipH="1">
            <a:off x="7210440" y="924840"/>
            <a:ext cx="25416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onnettore 1 9"/>
          <p:cNvSpPr/>
          <p:nvPr/>
        </p:nvSpPr>
        <p:spPr>
          <a:xfrm>
            <a:off x="7463880" y="925560"/>
            <a:ext cx="1076040" cy="24192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onnettore 1 18"/>
          <p:cNvSpPr/>
          <p:nvPr/>
        </p:nvSpPr>
        <p:spPr>
          <a:xfrm flipH="1">
            <a:off x="1349280" y="421092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nettore 1 20"/>
          <p:cNvSpPr/>
          <p:nvPr/>
        </p:nvSpPr>
        <p:spPr>
          <a:xfrm>
            <a:off x="1349280" y="4211640"/>
            <a:ext cx="402120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onnettore 1 22"/>
          <p:cNvSpPr/>
          <p:nvPr/>
        </p:nvSpPr>
        <p:spPr>
          <a:xfrm>
            <a:off x="660240" y="5046840"/>
            <a:ext cx="235440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onnettore 1 24"/>
          <p:cNvSpPr/>
          <p:nvPr/>
        </p:nvSpPr>
        <p:spPr>
          <a:xfrm flipH="1" flipV="1">
            <a:off x="1349280" y="4211640"/>
            <a:ext cx="1665360" cy="2016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onnettore 1 28"/>
          <p:cNvSpPr/>
          <p:nvPr/>
        </p:nvSpPr>
        <p:spPr>
          <a:xfrm flipH="1" flipV="1">
            <a:off x="660240" y="5046480"/>
            <a:ext cx="4019760" cy="8348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e 29"/>
          <p:cNvSpPr/>
          <p:nvPr/>
        </p:nvSpPr>
        <p:spPr>
          <a:xfrm>
            <a:off x="2940120" y="3797280"/>
            <a:ext cx="115920" cy="13824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onnettore 1 31"/>
          <p:cNvSpPr/>
          <p:nvPr/>
        </p:nvSpPr>
        <p:spPr>
          <a:xfrm>
            <a:off x="4680000" y="4213080"/>
            <a:ext cx="1440" cy="16686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nettore 1 33"/>
          <p:cNvSpPr/>
          <p:nvPr/>
        </p:nvSpPr>
        <p:spPr>
          <a:xfrm flipH="1">
            <a:off x="3014640" y="5046840"/>
            <a:ext cx="235584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Connettore 1 35"/>
          <p:cNvSpPr/>
          <p:nvPr/>
        </p:nvSpPr>
        <p:spPr>
          <a:xfrm>
            <a:off x="1349280" y="421164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onnettore 1 37"/>
          <p:cNvSpPr/>
          <p:nvPr/>
        </p:nvSpPr>
        <p:spPr>
          <a:xfrm flipH="1">
            <a:off x="660240" y="4211640"/>
            <a:ext cx="401976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rco 43"/>
          <p:cNvSpPr/>
          <p:nvPr/>
        </p:nvSpPr>
        <p:spPr>
          <a:xfrm>
            <a:off x="1724040" y="3727440"/>
            <a:ext cx="2616120" cy="1030320"/>
          </a:xfrm>
          <a:custGeom>
            <a:avLst/>
            <a:gdLst/>
            <a:ahLst/>
            <a:rect l="l" t="t" r="r" b="b"/>
            <a:pathLst>
              <a:path stroke="0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  <a:lnTo>
                  <a:pt x="1308100" y="515144"/>
                </a:lnTo>
                <a:lnTo>
                  <a:pt x="1308100" y="0"/>
                </a:lnTo>
                <a:close/>
              </a:path>
              <a:path fill="none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</a:path>
            </a:pathLst>
          </a:custGeom>
          <a:noFill/>
          <a:ln w="28440">
            <a:solidFill>
              <a:srgbClr val="f07f0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Arco 44" descr=""/>
          <p:cNvPicPr/>
          <p:nvPr/>
        </p:nvPicPr>
        <p:blipFill>
          <a:blip r:embed="rId1"/>
          <a:stretch/>
        </p:blipFill>
        <p:spPr>
          <a:xfrm>
            <a:off x="2000160" y="3676680"/>
            <a:ext cx="998640" cy="315720"/>
          </a:xfrm>
          <a:prstGeom prst="rect">
            <a:avLst/>
          </a:prstGeom>
          <a:ln w="0">
            <a:noFill/>
          </a:ln>
        </p:spPr>
      </p:pic>
      <p:sp>
        <p:nvSpPr>
          <p:cNvPr id="529" name="Ovale 21"/>
          <p:cNvSpPr/>
          <p:nvPr/>
        </p:nvSpPr>
        <p:spPr>
          <a:xfrm>
            <a:off x="7397640" y="870120"/>
            <a:ext cx="115920" cy="13788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3"/>
          <p:cNvSpPr/>
          <p:nvPr/>
        </p:nvSpPr>
        <p:spPr>
          <a:xfrm>
            <a:off x="3737880" y="1903320"/>
            <a:ext cx="1777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NOTAI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646200" y="3503520"/>
            <a:ext cx="2999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8000"/>
                </a:solidFill>
                <a:latin typeface="Arial"/>
              </a:rPr>
              <a:t>METODOLOG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6373440" y="3503520"/>
            <a:ext cx="25261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MEDIATO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6"/>
          <p:cNvGrpSpPr/>
          <p:nvPr/>
        </p:nvGrpSpPr>
        <p:grpSpPr>
          <a:xfrm>
            <a:off x="3760920" y="2990520"/>
            <a:ext cx="3011040" cy="2900520"/>
            <a:chOff x="3760920" y="2990520"/>
            <a:chExt cx="3011040" cy="2900520"/>
          </a:xfrm>
        </p:grpSpPr>
        <p:sp>
          <p:nvSpPr>
            <p:cNvPr id="534" name="Freeform 7"/>
            <p:cNvSpPr/>
            <p:nvPr/>
          </p:nvSpPr>
          <p:spPr>
            <a:xfrm rot="18664200">
              <a:off x="4528440" y="3103560"/>
              <a:ext cx="1218960" cy="20188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018880"/>
                <a:gd name="textAreaBottom" fmla="*/ 2019240 h 2018880"/>
              </a:gdLst>
              <a:ahLst/>
              <a:rect l="textAreaLeft" t="textAreaTop" r="textAreaRight" b="textAreaBottom"/>
              <a:pathLst>
                <a:path w="1077" h="1353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35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1025" y="1248"/>
                  </a:lnTo>
                  <a:lnTo>
                    <a:pt x="1012" y="1281"/>
                  </a:lnTo>
                  <a:lnTo>
                    <a:pt x="992" y="1320"/>
                  </a:lnTo>
                  <a:lnTo>
                    <a:pt x="972" y="1353"/>
                  </a:lnTo>
                  <a:lnTo>
                    <a:pt x="651" y="1169"/>
                  </a:lnTo>
                  <a:lnTo>
                    <a:pt x="670" y="1136"/>
                  </a:lnTo>
                  <a:lnTo>
                    <a:pt x="683" y="1110"/>
                  </a:lnTo>
                  <a:lnTo>
                    <a:pt x="690" y="1077"/>
                  </a:lnTo>
                  <a:lnTo>
                    <a:pt x="697" y="1051"/>
                  </a:lnTo>
                  <a:lnTo>
                    <a:pt x="703" y="1024"/>
                  </a:lnTo>
                  <a:lnTo>
                    <a:pt x="703" y="998"/>
                  </a:lnTo>
                  <a:lnTo>
                    <a:pt x="703" y="979"/>
                  </a:lnTo>
                  <a:lnTo>
                    <a:pt x="703" y="952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8"/>
            <p:cNvSpPr/>
            <p:nvPr/>
          </p:nvSpPr>
          <p:spPr>
            <a:xfrm rot="18664200">
              <a:off x="5004720" y="4346640"/>
              <a:ext cx="1620360" cy="112644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1126440"/>
                <a:gd name="textAreaBottom" fmla="*/ 1126800 h 1126440"/>
              </a:gdLst>
              <a:ahLst/>
              <a:rect l="textAreaLeft" t="textAreaTop" r="textAreaRight" b="textAreaBottom"/>
              <a:pathLst>
                <a:path w="1432" h="755">
                  <a:moveTo>
                    <a:pt x="723" y="748"/>
                  </a:moveTo>
                  <a:lnTo>
                    <a:pt x="736" y="742"/>
                  </a:lnTo>
                  <a:lnTo>
                    <a:pt x="755" y="742"/>
                  </a:lnTo>
                  <a:lnTo>
                    <a:pt x="775" y="735"/>
                  </a:lnTo>
                  <a:lnTo>
                    <a:pt x="788" y="735"/>
                  </a:lnTo>
                  <a:lnTo>
                    <a:pt x="808" y="729"/>
                  </a:lnTo>
                  <a:lnTo>
                    <a:pt x="821" y="722"/>
                  </a:lnTo>
                  <a:lnTo>
                    <a:pt x="841" y="722"/>
                  </a:lnTo>
                  <a:lnTo>
                    <a:pt x="854" y="715"/>
                  </a:lnTo>
                  <a:lnTo>
                    <a:pt x="867" y="709"/>
                  </a:lnTo>
                  <a:lnTo>
                    <a:pt x="887" y="702"/>
                  </a:lnTo>
                  <a:lnTo>
                    <a:pt x="906" y="696"/>
                  </a:lnTo>
                  <a:lnTo>
                    <a:pt x="926" y="689"/>
                  </a:lnTo>
                  <a:lnTo>
                    <a:pt x="939" y="676"/>
                  </a:lnTo>
                  <a:lnTo>
                    <a:pt x="959" y="669"/>
                  </a:lnTo>
                  <a:lnTo>
                    <a:pt x="979" y="663"/>
                  </a:lnTo>
                  <a:lnTo>
                    <a:pt x="992" y="650"/>
                  </a:lnTo>
                  <a:lnTo>
                    <a:pt x="1005" y="643"/>
                  </a:lnTo>
                  <a:lnTo>
                    <a:pt x="1018" y="630"/>
                  </a:lnTo>
                  <a:lnTo>
                    <a:pt x="1038" y="624"/>
                  </a:lnTo>
                  <a:lnTo>
                    <a:pt x="1051" y="610"/>
                  </a:lnTo>
                  <a:lnTo>
                    <a:pt x="1071" y="604"/>
                  </a:lnTo>
                  <a:lnTo>
                    <a:pt x="1084" y="591"/>
                  </a:lnTo>
                  <a:lnTo>
                    <a:pt x="1097" y="578"/>
                  </a:lnTo>
                  <a:lnTo>
                    <a:pt x="1117" y="564"/>
                  </a:lnTo>
                  <a:lnTo>
                    <a:pt x="1136" y="545"/>
                  </a:lnTo>
                  <a:lnTo>
                    <a:pt x="1163" y="525"/>
                  </a:lnTo>
                  <a:lnTo>
                    <a:pt x="1182" y="499"/>
                  </a:lnTo>
                  <a:lnTo>
                    <a:pt x="1195" y="479"/>
                  </a:lnTo>
                  <a:lnTo>
                    <a:pt x="1215" y="459"/>
                  </a:lnTo>
                  <a:lnTo>
                    <a:pt x="1228" y="440"/>
                  </a:lnTo>
                  <a:lnTo>
                    <a:pt x="1248" y="420"/>
                  </a:lnTo>
                  <a:lnTo>
                    <a:pt x="1261" y="394"/>
                  </a:lnTo>
                  <a:lnTo>
                    <a:pt x="1281" y="367"/>
                  </a:lnTo>
                  <a:lnTo>
                    <a:pt x="1432" y="459"/>
                  </a:lnTo>
                  <a:lnTo>
                    <a:pt x="1281" y="0"/>
                  </a:lnTo>
                  <a:lnTo>
                    <a:pt x="795" y="92"/>
                  </a:lnTo>
                  <a:lnTo>
                    <a:pt x="959" y="184"/>
                  </a:lnTo>
                  <a:lnTo>
                    <a:pt x="946" y="203"/>
                  </a:lnTo>
                  <a:lnTo>
                    <a:pt x="926" y="216"/>
                  </a:lnTo>
                  <a:lnTo>
                    <a:pt x="913" y="236"/>
                  </a:lnTo>
                  <a:lnTo>
                    <a:pt x="900" y="256"/>
                  </a:lnTo>
                  <a:lnTo>
                    <a:pt x="887" y="262"/>
                  </a:lnTo>
                  <a:lnTo>
                    <a:pt x="874" y="282"/>
                  </a:lnTo>
                  <a:lnTo>
                    <a:pt x="860" y="289"/>
                  </a:lnTo>
                  <a:lnTo>
                    <a:pt x="841" y="302"/>
                  </a:lnTo>
                  <a:lnTo>
                    <a:pt x="821" y="315"/>
                  </a:lnTo>
                  <a:lnTo>
                    <a:pt x="808" y="328"/>
                  </a:lnTo>
                  <a:lnTo>
                    <a:pt x="795" y="335"/>
                  </a:lnTo>
                  <a:lnTo>
                    <a:pt x="768" y="348"/>
                  </a:lnTo>
                  <a:lnTo>
                    <a:pt x="755" y="354"/>
                  </a:lnTo>
                  <a:lnTo>
                    <a:pt x="736" y="361"/>
                  </a:lnTo>
                  <a:lnTo>
                    <a:pt x="723" y="367"/>
                  </a:lnTo>
                  <a:lnTo>
                    <a:pt x="696" y="374"/>
                  </a:lnTo>
                  <a:lnTo>
                    <a:pt x="677" y="374"/>
                  </a:lnTo>
                  <a:lnTo>
                    <a:pt x="650" y="374"/>
                  </a:lnTo>
                  <a:lnTo>
                    <a:pt x="617" y="381"/>
                  </a:lnTo>
                  <a:lnTo>
                    <a:pt x="571" y="381"/>
                  </a:lnTo>
                  <a:lnTo>
                    <a:pt x="532" y="374"/>
                  </a:lnTo>
                  <a:lnTo>
                    <a:pt x="499" y="367"/>
                  </a:lnTo>
                  <a:lnTo>
                    <a:pt x="466" y="354"/>
                  </a:lnTo>
                  <a:lnTo>
                    <a:pt x="434" y="341"/>
                  </a:lnTo>
                  <a:lnTo>
                    <a:pt x="401" y="328"/>
                  </a:lnTo>
                  <a:lnTo>
                    <a:pt x="368" y="308"/>
                  </a:lnTo>
                  <a:lnTo>
                    <a:pt x="342" y="282"/>
                  </a:lnTo>
                  <a:lnTo>
                    <a:pt x="0" y="479"/>
                  </a:lnTo>
                  <a:lnTo>
                    <a:pt x="13" y="492"/>
                  </a:lnTo>
                  <a:lnTo>
                    <a:pt x="33" y="512"/>
                  </a:lnTo>
                  <a:lnTo>
                    <a:pt x="53" y="532"/>
                  </a:lnTo>
                  <a:lnTo>
                    <a:pt x="66" y="545"/>
                  </a:lnTo>
                  <a:lnTo>
                    <a:pt x="85" y="558"/>
                  </a:lnTo>
                  <a:lnTo>
                    <a:pt x="105" y="578"/>
                  </a:lnTo>
                  <a:lnTo>
                    <a:pt x="118" y="591"/>
                  </a:lnTo>
                  <a:lnTo>
                    <a:pt x="138" y="604"/>
                  </a:lnTo>
                  <a:lnTo>
                    <a:pt x="158" y="617"/>
                  </a:lnTo>
                  <a:lnTo>
                    <a:pt x="177" y="630"/>
                  </a:lnTo>
                  <a:lnTo>
                    <a:pt x="197" y="643"/>
                  </a:lnTo>
                  <a:lnTo>
                    <a:pt x="217" y="656"/>
                  </a:lnTo>
                  <a:lnTo>
                    <a:pt x="236" y="663"/>
                  </a:lnTo>
                  <a:lnTo>
                    <a:pt x="256" y="676"/>
                  </a:lnTo>
                  <a:lnTo>
                    <a:pt x="282" y="689"/>
                  </a:lnTo>
                  <a:lnTo>
                    <a:pt x="302" y="696"/>
                  </a:lnTo>
                  <a:lnTo>
                    <a:pt x="328" y="709"/>
                  </a:lnTo>
                  <a:lnTo>
                    <a:pt x="348" y="715"/>
                  </a:lnTo>
                  <a:lnTo>
                    <a:pt x="368" y="722"/>
                  </a:lnTo>
                  <a:lnTo>
                    <a:pt x="388" y="729"/>
                  </a:lnTo>
                  <a:lnTo>
                    <a:pt x="414" y="735"/>
                  </a:lnTo>
                  <a:lnTo>
                    <a:pt x="434" y="735"/>
                  </a:lnTo>
                  <a:lnTo>
                    <a:pt x="460" y="742"/>
                  </a:lnTo>
                  <a:lnTo>
                    <a:pt x="479" y="748"/>
                  </a:lnTo>
                  <a:lnTo>
                    <a:pt x="506" y="748"/>
                  </a:lnTo>
                  <a:lnTo>
                    <a:pt x="532" y="755"/>
                  </a:lnTo>
                  <a:lnTo>
                    <a:pt x="552" y="755"/>
                  </a:lnTo>
                  <a:lnTo>
                    <a:pt x="578" y="755"/>
                  </a:lnTo>
                  <a:lnTo>
                    <a:pt x="611" y="755"/>
                  </a:lnTo>
                  <a:lnTo>
                    <a:pt x="631" y="755"/>
                  </a:lnTo>
                  <a:lnTo>
                    <a:pt x="650" y="755"/>
                  </a:lnTo>
                  <a:lnTo>
                    <a:pt x="677" y="755"/>
                  </a:lnTo>
                  <a:lnTo>
                    <a:pt x="703" y="748"/>
                  </a:lnTo>
                  <a:lnTo>
                    <a:pt x="723" y="74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9"/>
            <p:cNvSpPr/>
            <p:nvPr/>
          </p:nvSpPr>
          <p:spPr>
            <a:xfrm rot="18664200">
              <a:off x="4378320" y="3906360"/>
              <a:ext cx="816840" cy="200988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0 h 2009880"/>
                <a:gd name="textAreaBottom" fmla="*/ 2010240 h 2009880"/>
              </a:gdLst>
              <a:ahLst/>
              <a:rect l="textAreaLeft" t="textAreaTop" r="textAreaRight" b="textAreaBottom"/>
              <a:pathLst>
                <a:path w="722" h="1347">
                  <a:moveTo>
                    <a:pt x="722" y="0"/>
                  </a:moveTo>
                  <a:lnTo>
                    <a:pt x="709" y="0"/>
                  </a:lnTo>
                  <a:lnTo>
                    <a:pt x="690" y="7"/>
                  </a:lnTo>
                  <a:lnTo>
                    <a:pt x="670" y="13"/>
                  </a:lnTo>
                  <a:lnTo>
                    <a:pt x="657" y="13"/>
                  </a:lnTo>
                  <a:lnTo>
                    <a:pt x="637" y="20"/>
                  </a:lnTo>
                  <a:lnTo>
                    <a:pt x="624" y="27"/>
                  </a:lnTo>
                  <a:lnTo>
                    <a:pt x="604" y="27"/>
                  </a:lnTo>
                  <a:lnTo>
                    <a:pt x="591" y="33"/>
                  </a:lnTo>
                  <a:lnTo>
                    <a:pt x="571" y="40"/>
                  </a:lnTo>
                  <a:lnTo>
                    <a:pt x="552" y="46"/>
                  </a:lnTo>
                  <a:lnTo>
                    <a:pt x="539" y="53"/>
                  </a:lnTo>
                  <a:lnTo>
                    <a:pt x="519" y="59"/>
                  </a:lnTo>
                  <a:lnTo>
                    <a:pt x="506" y="73"/>
                  </a:lnTo>
                  <a:lnTo>
                    <a:pt x="486" y="79"/>
                  </a:lnTo>
                  <a:lnTo>
                    <a:pt x="466" y="86"/>
                  </a:lnTo>
                  <a:lnTo>
                    <a:pt x="453" y="99"/>
                  </a:lnTo>
                  <a:lnTo>
                    <a:pt x="440" y="105"/>
                  </a:lnTo>
                  <a:lnTo>
                    <a:pt x="427" y="112"/>
                  </a:lnTo>
                  <a:lnTo>
                    <a:pt x="407" y="125"/>
                  </a:lnTo>
                  <a:lnTo>
                    <a:pt x="394" y="138"/>
                  </a:lnTo>
                  <a:lnTo>
                    <a:pt x="374" y="145"/>
                  </a:lnTo>
                  <a:lnTo>
                    <a:pt x="361" y="158"/>
                  </a:lnTo>
                  <a:lnTo>
                    <a:pt x="348" y="171"/>
                  </a:lnTo>
                  <a:lnTo>
                    <a:pt x="322" y="191"/>
                  </a:lnTo>
                  <a:lnTo>
                    <a:pt x="302" y="210"/>
                  </a:lnTo>
                  <a:lnTo>
                    <a:pt x="282" y="224"/>
                  </a:lnTo>
                  <a:lnTo>
                    <a:pt x="263" y="250"/>
                  </a:lnTo>
                  <a:lnTo>
                    <a:pt x="250" y="270"/>
                  </a:lnTo>
                  <a:lnTo>
                    <a:pt x="230" y="289"/>
                  </a:lnTo>
                  <a:lnTo>
                    <a:pt x="210" y="309"/>
                  </a:lnTo>
                  <a:lnTo>
                    <a:pt x="197" y="329"/>
                  </a:lnTo>
                  <a:lnTo>
                    <a:pt x="184" y="355"/>
                  </a:lnTo>
                  <a:lnTo>
                    <a:pt x="171" y="375"/>
                  </a:lnTo>
                  <a:lnTo>
                    <a:pt x="151" y="401"/>
                  </a:lnTo>
                  <a:lnTo>
                    <a:pt x="144" y="421"/>
                  </a:lnTo>
                  <a:lnTo>
                    <a:pt x="131" y="447"/>
                  </a:lnTo>
                  <a:lnTo>
                    <a:pt x="118" y="473"/>
                  </a:lnTo>
                  <a:lnTo>
                    <a:pt x="112" y="499"/>
                  </a:lnTo>
                  <a:lnTo>
                    <a:pt x="99" y="532"/>
                  </a:lnTo>
                  <a:lnTo>
                    <a:pt x="85" y="565"/>
                  </a:lnTo>
                  <a:lnTo>
                    <a:pt x="79" y="598"/>
                  </a:lnTo>
                  <a:lnTo>
                    <a:pt x="72" y="631"/>
                  </a:lnTo>
                  <a:lnTo>
                    <a:pt x="66" y="664"/>
                  </a:lnTo>
                  <a:lnTo>
                    <a:pt x="59" y="703"/>
                  </a:lnTo>
                  <a:lnTo>
                    <a:pt x="59" y="749"/>
                  </a:lnTo>
                  <a:lnTo>
                    <a:pt x="53" y="788"/>
                  </a:lnTo>
                  <a:lnTo>
                    <a:pt x="59" y="828"/>
                  </a:lnTo>
                  <a:lnTo>
                    <a:pt x="59" y="861"/>
                  </a:lnTo>
                  <a:lnTo>
                    <a:pt x="66" y="893"/>
                  </a:lnTo>
                  <a:lnTo>
                    <a:pt x="66" y="926"/>
                  </a:lnTo>
                  <a:lnTo>
                    <a:pt x="72" y="966"/>
                  </a:lnTo>
                  <a:lnTo>
                    <a:pt x="85" y="999"/>
                  </a:lnTo>
                  <a:lnTo>
                    <a:pt x="99" y="1038"/>
                  </a:lnTo>
                  <a:lnTo>
                    <a:pt x="112" y="1077"/>
                  </a:lnTo>
                  <a:lnTo>
                    <a:pt x="125" y="1110"/>
                  </a:lnTo>
                  <a:lnTo>
                    <a:pt x="138" y="1143"/>
                  </a:lnTo>
                  <a:lnTo>
                    <a:pt x="158" y="1176"/>
                  </a:lnTo>
                  <a:lnTo>
                    <a:pt x="0" y="1268"/>
                  </a:lnTo>
                  <a:lnTo>
                    <a:pt x="493" y="1347"/>
                  </a:lnTo>
                  <a:lnTo>
                    <a:pt x="677" y="887"/>
                  </a:lnTo>
                  <a:lnTo>
                    <a:pt x="486" y="992"/>
                  </a:lnTo>
                  <a:lnTo>
                    <a:pt x="466" y="959"/>
                  </a:lnTo>
                  <a:lnTo>
                    <a:pt x="453" y="933"/>
                  </a:lnTo>
                  <a:lnTo>
                    <a:pt x="447" y="907"/>
                  </a:lnTo>
                  <a:lnTo>
                    <a:pt x="440" y="880"/>
                  </a:lnTo>
                  <a:lnTo>
                    <a:pt x="433" y="854"/>
                  </a:lnTo>
                  <a:lnTo>
                    <a:pt x="433" y="828"/>
                  </a:lnTo>
                  <a:lnTo>
                    <a:pt x="427" y="802"/>
                  </a:lnTo>
                  <a:lnTo>
                    <a:pt x="427" y="775"/>
                  </a:lnTo>
                  <a:lnTo>
                    <a:pt x="433" y="749"/>
                  </a:lnTo>
                  <a:lnTo>
                    <a:pt x="433" y="716"/>
                  </a:lnTo>
                  <a:lnTo>
                    <a:pt x="440" y="683"/>
                  </a:lnTo>
                  <a:lnTo>
                    <a:pt x="447" y="657"/>
                  </a:lnTo>
                  <a:lnTo>
                    <a:pt x="460" y="631"/>
                  </a:lnTo>
                  <a:lnTo>
                    <a:pt x="466" y="604"/>
                  </a:lnTo>
                  <a:lnTo>
                    <a:pt x="486" y="578"/>
                  </a:lnTo>
                  <a:lnTo>
                    <a:pt x="493" y="559"/>
                  </a:lnTo>
                  <a:lnTo>
                    <a:pt x="506" y="545"/>
                  </a:lnTo>
                  <a:lnTo>
                    <a:pt x="519" y="526"/>
                  </a:lnTo>
                  <a:lnTo>
                    <a:pt x="532" y="513"/>
                  </a:lnTo>
                  <a:lnTo>
                    <a:pt x="545" y="493"/>
                  </a:lnTo>
                  <a:lnTo>
                    <a:pt x="558" y="486"/>
                  </a:lnTo>
                  <a:lnTo>
                    <a:pt x="571" y="467"/>
                  </a:lnTo>
                  <a:lnTo>
                    <a:pt x="585" y="460"/>
                  </a:lnTo>
                  <a:lnTo>
                    <a:pt x="604" y="447"/>
                  </a:lnTo>
                  <a:lnTo>
                    <a:pt x="624" y="434"/>
                  </a:lnTo>
                  <a:lnTo>
                    <a:pt x="637" y="421"/>
                  </a:lnTo>
                  <a:lnTo>
                    <a:pt x="650" y="414"/>
                  </a:lnTo>
                  <a:lnTo>
                    <a:pt x="670" y="401"/>
                  </a:lnTo>
                  <a:lnTo>
                    <a:pt x="690" y="394"/>
                  </a:lnTo>
                  <a:lnTo>
                    <a:pt x="722" y="388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"/>
            <p:cNvSpPr/>
            <p:nvPr/>
          </p:nvSpPr>
          <p:spPr>
            <a:xfrm rot="18664200">
              <a:off x="4450680" y="3139200"/>
              <a:ext cx="1218960" cy="18126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1077" h="1215">
                  <a:moveTo>
                    <a:pt x="408" y="171"/>
                  </a:moveTo>
                  <a:lnTo>
                    <a:pt x="427" y="177"/>
                  </a:lnTo>
                  <a:lnTo>
                    <a:pt x="447" y="177"/>
                  </a:lnTo>
                  <a:lnTo>
                    <a:pt x="467" y="184"/>
                  </a:lnTo>
                  <a:lnTo>
                    <a:pt x="480" y="190"/>
                  </a:lnTo>
                  <a:lnTo>
                    <a:pt x="493" y="190"/>
                  </a:lnTo>
                  <a:lnTo>
                    <a:pt x="513" y="197"/>
                  </a:lnTo>
                  <a:lnTo>
                    <a:pt x="526" y="204"/>
                  </a:lnTo>
                  <a:lnTo>
                    <a:pt x="539" y="204"/>
                  </a:lnTo>
                  <a:lnTo>
                    <a:pt x="559" y="210"/>
                  </a:lnTo>
                  <a:lnTo>
                    <a:pt x="578" y="223"/>
                  </a:lnTo>
                  <a:lnTo>
                    <a:pt x="598" y="230"/>
                  </a:lnTo>
                  <a:lnTo>
                    <a:pt x="611" y="236"/>
                  </a:lnTo>
                  <a:lnTo>
                    <a:pt x="631" y="243"/>
                  </a:lnTo>
                  <a:lnTo>
                    <a:pt x="651" y="250"/>
                  </a:lnTo>
                  <a:lnTo>
                    <a:pt x="664" y="263"/>
                  </a:lnTo>
                  <a:lnTo>
                    <a:pt x="683" y="269"/>
                  </a:lnTo>
                  <a:lnTo>
                    <a:pt x="697" y="276"/>
                  </a:lnTo>
                  <a:lnTo>
                    <a:pt x="710" y="289"/>
                  </a:lnTo>
                  <a:lnTo>
                    <a:pt x="723" y="296"/>
                  </a:lnTo>
                  <a:lnTo>
                    <a:pt x="742" y="309"/>
                  </a:lnTo>
                  <a:lnTo>
                    <a:pt x="756" y="322"/>
                  </a:lnTo>
                  <a:lnTo>
                    <a:pt x="775" y="328"/>
                  </a:lnTo>
                  <a:lnTo>
                    <a:pt x="788" y="341"/>
                  </a:lnTo>
                  <a:lnTo>
                    <a:pt x="808" y="361"/>
                  </a:lnTo>
                  <a:lnTo>
                    <a:pt x="834" y="381"/>
                  </a:lnTo>
                  <a:lnTo>
                    <a:pt x="848" y="401"/>
                  </a:lnTo>
                  <a:lnTo>
                    <a:pt x="874" y="420"/>
                  </a:lnTo>
                  <a:lnTo>
                    <a:pt x="887" y="440"/>
                  </a:lnTo>
                  <a:lnTo>
                    <a:pt x="900" y="460"/>
                  </a:lnTo>
                  <a:lnTo>
                    <a:pt x="920" y="479"/>
                  </a:lnTo>
                  <a:lnTo>
                    <a:pt x="933" y="506"/>
                  </a:lnTo>
                  <a:lnTo>
                    <a:pt x="953" y="525"/>
                  </a:lnTo>
                  <a:lnTo>
                    <a:pt x="966" y="552"/>
                  </a:lnTo>
                  <a:lnTo>
                    <a:pt x="979" y="571"/>
                  </a:lnTo>
                  <a:lnTo>
                    <a:pt x="992" y="598"/>
                  </a:lnTo>
                  <a:lnTo>
                    <a:pt x="1005" y="624"/>
                  </a:lnTo>
                  <a:lnTo>
                    <a:pt x="1018" y="650"/>
                  </a:lnTo>
                  <a:lnTo>
                    <a:pt x="1025" y="676"/>
                  </a:lnTo>
                  <a:lnTo>
                    <a:pt x="1038" y="703"/>
                  </a:lnTo>
                  <a:lnTo>
                    <a:pt x="1045" y="736"/>
                  </a:lnTo>
                  <a:lnTo>
                    <a:pt x="1058" y="768"/>
                  </a:lnTo>
                  <a:lnTo>
                    <a:pt x="1064" y="801"/>
                  </a:lnTo>
                  <a:lnTo>
                    <a:pt x="1071" y="834"/>
                  </a:lnTo>
                  <a:lnTo>
                    <a:pt x="1071" y="873"/>
                  </a:lnTo>
                  <a:lnTo>
                    <a:pt x="1077" y="926"/>
                  </a:lnTo>
                  <a:lnTo>
                    <a:pt x="1077" y="959"/>
                  </a:lnTo>
                  <a:lnTo>
                    <a:pt x="1077" y="998"/>
                  </a:lnTo>
                  <a:lnTo>
                    <a:pt x="1077" y="1031"/>
                  </a:lnTo>
                  <a:lnTo>
                    <a:pt x="1071" y="1064"/>
                  </a:lnTo>
                  <a:lnTo>
                    <a:pt x="1064" y="1097"/>
                  </a:lnTo>
                  <a:lnTo>
                    <a:pt x="1058" y="1136"/>
                  </a:lnTo>
                  <a:lnTo>
                    <a:pt x="1051" y="1176"/>
                  </a:lnTo>
                  <a:lnTo>
                    <a:pt x="1038" y="1215"/>
                  </a:lnTo>
                  <a:lnTo>
                    <a:pt x="966" y="992"/>
                  </a:lnTo>
                  <a:lnTo>
                    <a:pt x="697" y="1038"/>
                  </a:lnTo>
                  <a:lnTo>
                    <a:pt x="703" y="998"/>
                  </a:lnTo>
                  <a:lnTo>
                    <a:pt x="703" y="972"/>
                  </a:lnTo>
                  <a:lnTo>
                    <a:pt x="703" y="946"/>
                  </a:lnTo>
                  <a:lnTo>
                    <a:pt x="703" y="919"/>
                  </a:lnTo>
                  <a:lnTo>
                    <a:pt x="697" y="887"/>
                  </a:lnTo>
                  <a:lnTo>
                    <a:pt x="697" y="854"/>
                  </a:lnTo>
                  <a:lnTo>
                    <a:pt x="683" y="827"/>
                  </a:lnTo>
                  <a:lnTo>
                    <a:pt x="677" y="801"/>
                  </a:lnTo>
                  <a:lnTo>
                    <a:pt x="664" y="775"/>
                  </a:lnTo>
                  <a:lnTo>
                    <a:pt x="651" y="749"/>
                  </a:lnTo>
                  <a:lnTo>
                    <a:pt x="637" y="729"/>
                  </a:lnTo>
                  <a:lnTo>
                    <a:pt x="631" y="716"/>
                  </a:lnTo>
                  <a:lnTo>
                    <a:pt x="618" y="703"/>
                  </a:lnTo>
                  <a:lnTo>
                    <a:pt x="605" y="683"/>
                  </a:lnTo>
                  <a:lnTo>
                    <a:pt x="591" y="670"/>
                  </a:lnTo>
                  <a:lnTo>
                    <a:pt x="578" y="657"/>
                  </a:lnTo>
                  <a:lnTo>
                    <a:pt x="565" y="644"/>
                  </a:lnTo>
                  <a:lnTo>
                    <a:pt x="545" y="630"/>
                  </a:lnTo>
                  <a:lnTo>
                    <a:pt x="532" y="617"/>
                  </a:lnTo>
                  <a:lnTo>
                    <a:pt x="513" y="604"/>
                  </a:lnTo>
                  <a:lnTo>
                    <a:pt x="493" y="598"/>
                  </a:lnTo>
                  <a:lnTo>
                    <a:pt x="480" y="584"/>
                  </a:lnTo>
                  <a:lnTo>
                    <a:pt x="460" y="578"/>
                  </a:lnTo>
                  <a:lnTo>
                    <a:pt x="440" y="571"/>
                  </a:lnTo>
                  <a:lnTo>
                    <a:pt x="427" y="565"/>
                  </a:lnTo>
                  <a:lnTo>
                    <a:pt x="414" y="558"/>
                  </a:lnTo>
                  <a:lnTo>
                    <a:pt x="388" y="552"/>
                  </a:lnTo>
                  <a:lnTo>
                    <a:pt x="362" y="545"/>
                  </a:lnTo>
                  <a:lnTo>
                    <a:pt x="342" y="545"/>
                  </a:lnTo>
                  <a:lnTo>
                    <a:pt x="316" y="545"/>
                  </a:lnTo>
                  <a:lnTo>
                    <a:pt x="302" y="545"/>
                  </a:lnTo>
                  <a:lnTo>
                    <a:pt x="302" y="742"/>
                  </a:lnTo>
                  <a:lnTo>
                    <a:pt x="0" y="374"/>
                  </a:lnTo>
                  <a:lnTo>
                    <a:pt x="302" y="0"/>
                  </a:lnTo>
                  <a:lnTo>
                    <a:pt x="302" y="164"/>
                  </a:lnTo>
                  <a:lnTo>
                    <a:pt x="316" y="164"/>
                  </a:lnTo>
                  <a:lnTo>
                    <a:pt x="342" y="164"/>
                  </a:lnTo>
                  <a:lnTo>
                    <a:pt x="368" y="171"/>
                  </a:lnTo>
                  <a:lnTo>
                    <a:pt x="388" y="171"/>
                  </a:lnTo>
                  <a:lnTo>
                    <a:pt x="408" y="1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12"/>
          <p:cNvSpPr/>
          <p:nvPr/>
        </p:nvSpPr>
        <p:spPr>
          <a:xfrm>
            <a:off x="2496600" y="2589120"/>
            <a:ext cx="4262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REGISTRARE I CONTRIBUTI DI TU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891360" y="4189320"/>
            <a:ext cx="18846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PRESIDI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METOD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Arial"/>
              </a:rPr>
              <a:t>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6780600" y="4646520"/>
            <a:ext cx="1489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REG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GLI SCAM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uolo del coordinat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2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2BE1-884B-45A7-B30A-3F8D8EFD6FD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li stili di leadership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676440" y="1623960"/>
            <a:ext cx="3206520" cy="30592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5583240" y="1716120"/>
            <a:ext cx="3206880" cy="3058920"/>
          </a:xfrm>
          <a:prstGeom prst="rect">
            <a:avLst/>
          </a:prstGeom>
          <a:ln w="0">
            <a:noFill/>
          </a:ln>
        </p:spPr>
      </p:pic>
      <p:sp>
        <p:nvSpPr>
          <p:cNvPr id="546" name="CasellaDiTesto 4"/>
          <p:cNvSpPr/>
          <p:nvPr/>
        </p:nvSpPr>
        <p:spPr>
          <a:xfrm>
            <a:off x="1189800" y="53942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adership situ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CasellaDiTesto 5"/>
          <p:cNvSpPr/>
          <p:nvPr/>
        </p:nvSpPr>
        <p:spPr>
          <a:xfrm>
            <a:off x="6256440" y="539604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iglia manag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227E-246C-4A86-AFED-8D1933342B5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3"/>
          <p:cNvGraphicFramePr/>
          <p:nvPr/>
        </p:nvGraphicFramePr>
        <p:xfrm>
          <a:off x="1476360" y="1128600"/>
          <a:ext cx="703908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8600"/>
                    <a:ext cx="70390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1" name="Group 4"/>
          <p:cNvGrpSpPr/>
          <p:nvPr/>
        </p:nvGrpSpPr>
        <p:grpSpPr>
          <a:xfrm>
            <a:off x="1049040" y="1233360"/>
            <a:ext cx="298800" cy="4350600"/>
            <a:chOff x="1049040" y="1233360"/>
            <a:chExt cx="298800" cy="4350600"/>
          </a:xfrm>
        </p:grpSpPr>
        <p:sp>
          <p:nvSpPr>
            <p:cNvPr id="552" name="Text Box 5"/>
            <p:cNvSpPr/>
            <p:nvPr/>
          </p:nvSpPr>
          <p:spPr>
            <a:xfrm>
              <a:off x="1054080" y="5276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1068120" y="32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7"/>
            <p:cNvSpPr/>
            <p:nvPr/>
          </p:nvSpPr>
          <p:spPr>
            <a:xfrm>
              <a:off x="1068120" y="2757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8"/>
            <p:cNvSpPr/>
            <p:nvPr/>
          </p:nvSpPr>
          <p:spPr>
            <a:xfrm>
              <a:off x="1068120" y="224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9"/>
            <p:cNvSpPr/>
            <p:nvPr/>
          </p:nvSpPr>
          <p:spPr>
            <a:xfrm>
              <a:off x="1068120" y="1752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0"/>
            <p:cNvSpPr/>
            <p:nvPr/>
          </p:nvSpPr>
          <p:spPr>
            <a:xfrm>
              <a:off x="1068120" y="123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1"/>
            <p:cNvSpPr/>
            <p:nvPr/>
          </p:nvSpPr>
          <p:spPr>
            <a:xfrm>
              <a:off x="1062000" y="477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2"/>
            <p:cNvSpPr/>
            <p:nvPr/>
          </p:nvSpPr>
          <p:spPr>
            <a:xfrm>
              <a:off x="1049040" y="4267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3"/>
            <p:cNvSpPr/>
            <p:nvPr/>
          </p:nvSpPr>
          <p:spPr>
            <a:xfrm>
              <a:off x="1068120" y="3762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4"/>
          <p:cNvGrpSpPr/>
          <p:nvPr/>
        </p:nvGrpSpPr>
        <p:grpSpPr>
          <a:xfrm>
            <a:off x="1699920" y="5791320"/>
            <a:ext cx="6528240" cy="307080"/>
            <a:chOff x="1699920" y="5791320"/>
            <a:chExt cx="6528240" cy="307080"/>
          </a:xfrm>
        </p:grpSpPr>
        <p:sp>
          <p:nvSpPr>
            <p:cNvPr id="562" name="Text Box 15"/>
            <p:cNvSpPr/>
            <p:nvPr/>
          </p:nvSpPr>
          <p:spPr>
            <a:xfrm>
              <a:off x="16999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6"/>
            <p:cNvSpPr/>
            <p:nvPr/>
          </p:nvSpPr>
          <p:spPr>
            <a:xfrm>
              <a:off x="480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17"/>
            <p:cNvSpPr/>
            <p:nvPr/>
          </p:nvSpPr>
          <p:spPr>
            <a:xfrm>
              <a:off x="559728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8"/>
            <p:cNvSpPr/>
            <p:nvPr/>
          </p:nvSpPr>
          <p:spPr>
            <a:xfrm>
              <a:off x="63482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9"/>
            <p:cNvSpPr/>
            <p:nvPr/>
          </p:nvSpPr>
          <p:spPr>
            <a:xfrm>
              <a:off x="71863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0"/>
            <p:cNvSpPr/>
            <p:nvPr/>
          </p:nvSpPr>
          <p:spPr>
            <a:xfrm>
              <a:off x="79484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21"/>
            <p:cNvSpPr/>
            <p:nvPr/>
          </p:nvSpPr>
          <p:spPr>
            <a:xfrm>
              <a:off x="246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22"/>
            <p:cNvSpPr/>
            <p:nvPr/>
          </p:nvSpPr>
          <p:spPr>
            <a:xfrm>
              <a:off x="32526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3"/>
            <p:cNvSpPr/>
            <p:nvPr/>
          </p:nvSpPr>
          <p:spPr>
            <a:xfrm>
              <a:off x="40338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24"/>
          <p:cNvSpPr/>
          <p:nvPr/>
        </p:nvSpPr>
        <p:spPr>
          <a:xfrm rot="16174200">
            <a:off x="-1148400" y="3240720"/>
            <a:ext cx="39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gl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5"/>
          <p:cNvSpPr/>
          <p:nvPr/>
        </p:nvSpPr>
        <p:spPr>
          <a:xfrm>
            <a:off x="2929680" y="605808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la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riglia manageri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4" name="Segnaposto numero diapositiva 2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A2A7-57BA-48CD-B2A9-FEE39881C0B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adership situ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2611440" y="1322280"/>
            <a:ext cx="4684680" cy="4913280"/>
          </a:xfrm>
          <a:prstGeom prst="rect">
            <a:avLst/>
          </a:prstGeom>
          <a:ln w="0">
            <a:noFill/>
          </a:ln>
        </p:spPr>
      </p:pic>
      <p:sp>
        <p:nvSpPr>
          <p:cNvPr id="57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1456-910B-4695-9FFD-AE4933929E4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2800800" y="1101600"/>
            <a:ext cx="41644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RR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 AI TERMINI IN “GER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PONTANE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EN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OLLERARE LE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SO DELLA V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i importanti accorgiment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3BF9-2D26-4027-9C4C-37AB06028DB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ecide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9" name="Rettangolo 27"/>
          <p:cNvSpPr/>
          <p:nvPr/>
        </p:nvSpPr>
        <p:spPr>
          <a:xfrm>
            <a:off x="566640" y="1200240"/>
            <a:ext cx="842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RE L'OBIETTIVO/RISULTATO VOL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ABILIRE I CRITERI IRRINUNCIABILI AI QUALI DOVRÀ RISPONDERE LA SOLUZIONE PRE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ABILIRE ULTERIORI CRITERI " DESIDERABILI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ENTIFICARE POSSIBILI ALTERNATIVE DI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RONTARE LE ALTERNATIVE PRIMA COI CRITERI IRRINUNCIABILI E POI CON I “DESIDERAT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RE I RISCHI DELLE ALTERNATIVE “PASSAT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EGLIERE L'ALTERNATIVA OTTI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RE L'ATTU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IFICARE 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DC39-3836-439D-82C5-A3725FAD38B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027"/>
          <p:cNvSpPr/>
          <p:nvPr/>
        </p:nvSpPr>
        <p:spPr>
          <a:xfrm>
            <a:off x="1379160" y="1413000"/>
            <a:ext cx="150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 CH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PERCHE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E C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28"/>
          <p:cNvSpPr/>
          <p:nvPr/>
        </p:nvSpPr>
        <p:spPr>
          <a:xfrm>
            <a:off x="5098320" y="1413000"/>
            <a:ext cx="307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STINA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IG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CO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RGOMENTO/CONTE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URATA/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29"/>
          <p:cNvSpPr/>
          <p:nvPr/>
        </p:nvSpPr>
        <p:spPr>
          <a:xfrm>
            <a:off x="3962520" y="17668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30"/>
          <p:cNvSpPr/>
          <p:nvPr/>
        </p:nvSpPr>
        <p:spPr>
          <a:xfrm>
            <a:off x="3962520" y="242892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34"/>
          <p:cNvSpPr/>
          <p:nvPr/>
        </p:nvSpPr>
        <p:spPr>
          <a:xfrm>
            <a:off x="3962520" y="31114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35"/>
          <p:cNvSpPr/>
          <p:nvPr/>
        </p:nvSpPr>
        <p:spPr>
          <a:xfrm>
            <a:off x="3962520" y="378792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36"/>
          <p:cNvSpPr/>
          <p:nvPr/>
        </p:nvSpPr>
        <p:spPr>
          <a:xfrm>
            <a:off x="3962520" y="450072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037"/>
          <p:cNvSpPr/>
          <p:nvPr/>
        </p:nvSpPr>
        <p:spPr>
          <a:xfrm>
            <a:off x="3962520" y="51436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omande chiave per comunica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1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0861-F0DD-4029-8360-C03DE6119A8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3" name="Segnaposto numero diapositiva 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F553-D5D3-475E-A7A0-BE081F95D53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llaDiTesto 3"/>
          <p:cNvSpPr/>
          <p:nvPr/>
        </p:nvSpPr>
        <p:spPr>
          <a:xfrm>
            <a:off x="1543320" y="907920"/>
            <a:ext cx="159516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3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4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6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7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8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9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0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1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2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3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4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5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asellaDiTesto 4"/>
          <p:cNvSpPr/>
          <p:nvPr/>
        </p:nvSpPr>
        <p:spPr>
          <a:xfrm>
            <a:off x="4569840" y="836640"/>
            <a:ext cx="2392200" cy="52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6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7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8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19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0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1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2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3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4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5++++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6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7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8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29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30+++++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027"/>
          <p:cNvSpPr/>
          <p:nvPr/>
        </p:nvSpPr>
        <p:spPr>
          <a:xfrm>
            <a:off x="1191960" y="1192320"/>
            <a:ext cx="72763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POSITIVO E INCORAGG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OSIZIONE CONCENTRATA E FRO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ATTO VIS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RILAS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NNI DI ASSE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CANZA DI DIST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TO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coltare con tutto il cor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856D-2BF7-4CA7-BAE6-CAF68C33146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650880" y="961920"/>
            <a:ext cx="866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SIDERARE DI CA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EDERE CHIAR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ALIZZARE 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ALTARE SUBITO ALLE 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ascolto at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533520" y="4314960"/>
            <a:ext cx="88390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QUANDO HA DETTO… PROBABILMENTE INTENDEVA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QUINDI DEVO INTERPRETARE LE SUE PAROLE COME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SONO CERTO DI AVER COLTO IL SENSO DELLE SUE PAROLE, POTREBBE ESSERE PIU’ SPECIFIC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E4FF-4323-401D-8AD0-E0B8C3AA0DB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34:11Z</dcterms:created>
  <dc:creator>Gianmarco Falzi</dc:creator>
  <dc:description/>
  <dc:language>en-US</dc:language>
  <cp:lastModifiedBy>Gianmarco Falzi</cp:lastModifiedBy>
  <dcterms:modified xsi:type="dcterms:W3CDTF">2011-09-17T14:31:32Z</dcterms:modified>
  <cp:revision>76</cp:revision>
  <dc:subject/>
  <dc:title>Diapositiva 1</dc:title>
</cp:coreProperties>
</file>