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E2AC-AAC2-47A3-B0D1-5995F4264DD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EA72-2ED4-4B40-9FA6-63A5F064714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B51B-9898-4836-8BCF-B9695B9EC75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4470-0E17-4FC0-904E-C50D7568C5E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89D5-55C2-426F-A7A8-AB72EF52865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BABE-A4F5-43FE-A7EB-BD60DF3163B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3B9C-5100-4EAC-B43A-BFF6810C550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2430-AA40-43C1-862D-FA78184B5CF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3DEA8-CD1C-4F3E-BCCD-00EB2F5F6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DE8B-989E-4B75-B307-BB9AF39AD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B9EE-0FE4-466F-B0E3-484F5A22A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C420-094C-4904-9859-0F67D230C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0B40-58A7-4F37-8429-735A23F02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BFFF-4B3C-4885-A9DF-FC4F420BE7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AEB93-8BBA-41D7-9A36-4E37014127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A2AE0-2DF7-4CB0-8AE1-8A960D42AF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4AFB-BC41-495F-85DA-AB987C43B4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6AB9-61AD-4D78-BF65-5B89C4A6F0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6D32-76AC-45DA-B602-948C6DA620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4DAD6-829E-48F5-B7A6-DEE3F53A97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FD35-AF82-4418-9E1B-CF20CE6DCC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24CA7-4B1A-48C8-B0D8-EA6FD9FF63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2327-BBE1-43D2-91D7-6460993765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316F0-2E47-4A82-95EC-1C34462877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27DEF-7858-4113-B373-97F2D27054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F8DBE-4CD1-4D7F-A44B-63D2040FEE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E09-3023-447A-A09F-B1ED1E0A73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FD8-724F-4FB1-8CF5-C497D2391F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2A43-88F3-422F-AD9E-C32CAA145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18B5-5A14-4205-9E66-14BA47EA64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0DA-FE95-4A74-82D7-1CDBAE6A5D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3A2-A03A-4FCC-B5A1-35A5BF5942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437-07DB-4A94-9AB7-517D7CCF6C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F81-8650-4A11-A161-7A63186F2C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5DD-7AB6-46D8-B4DB-19FE21E91B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E113-4389-4BC5-89DF-C2AC03AFBB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CDE-CC47-4207-8461-7C3A9709A9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E3C-BF43-49F3-9916-E39017C0093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B57-2A84-4B6A-A83D-2F59A2EE213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3BA11-EF0F-478F-A40E-0C0BB055986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94AC-5EFB-4E74-9FDB-C74A17235A5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5ED5-0421-4DD2-A362-6DA2C862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560A-298B-4BB8-B4D7-79224ED0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F3FB-7B62-46F5-A526-4C691303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CC53-6C7E-491B-9F53-0CBC36AE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51C3-C997-4E10-9DE2-21F1F7F0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CAC1-1533-4222-97A6-D17A6DE0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B2F8-1D2B-4668-96EC-CF7B7332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405A-8043-401E-BFC3-C88FFC85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3259-40DD-4C45-AD4F-4D9B942E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F823-51FA-466C-AD0A-E6AB67EB2E9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E8FC-3F3A-4B12-A3E0-8E288EF6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3585-1CC7-40DD-80C6-98171985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55E8-BE77-467C-B0A8-E2CD442B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0C4E-DD99-4095-90E3-5372FF96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51633-8736-4DA2-AA83-E1B5AD14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AEF48-7459-48A3-B884-9CDD95BE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1832F-5A0F-41EE-90E8-CCB1C1CD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DA4A8-EB23-4CF4-91FF-372950AB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3FCD3-2D67-484B-9596-5571E5BB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FED39-BDFF-4365-970C-E5777310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3AA3-B030-4195-945E-CE1E899A754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DE01-F1DB-46B7-A40E-4061AE4F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5B471-87A8-4E4A-8A15-8ECD90FF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9F4EA-43B6-4F86-87B7-2FE9F62F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76B73-07DA-4FEB-BB76-DF32A598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09109-DF7D-4CBE-925B-64069EE9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761C-DD31-4892-BC61-4A9A0BCC7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102600" y="6350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201D-91F7-4078-BBC9-4EA7AC396776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40" name="Rettangolo 6"/>
          <p:cNvSpPr/>
          <p:nvPr/>
        </p:nvSpPr>
        <p:spPr>
          <a:xfrm>
            <a:off x="309600" y="357120"/>
            <a:ext cx="9286920" cy="6143760"/>
          </a:xfrm>
          <a:prstGeom prst="rect">
            <a:avLst/>
          </a:prstGeom>
          <a:noFill/>
          <a:ln w="19080">
            <a:solidFill>
              <a:srgbClr val="84a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Connettore 1 7"/>
          <p:cNvSpPr/>
          <p:nvPr/>
        </p:nvSpPr>
        <p:spPr>
          <a:xfrm>
            <a:off x="8382240" y="213480"/>
            <a:ext cx="136260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onnettore 1 8"/>
          <p:cNvSpPr/>
          <p:nvPr/>
        </p:nvSpPr>
        <p:spPr>
          <a:xfrm>
            <a:off x="167040" y="5285520"/>
            <a:ext cx="136296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sellaDiTesto 9"/>
          <p:cNvSpPr/>
          <p:nvPr/>
        </p:nvSpPr>
        <p:spPr>
          <a:xfrm>
            <a:off x="309600" y="6224760"/>
            <a:ext cx="35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Consulente: Gianmarco Fal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sellaDiTesto 10"/>
          <p:cNvSpPr/>
          <p:nvPr/>
        </p:nvSpPr>
        <p:spPr>
          <a:xfrm>
            <a:off x="7167600" y="6215040"/>
            <a:ext cx="24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www.personeorganizzazioni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9CE3-5D6C-4E37-8711-CCE1F3AFB942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onnettore 1 6"/>
          <p:cNvSpPr/>
          <p:nvPr/>
        </p:nvSpPr>
        <p:spPr>
          <a:xfrm>
            <a:off x="166680" y="785880"/>
            <a:ext cx="9286920" cy="1440"/>
          </a:xfrm>
          <a:prstGeom prst="line">
            <a:avLst/>
          </a:prstGeom>
          <a:ln w="93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ttore 1 7"/>
          <p:cNvSpPr/>
          <p:nvPr/>
        </p:nvSpPr>
        <p:spPr>
          <a:xfrm>
            <a:off x="496800" y="285840"/>
            <a:ext cx="28800" cy="621504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uppo 10"/>
          <p:cNvGrpSpPr/>
          <p:nvPr/>
        </p:nvGrpSpPr>
        <p:grpSpPr>
          <a:xfrm>
            <a:off x="3916080" y="6357960"/>
            <a:ext cx="2394360" cy="450720"/>
            <a:chOff x="3916080" y="6357960"/>
            <a:chExt cx="2394360" cy="450720"/>
          </a:xfrm>
        </p:grpSpPr>
        <p:pic>
          <p:nvPicPr>
            <p:cNvPr id="128" name="Immagine 9" descr="solo logo sopra stretto.jpg"/>
            <p:cNvPicPr/>
            <p:nvPr/>
          </p:nvPicPr>
          <p:blipFill>
            <a:blip r:embed="rId2"/>
            <a:stretch/>
          </p:blipFill>
          <p:spPr>
            <a:xfrm>
              <a:off x="4800600" y="6357960"/>
              <a:ext cx="15098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CasellaDiTesto 10"/>
            <p:cNvSpPr/>
            <p:nvPr/>
          </p:nvSpPr>
          <p:spPr>
            <a:xfrm>
              <a:off x="3916080" y="64022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1b587c"/>
                  </a:solidFill>
                  <a:latin typeface="Century Gothic"/>
                </a:rPr>
                <a:t>Realizzato 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3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1C2D-086A-4ADC-A770-E878A33F96B2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4"/>
          </p:nvPr>
        </p:nvSpPr>
        <p:spPr>
          <a:xfrm>
            <a:off x="76968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027B-4079-4853-9601-95B08ACB26DD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7"/>
          </p:nvPr>
        </p:nvSpPr>
        <p:spPr>
          <a:xfrm>
            <a:off x="76968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8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9"/>
          </p:nvPr>
        </p:nvSpPr>
        <p:spPr>
          <a:xfrm>
            <a:off x="9102600" y="6350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EF15-AA54-476E-BF33-902550924E5A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42680" y="2987640"/>
            <a:ext cx="8420040" cy="1470240"/>
          </a:xfrm>
          <a:prstGeom prst="rect">
            <a:avLst/>
          </a:prstGeom>
          <a:noFill/>
          <a:ln w="9360">
            <a:solidFill>
              <a:srgbClr val="1b587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L’utilizzo efficiente </a:t>
            </a:r>
            <a:br>
              <a:rPr sz="3600"/>
            </a:b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del tempo di lavoro</a:t>
            </a:r>
            <a:endParaRPr b="1" lang="en-US" sz="36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85720" y="4743000"/>
            <a:ext cx="6933960" cy="9716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Metodi e strumenti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Desideri ed uso reale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36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7319-9400-42B1-BF0A-841996211E7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1650960" y="1197000"/>
            <a:ext cx="6604200" cy="6411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1b587c"/>
                </a:solidFill>
                <a:latin typeface="Arial"/>
              </a:rPr>
              <a:t>crisi motivaz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550800" y="1825560"/>
            <a:ext cx="8694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richiede una verifica motivazionale al fine di diventare più consapevoli dei bisogni che sono veramente prioritari per sé e delle risorse di cui davvero si disp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1981080" y="4398840"/>
            <a:ext cx="5943600" cy="6411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1b587c"/>
                </a:solidFill>
                <a:latin typeface="Arial"/>
              </a:rPr>
              <a:t>crisi strument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439560" y="5141880"/>
            <a:ext cx="891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richiede una verifica dei “ladri di tempo” per attivare gli “antifurt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905040" y="836640"/>
            <a:ext cx="78152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72960" indent="-37296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DIFESA D’IDENTIT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hiave di lettura motivaz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43" name="Segnaposto numero diapositiva 1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2916-96DD-4D24-9AC8-F2ADFDC8D2D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630360" y="1363680"/>
            <a:ext cx="83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SO RIPETITIVO DIRETTO DA ALTRI DEL TEMP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3020040" y="1916280"/>
            <a:ext cx="3583800" cy="45972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BISOGNI SODDISF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630360" y="2316240"/>
            <a:ext cx="836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ERVAZIONE, SICUR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PPARTENENZA, DIPEND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3122280" y="3357720"/>
            <a:ext cx="3378240" cy="45972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RISORSE UTILIZZ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630360" y="3830760"/>
            <a:ext cx="83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TE, GIA’ SPERIMENTATE, C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936880" y="4378320"/>
            <a:ext cx="3749760" cy="45972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TRATEGIE UTILIZZ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630360" y="4870440"/>
            <a:ext cx="836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BITUDINI, PIGRIZIA, OBBEDI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IVISMO DI ROUTINE, LAMEN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5703840"/>
            <a:ext cx="61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NON COINVOLGONO L’IMMAGINE DI S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1046160" y="836640"/>
            <a:ext cx="78138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72960" indent="-37296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SVILUPPO D’IDENTIT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HIAVE DI LETTURA MOTIVAZ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54" name="Segnaposto numero diapositiva 1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F968-A52F-42FB-A4ED-46E65A96BC0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770040" y="1363680"/>
            <a:ext cx="83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SO INNOVATIVO AUTODIRETTO DEL TEMP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3161160" y="2093760"/>
            <a:ext cx="3583800" cy="45972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BISOGNI SODDISF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770040" y="2494080"/>
            <a:ext cx="83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ESTIGIO, SUCCESSO, SVILUPPO PROFESSIONALE, INDIPENDENZA/ INTERDIPEND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3263760" y="3421080"/>
            <a:ext cx="3378240" cy="45972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RISORSE UTILIZZ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770040" y="3809880"/>
            <a:ext cx="83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ARZIALMENTE CERTE O GIA’ SPERIMEN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3079080" y="4581360"/>
            <a:ext cx="3749760" cy="45972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TRATEGIE UTILIZZ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770040" y="4962600"/>
            <a:ext cx="83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AMBIAMENTO, MIGLIORAMENTO CONTINUO, TENTATIVI, USO INNOV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2261160" y="5952960"/>
            <a:ext cx="53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COINVOLGONO L’IMMAGINE DI S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dri di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4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5638-115D-4347-9B3A-091F86A0A53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36120" y="4141440"/>
            <a:ext cx="410076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sono comportamenti che ostacolano o impediscono l’uso del tempo per priorità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5168880" y="1052640"/>
          <a:ext cx="41004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1052640"/>
                    <a:ext cx="41004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dri di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237C-2C0D-4695-8D47-BA17B6F75D6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80920" y="1152360"/>
            <a:ext cx="814392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85640" indent="-485640">
              <a:lnSpc>
                <a:spcPct val="110000"/>
              </a:lnSpc>
              <a:spcBef>
                <a:spcPts val="2001"/>
              </a:spcBef>
              <a:buClr>
                <a:srgbClr val="1b587c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b587c"/>
                </a:solidFill>
                <a:latin typeface="Arial"/>
              </a:rPr>
              <a:t>Ladri di tempo “interni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ono le proprie propensioni ad utilizzare il tempo in modo non coerente con quanto si desidera fare o quanto si era a priori stabilito di 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10000"/>
              </a:lnSpc>
              <a:spcBef>
                <a:spcPts val="6001"/>
              </a:spcBef>
              <a:buClr>
                <a:srgbClr val="1b587c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b587c"/>
                </a:solidFill>
                <a:latin typeface="Arial"/>
              </a:rPr>
              <a:t>Ladri di tempo “esterni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ono comportamenti di altri che non si sa o non si può modificare e che fanno utilizzare il proprio tempo in modo non coerente con quanto si desidera fare o quanto si era a priori stabilito di 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dri di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6A83-BAE4-4EBB-B816-A0DA75D3E8C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776160" y="981000"/>
            <a:ext cx="825516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A volte i ladri esterni sono usati come </a:t>
            </a:r>
            <a:r>
              <a:rPr b="1" lang="it-IT" sz="4000" spc="-1" strike="noStrike">
                <a:solidFill>
                  <a:srgbClr val="1b587c"/>
                </a:solidFill>
                <a:latin typeface="Arial"/>
              </a:rPr>
              <a:t>scusa </a:t>
            </a: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per giustificare ladri interni che non si vuole riconosc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Ognuno è sempre responsabile, almeno parzialmente, dei furti subiti, quindi </a:t>
            </a:r>
            <a:r>
              <a:rPr b="1" lang="it-IT" sz="4000" spc="-1" strike="noStrike">
                <a:solidFill>
                  <a:srgbClr val="1b587c"/>
                </a:solidFill>
                <a:latin typeface="Arial"/>
              </a:rPr>
              <a:t>é sempre responsabile</a:t>
            </a: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 di attivare gli antifurto contro i ladr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dri di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A4B8-A0D4-4E83-8DB7-9BE6F963CBE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1182600" y="1027080"/>
            <a:ext cx="7155000" cy="50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72960" indent="-372960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b587c"/>
                </a:solidFill>
                <a:latin typeface="Arial"/>
              </a:rPr>
              <a:t>I ladri estern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gli incontri,le riun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gli arrivi inatt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e burocra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e interru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e persone imprepa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ca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telef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e informazioni (ritardo,incompletez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casa, e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dri di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7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CC46-79AB-4387-A29D-58EC4E2C284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776160" y="981000"/>
            <a:ext cx="7594560" cy="49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72960" indent="-37296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b587c"/>
                </a:solidFill>
                <a:latin typeface="Arial"/>
              </a:rPr>
              <a:t>I ladri intern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mancanza di or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mancanza di obiettivi e priorità chi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perfezion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’indeci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difficoltà a dele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disper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difficoltà a dire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scarsa pian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non darsi scad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dri di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0A5C-FD0B-40F6-B6AF-CBB1C6F1FC3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100160" y="1990800"/>
            <a:ext cx="781524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72960" indent="-37296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mancanza di me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voler stra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mancanza di concent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e condizioni di sa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difficoltà nel control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cc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Pianificare 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84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8E5E-4723-4230-8558-239C93EB24D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631800" y="907920"/>
            <a:ext cx="8694720" cy="53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1b587c"/>
                </a:solidFill>
                <a:latin typeface="Arial"/>
              </a:rPr>
              <a:t>Scopo</a:t>
            </a: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 :</a:t>
            </a:r>
            <a:br>
              <a:rPr sz="3200"/>
            </a:b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destinare </a:t>
            </a:r>
            <a:r>
              <a:rPr b="0" lang="it-IT" sz="3200" spc="-1" strike="noStrike" u="sng">
                <a:solidFill>
                  <a:srgbClr val="1b587c"/>
                </a:solidFill>
                <a:uFillTx/>
                <a:latin typeface="Arial"/>
              </a:rPr>
              <a:t>“a monte</a:t>
            </a: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” il tempo in rapporto all’importanza delle cose da f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1b587c"/>
                </a:solidFill>
                <a:latin typeface="Arial"/>
              </a:rPr>
              <a:t>Pianificare</a:t>
            </a: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 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decidere quali sono le cose important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dandosi degli obiettiv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stabilendo le azioni necessar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i tempi e le scad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per un uso efficace delle ris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Di che tempo parliamo?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48880" y="1052640"/>
            <a:ext cx="8502840" cy="25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b587c"/>
                </a:solidFill>
                <a:latin typeface="Arial"/>
              </a:rPr>
              <a:t>Tempo naturale o fisiologico</a:t>
            </a:r>
            <a:endParaRPr b="0" lang="en-US" sz="30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b587c"/>
                </a:solidFill>
                <a:latin typeface="Arial"/>
              </a:rPr>
              <a:t>Tempo sociale o organizzato</a:t>
            </a:r>
            <a:endParaRPr b="0" lang="en-US" sz="30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b587c"/>
                </a:solidFill>
                <a:latin typeface="Arial"/>
              </a:rPr>
              <a:t>Tempo vissuto o percepito</a:t>
            </a:r>
            <a:endParaRPr b="0" lang="en-US" sz="30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00" name="Rectangle 1030"/>
          <p:cNvSpPr/>
          <p:nvPr/>
        </p:nvSpPr>
        <p:spPr>
          <a:xfrm>
            <a:off x="1490760" y="4486320"/>
            <a:ext cx="6933960" cy="74304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b587c"/>
                </a:solidFill>
                <a:latin typeface="Arial"/>
              </a:rPr>
              <a:t>TEMPO COME RISOR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26B9-FD05-4743-8116-13AC8F2222F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Programmare 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8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85F2-6446-4B26-9619-6E3AFAA8E4D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027"/>
          <p:cNvSpPr/>
          <p:nvPr/>
        </p:nvSpPr>
        <p:spPr>
          <a:xfrm>
            <a:off x="631800" y="907920"/>
            <a:ext cx="8475840" cy="52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1b587c"/>
                </a:solidFill>
                <a:latin typeface="Arial"/>
              </a:rPr>
              <a:t>Scopo</a:t>
            </a: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 :</a:t>
            </a:r>
            <a:br>
              <a:rPr sz="3200"/>
            </a:b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destinare “</a:t>
            </a:r>
            <a:r>
              <a:rPr b="0" lang="it-IT" sz="3200" spc="-1" strike="noStrike" u="sng">
                <a:solidFill>
                  <a:srgbClr val="1b587c"/>
                </a:solidFill>
                <a:uFillTx/>
                <a:latin typeface="Arial"/>
              </a:rPr>
              <a:t>a monte</a:t>
            </a: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” il tempo in funzione della durata delle attività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1b587c"/>
                </a:solidFill>
                <a:latin typeface="Arial"/>
              </a:rPr>
              <a:t>Programmare</a:t>
            </a: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 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collocare nel tempo le attività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in base ad una sequenza pensa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definendone la durata prevista, voluta, necessaria, per una gestione efficiente delle ris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Organizzare 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9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70C0-90EA-43B6-945B-26947E74EF8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027"/>
          <p:cNvSpPr/>
          <p:nvPr/>
        </p:nvSpPr>
        <p:spPr>
          <a:xfrm>
            <a:off x="612720" y="914400"/>
            <a:ext cx="8804160" cy="55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Scopo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 :</a:t>
            </a:r>
            <a:br>
              <a:rPr sz="1800"/>
            </a:b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efinire “</a:t>
            </a:r>
            <a:r>
              <a:rPr b="0" lang="it-IT" sz="1800" spc="-1" strike="noStrike" u="sng">
                <a:solidFill>
                  <a:srgbClr val="1b587c"/>
                </a:solidFill>
                <a:uFillTx/>
                <a:latin typeface="Arial"/>
              </a:rPr>
              <a:t>a monte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” le modalità di utilizzo delle risorse in modo da riuscire a lavorare sulle finalità scelte di volta in vo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Organizzare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programmare e coordinare nell’uso del tempo tutte le risorse a propria disposizio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elaborando programmi operativi concreti e dettaglia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definendo strumenti di coordinamento a monte delle singole attività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utilizzando strumenti operativi per il risparmio del tempo nel corso delle at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tabilire le prior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93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8E3D-4AFC-4B4D-9552-02A2E525FE1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20880" y="1125360"/>
            <a:ext cx="8283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L’IMPORTANZA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cidenza di una attività sugli obiettivi fondamental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920880" y="2374920"/>
            <a:ext cx="8393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3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L’URGENZA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é determinata dalla scadenza entro cui il problema va gestito con successo e senza dann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920880" y="4626000"/>
            <a:ext cx="8254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 algn="ctr">
              <a:spcBef>
                <a:spcPts val="2001"/>
              </a:spcBef>
              <a:buClr>
                <a:srgbClr val="1b587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entrambe alte/b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5000" indent="-765000" algn="ctr">
              <a:spcBef>
                <a:spcPts val="2001"/>
              </a:spcBef>
              <a:buClr>
                <a:srgbClr val="1b587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una alta/l’altra b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importanz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98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FA44-DD4A-4421-8D55-055F98591B1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880920" y="1055520"/>
            <a:ext cx="8255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1b587c"/>
                </a:solidFill>
                <a:uFillTx/>
                <a:latin typeface="Arial"/>
              </a:rPr>
              <a:t>REGOLA </a:t>
            </a: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:</a:t>
            </a:r>
            <a:br>
              <a:rPr sz="3200"/>
            </a:b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con il 20% delle attività e dei problemi si ottiene  l’80% dei risultati importa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920880" y="3324240"/>
            <a:ext cx="1271520" cy="276120"/>
          </a:xfrm>
          <a:prstGeom prst="rightArrow">
            <a:avLst>
              <a:gd name="adj1" fmla="val 50000"/>
              <a:gd name="adj2" fmla="val 179934"/>
            </a:avLst>
          </a:prstGeom>
          <a:solidFill>
            <a:srgbClr val="ffffff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2311560" y="3270240"/>
            <a:ext cx="726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1b587c"/>
                </a:solidFill>
                <a:latin typeface="Arial"/>
              </a:rPr>
              <a:t>attività e problemi strategici 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he incidono direttamente sugli obiettivi fondament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920880" y="4919760"/>
            <a:ext cx="1271520" cy="276120"/>
          </a:xfrm>
          <a:prstGeom prst="rightArrow">
            <a:avLst>
              <a:gd name="adj1" fmla="val 50000"/>
              <a:gd name="adj2" fmla="val 179934"/>
            </a:avLst>
          </a:prstGeom>
          <a:solidFill>
            <a:srgbClr val="ffffff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2311560" y="4873680"/>
            <a:ext cx="7154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1b587c"/>
                </a:solidFill>
                <a:latin typeface="Arial"/>
              </a:rPr>
              <a:t>attività e problemi operativi 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he si riferiscono alla routine, non importante sul piano degli obiettivi, ma necess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importanz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AFC4-86F2-4710-BD91-8AB0E2EC444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569880" y="907920"/>
            <a:ext cx="913608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b587c"/>
                </a:solidFill>
                <a:latin typeface="Arial"/>
              </a:rPr>
              <a:t>Per l’uso del tempo si deve considerare ch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1b587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1b587c"/>
                </a:solidFill>
                <a:uFillTx/>
                <a:latin typeface="Arial"/>
              </a:rPr>
              <a:t>le attività ed i problemi strategici</a:t>
            </a: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 hanno alta importanza</a:t>
            </a:r>
            <a:br>
              <a:rPr sz="3200"/>
            </a:b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(20% da l’80% dei risulta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1b587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1b587c"/>
                </a:solidFill>
                <a:uFillTx/>
                <a:latin typeface="Arial"/>
              </a:rPr>
              <a:t>le attività ed i problemi operativi</a:t>
            </a: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 hanno bassa importanza</a:t>
            </a:r>
            <a:br>
              <a:rPr sz="3200"/>
            </a:b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(80% da il 20% dei risulta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urgenz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08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06D6-0E33-4B13-9C42-407281D4C8D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1046160" y="914400"/>
            <a:ext cx="78138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L’80% delle urgenze nascono su attività e problemi che incidono al 20% sui risultati fin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825480" y="2044800"/>
            <a:ext cx="8310600" cy="13737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1b587c"/>
                </a:solidFill>
                <a:uFillTx/>
                <a:latin typeface="Arial"/>
              </a:rPr>
              <a:t>attività e problemi a dinamicità nulla o positiva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:</a:t>
            </a:r>
            <a:br>
              <a:rPr sz="2800"/>
            </a:b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col passare del tempo rimangono inalterati,diventano più facili o si risolvono da s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770040" y="4149720"/>
            <a:ext cx="8366040" cy="13737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1b587c"/>
                </a:solidFill>
                <a:uFillTx/>
                <a:latin typeface="Arial"/>
              </a:rPr>
              <a:t>attività e problemi a dinamicità negativa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:</a:t>
            </a:r>
            <a:br>
              <a:rPr sz="2800"/>
            </a:b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col passare del tempo diventano più difficili da gestire e producono effetti negativi cresc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so ottimale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1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1F64-0F34-4CE6-BA48-B3B186EFA5B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027"/>
          <p:cNvSpPr/>
          <p:nvPr/>
        </p:nvSpPr>
        <p:spPr>
          <a:xfrm>
            <a:off x="1100160" y="1203480"/>
            <a:ext cx="781524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b587c"/>
                </a:solidFill>
                <a:latin typeface="Arial"/>
              </a:rPr>
              <a:t>80% del tempo per il 20% di attività e problemi importanti, strategici, che danno l’80% dei risult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b587c"/>
                </a:solidFill>
                <a:latin typeface="Arial"/>
              </a:rPr>
              <a:t>20% del tempo per l’80% di attività e problemi non importanti, operativi, che danno il 20% dei risult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sistema A-B-C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45840" y="907560"/>
            <a:ext cx="89154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 compiti A: devono essere svolti subito; 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 risultati che si possono conseguire sono rilevanti, se tralasciati comportano serie conseguenz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 compiti B: dovrebbero essere svolti subito;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non possono essere rimandati a lungo altrimenti si trasformano in compiti A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119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 compiti C: possono essere rimandat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17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4D50-3FEC-4C18-AAC7-5280CB9B4B7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sistema A-B-C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3760" y="1001520"/>
            <a:ext cx="8475480" cy="390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.....e poi </a:t>
            </a: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 compiti D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: in teoria non dovrebbero essere fatti perché non vincolati da scadenze, ma </a:t>
            </a: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ono piacevoli!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25000"/>
              </a:lnSpc>
              <a:spcBef>
                <a:spcPts val="299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ossiamo anche dare delle </a:t>
            </a: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sottocategorie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come A1, A2, A3, ecc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299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COME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: segnare in agenda, schedari, cartelline, ecc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299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NO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post it e biglietti volanti!!!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20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8A16-C6C1-4135-A025-5631C94E009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trumenti per 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22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00B1-A206-477C-8699-F54D2935089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31800" y="1046160"/>
            <a:ext cx="49816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lega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ordinament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iltr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ccorpament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finizione di tempi e durat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adenz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nvi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trumenti personal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graphicFrame>
        <p:nvGraphicFramePr>
          <p:cNvPr id="424" name="Object 2"/>
          <p:cNvGraphicFramePr/>
          <p:nvPr/>
        </p:nvGraphicFramePr>
        <p:xfrm>
          <a:off x="6824520" y="1268280"/>
          <a:ext cx="122904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4520" y="1268280"/>
                    <a:ext cx="12290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caratteristiche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04520" y="980640"/>
            <a:ext cx="842004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LIMITAT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non ce n’é di più: é una risorsa molto critica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2. INCONTROLLABIL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come lo spazio, il tempo é una costante e non può essere amministrato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3. IRRECUPERABIL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il tempo passato non può essere recuperato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04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2957-CED4-46B3-AD95-797A7901D4F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2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6E10-3BA1-4B10-8E73-2E0C2E4657C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631800" y="907920"/>
            <a:ext cx="8475840" cy="53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SA DELEGA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decisioni che prendete con maggior frequ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compiti tecnico specialist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compiti per cui siete meno qualific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funzioni che non vi piacci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compiti che procurano esperienza o crescita professionale ai collabor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compiti che aggiungono varietà alla routine lavo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attività che completerebbero una posi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3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DC1D-1B5C-4924-B157-234DD71D04C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27"/>
          <p:cNvSpPr/>
          <p:nvPr/>
        </p:nvSpPr>
        <p:spPr>
          <a:xfrm>
            <a:off x="990720" y="1160640"/>
            <a:ext cx="792468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CONTENUTI DELLA DELE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OBIE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RISULTATI VOL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RITERI DI MIS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RISORSE DISPONIBILI E VIN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UTONOMIA, AUTOR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TEMPIS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MODALITA’ DI CONT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Modalità di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3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AA4C-E6C7-47E8-AAC6-AA55D71A22C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027"/>
          <p:cNvSpPr/>
          <p:nvPr/>
        </p:nvSpPr>
        <p:spPr>
          <a:xfrm>
            <a:off x="770040" y="1055520"/>
            <a:ext cx="836604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COLLOQUIO DI DELEGA PER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hiarire, mettere in comune obiettivi, autonomie, autorità, controlli, criteri di valu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ttenere responsabilizzazione e coinvolgimento sugli obie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EVITARE INCARICHI GENERI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stringono il collaboratore a chiedere chiarimenti in itin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lasciano pericolose zone d’ombra per la fase di valu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ogiche di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36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AFBE-0865-4062-8866-98BA1A4E5DD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495360" y="844560"/>
            <a:ext cx="89154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TUO TEMPO E’ A MIA DISPOSI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968400" y="3213000"/>
            <a:ext cx="8056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TUO TEMPO E’ UNA TUA RISORSA PER IL LAVORO CHE TI HO ASSEG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550800" y="1268280"/>
            <a:ext cx="8861400" cy="15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VANTAGGI: evito i miei ritardi, posso seguire le mie urg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VANTAGGI: causo perdite di tempo ai mie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493560" y="3860640"/>
            <a:ext cx="886140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VANTAGGI: evito perdite di tempo ai collaboratori, li costringo ad organizzare il loro tempo e a finalizzarne l’utili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VANTAGGI: rischio ritardi su urgenze emergenti, ho meno margini di recupero sulle mie effici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AutoShape 8"/>
          <p:cNvSpPr/>
          <p:nvPr/>
        </p:nvSpPr>
        <p:spPr>
          <a:xfrm rot="10800000">
            <a:off x="3741480" y="2214360"/>
            <a:ext cx="2422440" cy="42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Object 2" descr=""/>
          <p:cNvPicPr/>
          <p:nvPr/>
        </p:nvPicPr>
        <p:blipFill>
          <a:blip r:embed="rId1"/>
          <a:stretch/>
        </p:blipFill>
        <p:spPr>
          <a:xfrm>
            <a:off x="4292640" y="2633760"/>
            <a:ext cx="1414440" cy="122688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7"/>
          <p:cNvSpPr/>
          <p:nvPr/>
        </p:nvSpPr>
        <p:spPr>
          <a:xfrm>
            <a:off x="3741840" y="3870360"/>
            <a:ext cx="2422440" cy="42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coordinamen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45" name="Segnaposto numero diapositiva 8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7ABE-F839-41A5-A111-AC75EB983E4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990720" y="949320"/>
            <a:ext cx="7924680" cy="118980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ASPETTI DI AUTONOMIA:</a:t>
            </a:r>
            <a:br>
              <a:rPr sz="2400"/>
            </a:b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LAVORO DI RUOLO, INDIVIDUALE E DIFFERENZI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990720" y="4316400"/>
            <a:ext cx="7924680" cy="118980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ASPETTI DI INTEGRAZIONE:</a:t>
            </a:r>
            <a:br>
              <a:rPr sz="2400"/>
            </a:b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LAVORO CORRELATO ALL’USO DI RISORSE ALTR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604800" y="5224320"/>
            <a:ext cx="8718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OCCORRE ORGANIZZARE I MOMENTI DI LAVORO INTEGRATO ATTRAVERSO UNA PROGRAMMAZIONE DEI TEMPI COM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filt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50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7477-88E5-4209-BCE1-0F48CDAF9C0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1212840" y="844560"/>
            <a:ext cx="792468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spesso gli altri non sanno quanto é importante ciò che stiamo facendo rispetto a ciò per cui ci interromp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QUINDI OCCORR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FILTRI SELETTIVI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717480" y="3639960"/>
            <a:ext cx="8915400" cy="73404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PERSONE </a:t>
            </a: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(segretaria)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 e TECNOLOGIE </a:t>
            </a: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(segreteria tel., e-mail) 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HE RICEVONO L’INTERR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817560" y="5011560"/>
            <a:ext cx="8717040" cy="64260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N ISTRUZIONI CHIARE E PRECISE PER DETERMINARE L’IMPORTANZA DELL’INTERRUZIONE RISPETTO A CIO’ CHE STO FACE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Gli accorpamenti di attiv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5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3549-1084-4789-9AEB-79657301165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770040" y="1635120"/>
            <a:ext cx="82548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ITERIO DI AUTO ORGANIZZAZIONE BASATO SULLA RIDUZIONE / ELIMINAZIONE DI TEMPI DI PREPARAZIONE IN GENERE, DOVUTE ALLA CONCENTRAZIONE DI ATTIVITA’ OMOGE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Definizione dei temp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5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76D0-9447-41EC-A208-CF186503AEC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770040" y="1371600"/>
            <a:ext cx="8366040" cy="37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 prescindere dall’importanza delle cose da fare occorre sempre </a:t>
            </a: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stabilire il tempo necessario per ciascuna attiv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ulla vieta di decidere dei cambi in tal senso, ma, se ho fissato dei tempi, ciò avviene </a:t>
            </a:r>
            <a:r>
              <a:rPr b="1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per scelta consapevole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e non per l’emergere di ladri di t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cadenz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D2AA-66B0-43C5-A0AE-F34F7DA3D5E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770040" y="896760"/>
            <a:ext cx="8254800" cy="47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85640" indent="-485640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utile fissare una </a:t>
            </a:r>
            <a:r>
              <a:rPr b="0" i="1" lang="it-IT" sz="2400" spc="-1" strike="noStrike">
                <a:solidFill>
                  <a:srgbClr val="1b587c"/>
                </a:solidFill>
                <a:latin typeface="Arial"/>
              </a:rPr>
              <a:t>scadenza d’inizio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d una </a:t>
            </a:r>
            <a:r>
              <a:rPr b="0" i="1" lang="it-IT" sz="2400" spc="-1" strike="noStrike">
                <a:solidFill>
                  <a:srgbClr val="1b587c"/>
                </a:solidFill>
                <a:latin typeface="Arial"/>
              </a:rPr>
              <a:t>scadenza di fine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er perseguire tre scop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6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ressarsi nel rispettare gli impeg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6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stringersi ad un uso del tempo essenziale e finalizzato (</a:t>
            </a: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uso anticipatorio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>
              <a:lnSpc>
                <a:spcPct val="16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erificare poi la propria motivazione reale e gli obiettivi prioritari (</a:t>
            </a: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uso successivo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rinvi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501880" y="790560"/>
            <a:ext cx="440388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>
              <a:lnSpc>
                <a:spcPct val="100000"/>
              </a:lnSpc>
              <a:spcAft>
                <a:spcPts val="2401"/>
              </a:spcAft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evita rinvii non consapevol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279360" indent="-279360">
              <a:lnSpc>
                <a:spcPct val="100000"/>
              </a:lnSpc>
              <a:spcAft>
                <a:spcPts val="2401"/>
              </a:spcAft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evita rinvii generici e dimenticanz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279360" indent="-279360">
              <a:lnSpc>
                <a:spcPct val="100000"/>
              </a:lnSpc>
              <a:spcAft>
                <a:spcPts val="2401"/>
              </a:spcAft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consente un efficace ancoraggio mnemonic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279360" indent="-279360">
              <a:lnSpc>
                <a:spcPct val="100000"/>
              </a:lnSpc>
              <a:spcAft>
                <a:spcPts val="2401"/>
              </a:spcAft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evita di cedere passivamente ad urgenze non real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279360" indent="-279360">
              <a:lnSpc>
                <a:spcPct val="100000"/>
              </a:lnSpc>
              <a:spcAft>
                <a:spcPts val="2401"/>
              </a:spcAft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evita di riprendere totalmente il problema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622440" y="941400"/>
            <a:ext cx="4402080" cy="82548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ISSA IMPEGNI CON SCAD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622440" y="1938240"/>
            <a:ext cx="4402080" cy="82548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 RINVII FISSA SUBITO QUANDO RIPR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622440" y="2997360"/>
            <a:ext cx="4402080" cy="82548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NVIA SOLO DOPO AVER FATTO QUALCOSA SUB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622440" y="4005360"/>
            <a:ext cx="4402080" cy="119124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 RINVII PER UN UNRGENZA, ANALIZZA POI IL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"/>
          <p:cNvSpPr/>
          <p:nvPr/>
        </p:nvSpPr>
        <p:spPr>
          <a:xfrm>
            <a:off x="622440" y="5373720"/>
            <a:ext cx="4402080" cy="82548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NVIA SE HAI VERIFICATO CHE NON PUOI DELEG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egnaposto numero diapositiva 9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C381-069B-41C7-92A4-921829DD9A9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caratteristiche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36120" y="921960"/>
            <a:ext cx="842004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NVARIABIL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muove con cadenza fissa predeterminata. Il tempo non vola, ne si trascina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UNIVERSAL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é equamente distribuito. Ciascuno ha la sua parte uguale agli altr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NON IMMAGAZZINABIL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può essere accantonat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07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9CB6-AF29-480A-89F4-E8C915E3000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azionalità ed emotività nel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71040" y="1107720"/>
            <a:ext cx="8696520" cy="126180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LA LETTURA RAZIONALE NON ESAURISCE IL PROBLEMA DELL’USO DEL TEMP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73" name="Rectangle 1028"/>
          <p:cNvSpPr/>
          <p:nvPr/>
        </p:nvSpPr>
        <p:spPr>
          <a:xfrm>
            <a:off x="617400" y="2584440"/>
            <a:ext cx="8804520" cy="126252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LA SPINTA EMOTIVA ESERCITATA DALLE NOSTRE REALI MOTIVAZIONI CONDIZIONA LE NOSTRE 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029"/>
          <p:cNvSpPr/>
          <p:nvPr/>
        </p:nvSpPr>
        <p:spPr>
          <a:xfrm>
            <a:off x="936720" y="4167360"/>
            <a:ext cx="81676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OCCORRE ATTIVARE UNA COMUNICAZIONE DIRETTA FRA SCELTE RAZIONALI E SPINTE EMOTIVE CHE LE RENDA PROGRESSIVAMENTE COMPATI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F997-0E62-4C0C-BE36-3D75824D1E2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VERIFICA DEL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61560" y="907560"/>
            <a:ext cx="7807320" cy="21243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txBody>
          <a:bodyPr anchor="t">
            <a:normAutofit/>
          </a:bodyPr>
          <a:p>
            <a:pPr marL="279360" indent="-279360">
              <a:lnSpc>
                <a:spcPct val="160000"/>
              </a:lnSpc>
              <a:spcBef>
                <a:spcPts val="49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ESPLICITARE E DICHIARARE A SE STESSI LE VERIFICHE MOTIVAZIONALI</a:t>
            </a:r>
            <a:endParaRPr b="0" lang="en-US" sz="2000" spc="-1" strike="noStrike">
              <a:solidFill>
                <a:srgbClr val="1b587c"/>
              </a:solidFill>
              <a:latin typeface="Century Gothic"/>
            </a:endParaRPr>
          </a:p>
          <a:p>
            <a:pPr marL="279360" indent="-279360">
              <a:lnSpc>
                <a:spcPct val="160000"/>
              </a:lnSpc>
              <a:spcBef>
                <a:spcPts val="49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ESPLICITARE E DICHIARARE A SE STESSI LE VERIFICHE STRUMENTALI</a:t>
            </a:r>
            <a:endParaRPr b="0" lang="en-US" sz="20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78" name="Text Box 2053"/>
          <p:cNvSpPr/>
          <p:nvPr/>
        </p:nvSpPr>
        <p:spPr>
          <a:xfrm>
            <a:off x="550800" y="3086280"/>
            <a:ext cx="2641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IPOTE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054"/>
          <p:cNvSpPr/>
          <p:nvPr/>
        </p:nvSpPr>
        <p:spPr>
          <a:xfrm>
            <a:off x="988920" y="3451320"/>
            <a:ext cx="7761240" cy="27849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Più ti costringi ad esplicitare l’USO REALE del temp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Più il tuo inconscio emotivo si trova spinto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499"/>
              </a:spcBef>
              <a:buClr>
                <a:srgbClr val="6b9f25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PRENDERE ATTO DELLE DISFUN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499"/>
              </a:spcBef>
              <a:buClr>
                <a:srgbClr val="6b9f25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APRIRE LO SPAZIO A TENT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499"/>
              </a:spcBef>
              <a:buClr>
                <a:srgbClr val="6b9f25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ACCETTARE LA TUA IDENTITA’ RE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A706-072C-43AE-8652-55CEE35A92A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Processo nelle verifiche nel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45840" y="980640"/>
            <a:ext cx="89154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PIANIFICA E ORGANIZZA IL TEMPO IN MODO ESPLICIT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AUTOCONTROLLO SULL’USO REALE DEL TEMPO RISPETTO AI PIAN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FAI LA VERIFICA MOTIVAZIONALE ESPLICITA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DENTIFICA MICROINTERVENTI SPECIFIC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RICOMINCIA DALL’AUTOCONTROLL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83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924C-F8AE-4556-8726-0D75C229007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ivelli di verifica nel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04880" y="1003320"/>
            <a:ext cx="86947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LA CORREZIONE DEI PROPRI SLOGANS SUL TEMP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L’USO DI UN ANTIFURTO SPECIFIC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LA CACCIA AD UN LADRO SPECIFIC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L CONTROLLO SU UNA SITUAZIONE GESTIONALE SPECIFICA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L CONTROLLO SU UN PERIODO LIMITAT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L CONTROLLO DEI PIANI,  DEI PROGRAMMI, DELL’AGENDA, ECC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86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1854-4084-445E-AC3E-D674834506F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rrezione degli slogans su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8" name="Text Box 1029"/>
          <p:cNvSpPr/>
          <p:nvPr/>
        </p:nvSpPr>
        <p:spPr>
          <a:xfrm>
            <a:off x="1517760" y="131112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30"/>
          <p:cNvSpPr/>
          <p:nvPr/>
        </p:nvSpPr>
        <p:spPr>
          <a:xfrm>
            <a:off x="631800" y="907920"/>
            <a:ext cx="89154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FRASI FATTE CON CUI CI NASCONDIAMO L’USO REALE DEL TEMPO O SCARICHIAMO ALL’ESTERNO LE CAUSE DEI FURTI DI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31"/>
          <p:cNvSpPr/>
          <p:nvPr/>
        </p:nvSpPr>
        <p:spPr>
          <a:xfrm>
            <a:off x="709560" y="2673360"/>
            <a:ext cx="43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NON HO AVUTO TEMPO per far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32"/>
          <p:cNvSpPr/>
          <p:nvPr/>
        </p:nvSpPr>
        <p:spPr>
          <a:xfrm>
            <a:off x="5613480" y="2421000"/>
            <a:ext cx="363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N QUANTO HO RITENUTO PIU’ IMPORTANTE FAR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033"/>
          <p:cNvSpPr/>
          <p:nvPr/>
        </p:nvSpPr>
        <p:spPr>
          <a:xfrm>
            <a:off x="709560" y="4033800"/>
            <a:ext cx="43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HO PERDUTO DEL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34"/>
          <p:cNvSpPr/>
          <p:nvPr/>
        </p:nvSpPr>
        <p:spPr>
          <a:xfrm>
            <a:off x="5613480" y="3760920"/>
            <a:ext cx="40194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NEL FARE X PERCHE’ MI SONO MESSO A FARE Y </a:t>
            </a: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(che è diventato priorit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035"/>
          <p:cNvSpPr/>
          <p:nvPr/>
        </p:nvSpPr>
        <p:spPr>
          <a:xfrm>
            <a:off x="679320" y="5157720"/>
            <a:ext cx="9026640" cy="82548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OCCORRE COSTRINGERE  SE STESSI A COMPLETARE LE FRASI PER ESPLICITARE LA VERIFICA MOTIVA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BE88-1D43-4B55-B5F3-AEA5F9C6910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uso di un antifurto specific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97" name="Text Box 2051"/>
          <p:cNvSpPr/>
          <p:nvPr/>
        </p:nvSpPr>
        <p:spPr>
          <a:xfrm>
            <a:off x="1517760" y="131112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52"/>
          <p:cNvSpPr/>
          <p:nvPr/>
        </p:nvSpPr>
        <p:spPr>
          <a:xfrm>
            <a:off x="646200" y="1425600"/>
            <a:ext cx="89154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ctr">
              <a:spcBef>
                <a:spcPts val="2999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DENTIFICA UNO SPECIFICO ANTIFURTO E SCRIV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999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ANNOTA IMPEGNI PRECISI PER UTILIZZARLO</a:t>
            </a:r>
            <a:br>
              <a:rPr sz="2400"/>
            </a:b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(con chi, quan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999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FORZATI DI ATTIVARE GLI IMPEGNI rilevando successi ed insuc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999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TRAI LE CONCLUSIONI: QUANDO E CON CHI E’ U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999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ELABORA NUOVI ANTIFURTO PER LE SITUAZIONI DI INEFFICACIA E RICOMI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058"/>
          <p:cNvSpPr/>
          <p:nvPr/>
        </p:nvSpPr>
        <p:spPr>
          <a:xfrm>
            <a:off x="4365720" y="90792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PRO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384F-219D-4BB8-A47C-A8CAE40B9CB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caccia ad un ladro specific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2" name="Text Box 1027"/>
          <p:cNvSpPr/>
          <p:nvPr/>
        </p:nvSpPr>
        <p:spPr>
          <a:xfrm>
            <a:off x="1517760" y="131112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028"/>
          <p:cNvSpPr/>
          <p:nvPr/>
        </p:nvSpPr>
        <p:spPr>
          <a:xfrm>
            <a:off x="631800" y="1341360"/>
            <a:ext cx="907416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IDENTIFICA UNO SPECIFICO LADRO DI TEM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INDICA L’OBIETTIVO DELLA CACCIA IN TERMINI POSITIVI (cosa vuoi ottenere non cosa vuoi evit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INDICA I CRITERI OPERATIVI PER VERIFICARE IL SUCCESSO: (cosa deve accadere in concreto perché il il ladro sia elimina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INDICA I PROBLEMI CHE IL LADRO HA CREATO ED I VANTAGGI CHE OTTERRAI ELIMINAND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INDICA GLI ANTIFURTO CHE INTENDI ATTIV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FISSATI IMPEGNI CON SCADENZE DI VERI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VERIFICA E SOTTOLINEA I RISULTATI RAGGIUNTI ED I MIGLIORAMENTI DA 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29"/>
          <p:cNvSpPr/>
          <p:nvPr/>
        </p:nvSpPr>
        <p:spPr>
          <a:xfrm>
            <a:off x="4260960" y="90792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PRO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80A8-0D84-42D7-B24C-9BFCD067448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ntrollo su una situazione gestionale specific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7" name="Text Box 3075"/>
          <p:cNvSpPr/>
          <p:nvPr/>
        </p:nvSpPr>
        <p:spPr>
          <a:xfrm>
            <a:off x="1517760" y="131112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076"/>
          <p:cNvSpPr/>
          <p:nvPr/>
        </p:nvSpPr>
        <p:spPr>
          <a:xfrm>
            <a:off x="631800" y="1306440"/>
            <a:ext cx="8943840" cy="50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DEFINIRE UN ORDINE DEL GIORNO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 definire argomenti e obiettivi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definire i tempi dedicati in base all’import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GESTIRE SPONTANEAMENTE LA RIUN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VERIFICARE L’USO REALE DEL TEMPO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obiettivi raggiunti e non raggiunti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rispetto dei tempi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motivazioni sottostanti le differenze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bisogni realmente soddisfatti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grado d’importanza realmente attribuito alle questioni in discus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18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RIDEFINIRE L’ODG PER UNA FUTURA RIUNIONE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definire argomenti e obiettivi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definire i tempi dedicati in base all’importanza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definire gli antifurto per evitare scostamenti indesider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077"/>
          <p:cNvSpPr/>
          <p:nvPr/>
        </p:nvSpPr>
        <p:spPr>
          <a:xfrm>
            <a:off x="3406680" y="90792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PROCESSO PER RIUN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1CCD-F8D5-41BC-8C64-24DEF9EC1BA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ntrollo su un periodo limita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12" name="Text Box 3075"/>
          <p:cNvSpPr/>
          <p:nvPr/>
        </p:nvSpPr>
        <p:spPr>
          <a:xfrm>
            <a:off x="1517760" y="131112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076"/>
          <p:cNvSpPr/>
          <p:nvPr/>
        </p:nvSpPr>
        <p:spPr>
          <a:xfrm>
            <a:off x="631800" y="1484280"/>
            <a:ext cx="894384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 algn="ctr">
              <a:spcBef>
                <a:spcPts val="25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Descrivere OBIETTIVI, ATTIVITA’ PRINCIPALI (PIANO) del periodo più ampio in cui la settimana tipo è inse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5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A MONTE, DESCRIVERE COME SI PENSA DI UTILIZZARE IL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5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AGIRE SPONTANEAMENTE DURANTE LA SETTI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5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A VALLE, DESCRIVERE COME SI E’ UTILIZZATO IL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5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CONFRONTARE IL PIANO DI LAVORO CON IL CONSUN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5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FORMULARE ANTIFURTI PER LA SETTIMANA SUCCESSIVA </a:t>
            </a:r>
            <a:br>
              <a:rPr sz="2000"/>
            </a:b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(pochi e dettaglia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 algn="ctr">
              <a:spcBef>
                <a:spcPts val="2500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OSSERVARE L’ANDAMENTO DELLA SETTIMANA SUCCESS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077"/>
          <p:cNvSpPr/>
          <p:nvPr/>
        </p:nvSpPr>
        <p:spPr>
          <a:xfrm>
            <a:off x="2102760" y="836640"/>
            <a:ext cx="58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PROCESSO SU UNA SETTIMANA 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egnaposto numero diapositiva 8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7577-CE01-443B-8FAC-F7610008D40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controllo di pianific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1517760" y="131112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770040" y="1055520"/>
            <a:ext cx="836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’ UN CONTROLLO DI COERENZA SU OBIETTIVI E RESPONSABILITA’ STRATEG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1215360" y="1979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UE MO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"/>
          <p:cNvSpPr/>
          <p:nvPr/>
        </p:nvSpPr>
        <p:spPr>
          <a:xfrm>
            <a:off x="660240" y="2565360"/>
            <a:ext cx="8498160" cy="119124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E SI E’ FATTA UNA PIANIFICAZIONE A MONTE, VALUTARE IL TEMPO EFFETTIVAMENTE ASSEGNATO RISPETTO ALLA LOGICA 80% -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660240" y="3990960"/>
            <a:ext cx="8498160" cy="19227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E NON SI E’ FATTA UNA PIANIFICAZIONE A MONTE, VALUTARE L’IMPORTANZA DEGLI OBIETTIVI IN BASE AL TEMPO EFFETTIVAMENTE ASSEGNATO VERIFICANDONE LA COERENZA RISPETTO ALLA LOGICA 80% -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egnaposto numero diapositiva 8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CDD0-BF81-4B22-8440-1A5929D7E91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9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81B5-F4C9-484A-9B1A-18EB28717A6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1050840" y="1052640"/>
            <a:ext cx="7813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Tempo = Risorsa Limit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Cose che si fanno real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4581360" y="2567160"/>
            <a:ext cx="752760" cy="790560"/>
          </a:xfrm>
          <a:prstGeom prst="downArrow">
            <a:avLst>
              <a:gd name="adj1" fmla="val 50000"/>
              <a:gd name="adj2" fmla="val 109567"/>
            </a:avLst>
          </a:prstGeom>
          <a:solidFill>
            <a:srgbClr val="ffffff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660240" y="3486240"/>
            <a:ext cx="85852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Cose da fare 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i="1" lang="it-IT" sz="3200" spc="-1" strike="noStrike">
                <a:solidFill>
                  <a:srgbClr val="1b587c"/>
                </a:solidFill>
                <a:latin typeface="Arial"/>
              </a:rPr>
              <a:t>INFIN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920880" y="4869000"/>
            <a:ext cx="819936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scelta delle attività da collocare dentro al nostro tempo e il come collocarle determina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SCELTA-DECISION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31440" y="980640"/>
            <a:ext cx="89154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FACCIO O NON FACCI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FACCIO IO O LASCIO FARE AD ALTR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FACCIO SUBITO O FARO’ DOP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FACCIO IN PIU’ O MENO TEMP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984240" y="3141720"/>
            <a:ext cx="8145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raverso questo processo continu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SCELTA-DECISIONE”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merge il nost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RUOLO RE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ll’organizzazione del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3A5A-F51E-42F0-96F1-4612D241653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so o gestione del tempo?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0160" y="980640"/>
            <a:ext cx="89154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l tempo non si gestisce: si utilizza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Noi possiamo gestire le attività da svolgere all’interno del tempo a disposizion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attività a cui dedico il mio tempo é per me prioritaria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281240" y="3951360"/>
            <a:ext cx="3257640" cy="67860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a per una sc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AUTODETERMI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498760" y="4865760"/>
            <a:ext cx="5761440" cy="67860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a per una sc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DETERMINATA DA ALTRI/VINCO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 flipH="1">
            <a:off x="3301920" y="3429000"/>
            <a:ext cx="881280" cy="285840"/>
          </a:xfrm>
          <a:prstGeom prst="line">
            <a:avLst/>
          </a:prstGeom>
          <a:ln w="28440">
            <a:solidFill>
              <a:srgbClr val="f07f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7"/>
          <p:cNvSpPr/>
          <p:nvPr/>
        </p:nvSpPr>
        <p:spPr>
          <a:xfrm>
            <a:off x="6494400" y="3429000"/>
            <a:ext cx="770040" cy="1257480"/>
          </a:xfrm>
          <a:prstGeom prst="line">
            <a:avLst/>
          </a:prstGeom>
          <a:ln w="28440">
            <a:solidFill>
              <a:srgbClr val="f07f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egnaposto numero diapositiva 9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C357-B68E-4550-8F7C-9A0591429B1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so o gestione del tempo?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09200" y="1052640"/>
            <a:ext cx="84200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Tempo gestito da altri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: per deleghe,procedure,urgenze di altri,ordin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Tempo condizionato da altri e da no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Tempo autodeterminat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1b587c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1b587c"/>
                </a:solidFill>
                <a:latin typeface="Arial"/>
              </a:rPr>
              <a:t>I vincoli e gli influenzamenti esterni non vanno subiti;</a:t>
            </a:r>
            <a:br>
              <a:rPr sz="2400"/>
            </a:br>
            <a:r>
              <a:rPr b="0" i="1" lang="it-IT" sz="2400" spc="-1" strike="noStrike">
                <a:solidFill>
                  <a:srgbClr val="1b587c"/>
                </a:solidFill>
                <a:latin typeface="Arial"/>
              </a:rPr>
              <a:t>lo spazio di autodeterminazione va difeso ed allargato !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27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1782-08C7-4634-B76C-C7AA015AFD1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Desideri e uso reale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29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A736-6335-4037-99C8-30FDEAC4EDC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990720" y="1052640"/>
            <a:ext cx="792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La differenza tra uso del tempo reale e uso desiderato è sempre determinata 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631800" y="3213000"/>
            <a:ext cx="1743120" cy="219240"/>
          </a:xfrm>
          <a:prstGeom prst="rightArrow">
            <a:avLst>
              <a:gd name="adj1" fmla="val 50000"/>
              <a:gd name="adj2" fmla="val 190560"/>
            </a:avLst>
          </a:prstGeom>
          <a:solidFill>
            <a:srgbClr val="ffffff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631800" y="5084640"/>
            <a:ext cx="1743120" cy="219240"/>
          </a:xfrm>
          <a:prstGeom prst="rightArrow">
            <a:avLst>
              <a:gd name="adj1" fmla="val 50000"/>
              <a:gd name="adj2" fmla="val 190560"/>
            </a:avLst>
          </a:prstGeom>
          <a:solidFill>
            <a:srgbClr val="ffffff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2824200" y="3029040"/>
            <a:ext cx="693432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1b587c"/>
                </a:solidFill>
                <a:uFillTx/>
                <a:latin typeface="Arial"/>
              </a:rPr>
              <a:t>crisi motivazionale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prevalere di bisogni ritenuti meno rilevanti,e/o la paura di non possedere le risorse adeg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2824200" y="4724280"/>
            <a:ext cx="64944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1b587c"/>
                </a:solidFill>
                <a:uFillTx/>
                <a:latin typeface="Arial"/>
              </a:rPr>
              <a:t>crisi strumentale</a:t>
            </a:r>
            <a:r>
              <a:rPr b="0" lang="it-IT" sz="4400" spc="-1" strike="noStrike">
                <a:solidFill>
                  <a:srgbClr val="1b587c"/>
                </a:solidFill>
                <a:latin typeface="Arial"/>
              </a:rPr>
              <a:t>:</a:t>
            </a:r>
            <a:br>
              <a:rPr sz="4400"/>
            </a:b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non conoscenza tecnica di strumenti oper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34:11Z</dcterms:created>
  <dc:creator>Gianmarco Falzi</dc:creator>
  <dc:description/>
  <dc:language>en-US</dc:language>
  <cp:lastModifiedBy>Federica Robotti</cp:lastModifiedBy>
  <dcterms:modified xsi:type="dcterms:W3CDTF">2014-10-21T07:37:48Z</dcterms:modified>
  <cp:revision>114</cp:revision>
  <dc:subject/>
  <dc:title>Diapositiva 1</dc:title>
</cp:coreProperties>
</file>