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37720" y="722160"/>
            <a:ext cx="521172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FCDFB93-B1F1-4B86-AACE-E6286E48999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AD9B3E3-E7A2-421E-BBF8-2E29311509D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7E39A81-FA81-4CAA-A0E3-0A2C933923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8BFF4C7-0C8C-4098-B9B8-8124FBC395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E5B15C6-E983-4530-A6E0-F29E72556EE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E75D0B0-BDDD-4D76-8629-284704DBB98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CF5A7BD-0E2A-4B93-81FF-495F74A5AEA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1656B9B-57AD-4956-B9EE-54C6636155E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BA49539-F924-4554-A226-7CF7B4A0605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F50597C-CE0E-4EF8-9C05-D1A49626C3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A42234-A8E0-4EBF-9B64-5D66D1F745C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11720A-7E51-47E2-ABC5-93A100CB81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712A508-97B1-47E0-929C-E591872AE43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25AD9CF-D1E2-4E66-A914-8C885F1335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AE6F81A-BC02-4BE8-A338-CBE0FE968BD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8B062C7-7B78-42F0-B2B2-5872EC0C5A5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38080" y="722160"/>
            <a:ext cx="5211720" cy="360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egnaposto numero diapositiva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DFBEE5D-F0DC-41DA-B98D-29A065EADD9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F09-81D5-4AA6-ACD8-ED7FBC09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819-1E8F-4D01-80ED-D4A1A764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D58-1DEC-41A7-80DD-C3C67D58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584-040D-4778-9743-1D02EB2E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59C-ED4C-4ABD-B929-158C3E28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D25-833E-4D03-BDF3-11879D03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807-8F73-4E06-8FDD-57753BA5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827-4FAB-4131-8B4D-0AE7F8F1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99A-14FB-40B1-913C-BBC5E6B2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FB0-8D07-4212-97FB-4CD3E988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0A6-53B3-44D5-BDE3-E4066866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78E-C196-45D2-861D-F1F3549D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694D-C0D2-49DB-BA6F-E492E7956C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GESTIONE DELLE RIUN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3888720" y="57312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485600" y="1371600"/>
            <a:ext cx="458064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VENTI TESI A FORNI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FORM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IARIFIC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57200" y="4008600"/>
            <a:ext cx="853452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RRORE PIU’ COMU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RUPPO IPER PRODU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VERDOSE D’INFORMAZIONI/CONTRIB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CO SPAZIO PER FASE ELABORATIVA/DECIS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889800" y="57312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SIS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4307400" y="1371600"/>
            <a:ext cx="523872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PACITA’ DI MEDI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PACITA’ DI COINVOLG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PACITA’ D’INTERG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57200" y="4008600"/>
            <a:ext cx="853452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RRORE PIU’ COMU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RUPPO ASSISTEN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ENTRALITA’ DEL “VOLERSI BENE” A SCAPITO DI PRODUZIONE, ELABORAZIONE, DECISIONE E DEL RISULTATO F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026"/>
          <p:cNvSpPr/>
          <p:nvPr/>
        </p:nvSpPr>
        <p:spPr>
          <a:xfrm>
            <a:off x="3888720" y="57312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DIVID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27"/>
          <p:cNvSpPr/>
          <p:nvPr/>
        </p:nvSpPr>
        <p:spPr>
          <a:xfrm>
            <a:off x="4311360" y="1371600"/>
            <a:ext cx="43531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UTO AFFE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FLUENZA/PERSUA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28"/>
          <p:cNvSpPr/>
          <p:nvPr/>
        </p:nvSpPr>
        <p:spPr>
          <a:xfrm>
            <a:off x="457200" y="4008600"/>
            <a:ext cx="853452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RRORE PIU’ COMU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RUPPO INE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GGRESSIVITA’, COMPETITIVITA’, AUTORITARISMO, ATTITUDINE A CREARE OSTA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636720" y="68580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CON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09480" y="1523880"/>
            <a:ext cx="8686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UNE QUESTIONI PRELIMINA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PUNTUALITA’ D’IN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ORRETTA GESTIONE DELL’ORDINE DEGLI ARGOME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IL PIU’ IMPORTANTE ALL’INIZ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ORRETTA GESTIONE DEL TEMPO TRA I VARI ARGOMENTI (ASSEGNAZIONE IN FUNZIONE DELL’IMPORTANZA RISPETTO AGLI OBIETTI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VERBALE (DA DEFINIRE SEMPRE E CONTENENTE LE DECISIONI PRESE, GLI IMPEGNI ASSUNTI DAI PARTECIPANTI, EVENTUALMENTE I VARI PUNTI DI VISTA ESPRES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AGGIORNAMENTI (DA DEFINIRE POSSIBILMENTE IN CORSO DI RIUNIONE SENZA RIMAND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46760" y="457200"/>
            <a:ext cx="537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CONDUZIONE DI UNA RIUN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SCAMBIO D’INFORM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1371600"/>
            <a:ext cx="86868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COMPITI DEL CONDUTTO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PORRE I TEMI IN MODO CIRCOSCRITTO E F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ORDINARE LA DISCUSSI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RE E TOGLIERE LA PAR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VITARE ALLA SINTESI CHI SI DILUN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CONSENTIRE DIVAG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INNESCARE I CONFLI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NERE L’AGENDA DELLA RIUN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LLEGARE E RIEPILOGARE I VARI ARGO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STIRE IL CONFLITTO TRA PRODUZIONE E ASSIST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IDENZIARE I COLLEGA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EPILOG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246760" y="457200"/>
            <a:ext cx="537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CONDUZIONE DI UNA RIUN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CIS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09480" y="1371600"/>
            <a:ext cx="86868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COMPITI DEL CONDUTTO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RETTA E CIRCOSCRITTA IMPOSTAZIONE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IVIDUAZIONE DI OBIETTIVI, VINCOLI, RISORSE ALTER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NCIARE IL PRIMO GIRO DI PAR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DURRE LA DISCUSSIONE SEGUENTE ED IN PARTICOL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RANTIRE A TUTTI LA POSSIBILITA’ DI ESPRIME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STIRE I TEMPI D’INTERV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LOCCARE GLI ATTACCHI PERS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ORDARE GLI OBIETTIVI DA RAGGIUNG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STIRE IL CONFLITTO TRA PRODUZIONE E ASSIST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COMMENTARE I CONTRIBUTI ALTRUI (SE CHI CONDUCE E’ CAPO GERARCH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050"/>
          <p:cNvSpPr/>
          <p:nvPr/>
        </p:nvSpPr>
        <p:spPr>
          <a:xfrm>
            <a:off x="3754800" y="76212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CLU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051"/>
          <p:cNvSpPr/>
          <p:nvPr/>
        </p:nvSpPr>
        <p:spPr>
          <a:xfrm>
            <a:off x="609480" y="2193840"/>
            <a:ext cx="868680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EPILOGO DELLE DECISIONI PRESE E DEGLI IMPEGNI ASSUNTI DAI PRES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FINIZIONE DI EVENTUALI AGGIORNAMENTI O RIUNIONI SUCCE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AI PARTECIPANTI DEL VERB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ED BACK SUCCESSIVO SUI PARTECIP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2895480" y="2508120"/>
            <a:ext cx="403884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formativ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scambio d’informazion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cisiona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gozia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tivaziona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86000" y="1828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TIPOLOG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514600" y="838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GESTIONE DELLE RIUN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14600" y="838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GESTIONE DELLE RIUN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666880" y="1828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FASI DI UNA RIUN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14400" y="2895480"/>
            <a:ext cx="800100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vocazione e ordine del gi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pa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clu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848960" y="1219320"/>
            <a:ext cx="62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VOCAZIONE E ORDINE DEL GI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09480" y="2879640"/>
            <a:ext cx="868680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VOCAZIONE DI TUTTE LE PERSONE INTERESSATE ISTITUZION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VOCAZIONE “A CHIAMATA” PER INTERVENTI SU TEMI PARTICO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8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SPETTO DEI TEMPI DI PREPARAZIONE PER I PARTECIPANTI IN OCCASIONE DELL’INVIO DELLA CONVO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848960" y="990720"/>
            <a:ext cx="62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VOCAZIONE E ORDINE DEL GI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09480" y="2209680"/>
            <a:ext cx="8610840" cy="40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RDINE DEL GIORNO CONTEN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RA D’INIZIO E FINE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SCRIZIONE DETTAGLIATA DEI TEMI TRATTATI INDICANDO EVENTUALI RICHIESTE DI CONTRIBUTI SPECIFICI DA PARTE DEI PARTECIP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MING ED AUTORE DI OGNI INTERVENTO PREVI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026"/>
          <p:cNvSpPr/>
          <p:nvPr/>
        </p:nvSpPr>
        <p:spPr>
          <a:xfrm>
            <a:off x="3661200" y="76212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PA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7"/>
          <p:cNvSpPr/>
          <p:nvPr/>
        </p:nvSpPr>
        <p:spPr>
          <a:xfrm>
            <a:off x="609480" y="2193840"/>
            <a:ext cx="86868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VIDUAZIONE DEGLI OBIE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VIDUAZIONE DELLE CRITIC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PERIMENTO DEL MATERIALE INFORMATIVO NECES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HIESTA PER TEMPO DI DOCUMENTAZIONE DA PARTE DEI PARTECIPANTI ATTRAVERSO L’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PARAZIONE DELLA PRESENTAZIONE O DEL PROPRIO INTERVENTO PER CONDUTTORE E PARTECIP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026960" y="76212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09480" y="1523880"/>
            <a:ext cx="8686800" cy="49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QUESTA FASE IL CONDUTTORE DE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CARE SCOPI, ARGOMENTI, TEMPI E METODO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CARE LA NATURA DI OGNI SINGOLO CONTRIBUTO ISCRITTO ALL’ORDINE DEL GIORNO, CHIARENDO LE ASPETTATIVE IN TERMINI DI RISULTATI ATTESI DALLA RIUNIONE SUI VARI ARGO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EGNARE UN TEMPO STIMATO A CIASCUN ARGOMENTO INDICANDO CONTRIBUTI, RISORSE COINVOLTE, METODO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026960" y="76212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523880"/>
            <a:ext cx="868680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QUESTO MODO IL CONDUTT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A MESSAGGI AI CONVENUTI CIRCA IL SUO STILE DIREZIONALE E LE SUE ASPETTATIVE CIRCA 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ENTE AI PARTECIPANTI DI “ENTRARE IN CLIMA” FACILITANDONE IL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ENTE AI PARTECIPANTI DI AUTOREGOLARSI NELLE VARIE FASI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DE FACILITATI I SUOI INTERVENTI SUCCESSIVI DI ORGANIZZAZIONE DEI LAVORI (ES. DARE I TEMPI D’INTERVENTO) IN FUNZIONE DI QUANTO STABILITO ALL’INIZ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2819520" y="609480"/>
          <a:ext cx="4282920" cy="570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609480"/>
                    <a:ext cx="4282920" cy="57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11:58:16Z</dcterms:created>
  <dc:creator>Gianluca Falzi</dc:creator>
  <dc:description/>
  <dc:language>en-US</dc:language>
  <cp:lastModifiedBy>Gianmarco Falzi</cp:lastModifiedBy>
  <cp:lastPrinted>2000-06-21T15:20:48Z</cp:lastPrinted>
  <dcterms:modified xsi:type="dcterms:W3CDTF">2012-02-15T11:24:29Z</dcterms:modified>
  <cp:revision>33</cp:revision>
  <dc:subject/>
  <dc:title>Nessun titolo diapositiva</dc:title>
</cp:coreProperties>
</file>