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move the slid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57F8-C8AD-4291-BDEF-BB04405BDA5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9ED6-3117-434C-A8C1-270C6D20F60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D5B9-E3D0-4EF6-A47E-62CFCE465A6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B49F-861A-4C39-82C8-570F73E3FE3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2C82-168D-4213-84DA-10DD4613278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6071-BA79-4B19-B29B-5D060987FEF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4A38-DA18-4312-8A6A-8E84AB7C69A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7CE7-611A-4E47-834D-C3C5E21B2AD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8DDAA-1BCF-4F6E-8B46-DFC412BC95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10A18-5975-481A-ADA7-B73877D9C2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87F8B-5B7A-4120-98E3-2134D15081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AEFE2-0571-4893-9708-588173639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EFCA0-58A4-47E5-92DB-A31166DF3A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B6098-CD2A-4A9C-BE8B-E58C6E6C908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AD739-2BB9-4306-A557-33840DD9747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23FCE-159B-4285-B577-61D07B5E654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769BB-2C62-47C0-8963-2CA6C3B1998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6C02D-3289-4E91-8B33-5F317302A8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0B2EA-8B16-401E-B639-E08A5B976BD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527CB-46F2-466E-946A-FD9623CBF03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06869-6ED1-4680-93AB-91C2A69F58E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32DBC-5C62-4BED-8D1B-96F7A83A221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77D12-ABFB-4322-B7A8-B95BC790849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50CAD-928A-4375-8C91-A5137BDDA8B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A700C-F271-4322-8E23-A4286536044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BA402-3D04-45B3-9FC9-3A9CC56F89E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DAFA-2399-49B1-B33F-9780627F19A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ACD1-FB2B-4D72-8C1F-F0150672B5E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190C-865F-471F-BAE5-04719507F9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3CDAF-2306-454F-9131-644A06205AC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EAE5-437F-44C9-8BBE-7A42C571199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669D-E605-400C-88CA-EB5430AC78F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BDED-A97F-40C4-AC43-2D6DC09E40D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F1F7-51B5-4D33-9406-94643331123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4AFE-F459-445E-912D-B5100FDD7BF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40A3-BB29-4E85-928D-3ECB831C1EB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CFC0-9A21-4514-8E46-EC42666CCD8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0A21-2637-4083-B5FA-3883AC93C19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A76B-A28F-4C97-B76E-B9F6D7B9778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5197B-7125-42D4-A59E-491A369E4B9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77010-BF8F-4A0C-BE8C-6F467497D64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44CC-4FD8-4489-9DAE-3BC863A0C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7ADA-DF0F-4BCD-9993-9F88FDD1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934B-FBBF-4E01-BD2D-24DBF871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DE1B-9747-4EB4-824A-A1479C1C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1656-7328-45C5-837A-2E92BF69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2A88-8801-4DF6-983F-EBC8AA32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8A01E-F37B-457E-BE4E-1077837C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FEEE-F68E-4B9C-B4F1-718BD803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0CEB-16CB-49EF-83F4-0C08679F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81423-A498-4701-ACF9-9A6ED822797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0DCA-2571-48CC-9DA4-149751E6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2527-625B-4281-814E-4CF4E8F5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4D46-897A-4B1E-8ADE-66108B5D2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63E00-E695-48AB-B5B0-6D9DFC51A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6F3AF-A0A8-47D9-B149-54DF8F24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03F5E-152E-4721-B75D-67DC6FC6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81F56-931F-4025-8B4B-8232EA1F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24831-430F-4BB7-9C1B-84527615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D5857-02E5-4645-B341-5789EF13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2B0E1-39BD-426C-99D0-289C14B3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FD172-BC10-477A-8513-5E77D691685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17BC1-F716-4790-AE3F-44E39CC8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37BAD-27CF-4B83-82E2-BC93FBB6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7A3BD-59B8-4826-B323-B6469E20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EAA8E-0415-4F95-AD66-8E400192E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1CC9C-57F9-4D5D-8F37-21A8B0B1C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DC0EA-AA1C-4188-9BE5-15EDC8321D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9102600" y="6350040"/>
            <a:ext cx="5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9f293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CEB0-636E-46B8-8780-A63CE375DE5D}" type="slidenum">
              <a:rPr b="0" lang="it-IT" sz="1400" spc="-1" strike="noStrike">
                <a:solidFill>
                  <a:srgbClr val="9f293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Immagine 4" descr="banner sopra.jpg"/>
          <p:cNvPicPr/>
          <p:nvPr/>
        </p:nvPicPr>
        <p:blipFill>
          <a:blip r:embed="rId2"/>
          <a:stretch/>
        </p:blipFill>
        <p:spPr>
          <a:xfrm>
            <a:off x="365040" y="369720"/>
            <a:ext cx="9221760" cy="1525680"/>
          </a:xfrm>
          <a:prstGeom prst="rect">
            <a:avLst/>
          </a:prstGeom>
          <a:ln w="0">
            <a:noFill/>
          </a:ln>
        </p:spPr>
      </p:pic>
      <p:sp>
        <p:nvSpPr>
          <p:cNvPr id="40" name="Rettangolo 6"/>
          <p:cNvSpPr/>
          <p:nvPr/>
        </p:nvSpPr>
        <p:spPr>
          <a:xfrm>
            <a:off x="309600" y="357120"/>
            <a:ext cx="9286920" cy="6143760"/>
          </a:xfrm>
          <a:prstGeom prst="rect">
            <a:avLst/>
          </a:prstGeom>
          <a:noFill/>
          <a:ln w="19080">
            <a:solidFill>
              <a:srgbClr val="84ac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Connettore 1 7"/>
          <p:cNvSpPr/>
          <p:nvPr/>
        </p:nvSpPr>
        <p:spPr>
          <a:xfrm>
            <a:off x="8382240" y="213480"/>
            <a:ext cx="1362600" cy="13651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Connettore 1 8"/>
          <p:cNvSpPr/>
          <p:nvPr/>
        </p:nvSpPr>
        <p:spPr>
          <a:xfrm>
            <a:off x="167040" y="5285520"/>
            <a:ext cx="1362960" cy="13651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asellaDiTesto 9"/>
          <p:cNvSpPr/>
          <p:nvPr/>
        </p:nvSpPr>
        <p:spPr>
          <a:xfrm>
            <a:off x="309600" y="6224760"/>
            <a:ext cx="357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1b587c"/>
                </a:solidFill>
                <a:latin typeface="Century Gothic"/>
              </a:rPr>
              <a:t>Consulente: Gianmarco Fal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asellaDiTesto 10"/>
          <p:cNvSpPr/>
          <p:nvPr/>
        </p:nvSpPr>
        <p:spPr>
          <a:xfrm>
            <a:off x="7167600" y="6215040"/>
            <a:ext cx="242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1b587c"/>
                </a:solidFill>
                <a:latin typeface="Century Gothic"/>
              </a:rPr>
              <a:t>www.personeorganizzazioni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ngolo ripiegato 4"/>
          <p:cNvSpPr/>
          <p:nvPr/>
        </p:nvSpPr>
        <p:spPr>
          <a:xfrm>
            <a:off x="9028080" y="6162840"/>
            <a:ext cx="577800" cy="577800"/>
          </a:xfrm>
          <a:prstGeom prst="foldedCorner">
            <a:avLst>
              <a:gd name="adj" fmla="val 42495"/>
            </a:avLst>
          </a:prstGeom>
          <a:solidFill>
            <a:srgbClr val="e3ded1"/>
          </a:solidFill>
          <a:ln w="1260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Immagine 4" descr="banner sopra.jpg"/>
          <p:cNvPicPr/>
          <p:nvPr/>
        </p:nvPicPr>
        <p:blipFill>
          <a:blip r:embed="rId2"/>
          <a:stretch/>
        </p:blipFill>
        <p:spPr>
          <a:xfrm>
            <a:off x="365040" y="369720"/>
            <a:ext cx="9221760" cy="1525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9f293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1D42-3635-4B49-A886-0537E6BCCFBB}" type="slidenum">
              <a:rPr b="0" lang="it-IT" sz="1400" spc="-1" strike="noStrike">
                <a:solidFill>
                  <a:srgbClr val="9f293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ngolo ripiegato 4"/>
          <p:cNvSpPr/>
          <p:nvPr/>
        </p:nvSpPr>
        <p:spPr>
          <a:xfrm>
            <a:off x="9028080" y="6162840"/>
            <a:ext cx="577800" cy="577800"/>
          </a:xfrm>
          <a:prstGeom prst="foldedCorner">
            <a:avLst>
              <a:gd name="adj" fmla="val 42495"/>
            </a:avLst>
          </a:prstGeom>
          <a:solidFill>
            <a:srgbClr val="e3ded1"/>
          </a:solidFill>
          <a:ln w="1260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onnettore 1 6"/>
          <p:cNvSpPr/>
          <p:nvPr/>
        </p:nvSpPr>
        <p:spPr>
          <a:xfrm>
            <a:off x="166680" y="785880"/>
            <a:ext cx="9286920" cy="1440"/>
          </a:xfrm>
          <a:prstGeom prst="line">
            <a:avLst/>
          </a:prstGeom>
          <a:ln w="936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onnettore 1 7"/>
          <p:cNvSpPr/>
          <p:nvPr/>
        </p:nvSpPr>
        <p:spPr>
          <a:xfrm>
            <a:off x="496800" y="285840"/>
            <a:ext cx="28800" cy="621504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uppo 10"/>
          <p:cNvGrpSpPr/>
          <p:nvPr/>
        </p:nvGrpSpPr>
        <p:grpSpPr>
          <a:xfrm>
            <a:off x="3916080" y="6357960"/>
            <a:ext cx="2394360" cy="450720"/>
            <a:chOff x="3916080" y="6357960"/>
            <a:chExt cx="2394360" cy="450720"/>
          </a:xfrm>
        </p:grpSpPr>
        <p:pic>
          <p:nvPicPr>
            <p:cNvPr id="128" name="Immagine 9" descr="solo logo sopra stretto.jpg"/>
            <p:cNvPicPr/>
            <p:nvPr/>
          </p:nvPicPr>
          <p:blipFill>
            <a:blip r:embed="rId2"/>
            <a:stretch/>
          </p:blipFill>
          <p:spPr>
            <a:xfrm>
              <a:off x="4800600" y="6357960"/>
              <a:ext cx="150984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CasellaDiTesto 10"/>
            <p:cNvSpPr/>
            <p:nvPr/>
          </p:nvSpPr>
          <p:spPr>
            <a:xfrm>
              <a:off x="3916080" y="6402240"/>
              <a:ext cx="112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1b587c"/>
                  </a:solidFill>
                  <a:latin typeface="Century Gothic"/>
                </a:rPr>
                <a:t>Realizzato 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3"/>
          </p:nvPr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9f293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90C0-AFCC-4769-8F9B-12673AEA724B}" type="slidenum">
              <a:rPr b="0" lang="it-IT" sz="1400" spc="-1" strike="noStrike">
                <a:solidFill>
                  <a:srgbClr val="9f293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4"/>
          </p:nvPr>
        </p:nvSpPr>
        <p:spPr>
          <a:xfrm>
            <a:off x="76968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9f293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2728-54D4-40CA-A8CC-10B4833D0672}" type="slidenum">
              <a:rPr b="0" lang="it-IT" sz="1400" spc="-1" strike="noStrike">
                <a:solidFill>
                  <a:srgbClr val="9f293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7"/>
          </p:nvPr>
        </p:nvSpPr>
        <p:spPr>
          <a:xfrm>
            <a:off x="76968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8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9"/>
          </p:nvPr>
        </p:nvSpPr>
        <p:spPr>
          <a:xfrm>
            <a:off x="9102600" y="6350040"/>
            <a:ext cx="5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9f293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5F69-28C3-42FC-BF43-6E02B9240378}" type="slidenum">
              <a:rPr b="0" lang="it-IT" sz="1400" spc="-1" strike="noStrike">
                <a:solidFill>
                  <a:srgbClr val="9f293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42680" y="2987640"/>
            <a:ext cx="8420040" cy="1470240"/>
          </a:xfrm>
          <a:prstGeom prst="rect">
            <a:avLst/>
          </a:prstGeom>
          <a:noFill/>
          <a:ln w="9360">
            <a:solidFill>
              <a:srgbClr val="1b587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f2936"/>
                </a:solidFill>
                <a:latin typeface="Century Gothic"/>
              </a:rPr>
              <a:t>L’utilizzo efficiente </a:t>
            </a:r>
            <a:br>
              <a:rPr sz="3600"/>
            </a:br>
            <a:r>
              <a:rPr b="1" lang="it-IT" sz="3600" spc="-1" strike="noStrike">
                <a:solidFill>
                  <a:srgbClr val="9f2936"/>
                </a:solidFill>
                <a:latin typeface="Century Gothic"/>
              </a:rPr>
              <a:t>del tempo di lavoro</a:t>
            </a:r>
            <a:endParaRPr b="1" lang="en-US" sz="36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85720" y="4743000"/>
            <a:ext cx="6933960" cy="97164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1b587c"/>
                </a:solidFill>
                <a:latin typeface="Century Gothic"/>
              </a:rPr>
              <a:t>Metodi e strumenti</a:t>
            </a:r>
            <a:endParaRPr b="0" lang="en-US" sz="28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Desideri ed uso reale del tem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36" name="Segnaposto numero diapositiva 6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6E6E-137B-4D13-BB71-3924370CC60D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1650960" y="1197000"/>
            <a:ext cx="6604200" cy="64116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1b587c"/>
                </a:solidFill>
                <a:latin typeface="Arial"/>
              </a:rPr>
              <a:t>crisi motivazion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550800" y="1825560"/>
            <a:ext cx="8694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richiede una verifica motivazionale al fine di diventare più consapevoli dei bisogni che sono veramente prioritari per sé e delle risorse di cui davvero si disp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1981080" y="4398840"/>
            <a:ext cx="5943600" cy="64116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1b587c"/>
                </a:solidFill>
                <a:latin typeface="Arial"/>
              </a:rPr>
              <a:t>crisi strument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439560" y="5141880"/>
            <a:ext cx="891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richiede una verifica dei “ladri di tempo” per attivare gli “antifurt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905040" y="836640"/>
            <a:ext cx="78152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72960" indent="-372960"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DIFESA D’IDENTITA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Chiave di lettura motivaziona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43" name="Segnaposto numero diapositiva 11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5C63-7BCE-4F2B-BEEC-DE86734D7434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630360" y="1363680"/>
            <a:ext cx="83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USO RIPETITIVO DIRETTO DA ALTRI DEL TEMP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3020040" y="1916280"/>
            <a:ext cx="3583800" cy="45972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BISOGNI SODDISFA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630360" y="2316240"/>
            <a:ext cx="836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SERVAZIONE, SICURE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PPARTENENZA, DIPEND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3122280" y="3357720"/>
            <a:ext cx="3378240" cy="45972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RISORSE UTILIZZ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630360" y="3830760"/>
            <a:ext cx="83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TE, GIA’ SPERIMENTATE, CE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2936880" y="4378320"/>
            <a:ext cx="3749760" cy="45972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STRATEGIE UTILIZZ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"/>
          <p:cNvSpPr/>
          <p:nvPr/>
        </p:nvSpPr>
        <p:spPr>
          <a:xfrm>
            <a:off x="630360" y="4870440"/>
            <a:ext cx="836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BITUDINI, PIGRIZIA, OBBEDI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IVISMO DI ROUTINE, LAMEN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739880" y="5703840"/>
            <a:ext cx="614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NON COINVOLGONO L’IMMAGINE DI SE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1046160" y="836640"/>
            <a:ext cx="78138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72960" indent="-372960"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SVILUPPO D’IDENTITA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CHIAVE DI LETTURA MOTIVAZIONA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54" name="Segnaposto numero diapositiva 11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BCA2-8699-48C6-B9B3-BBB66EE10C3B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770040" y="1363680"/>
            <a:ext cx="83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USO INNOVATIVO AUTODIRETTO DEL TEMP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3161160" y="2093760"/>
            <a:ext cx="3583800" cy="45972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BISOGNI SODDISFA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770040" y="2494080"/>
            <a:ext cx="836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RESTIGIO, SUCCESSO, SVILUPPO PROFESSIONALE, INDIPENDENZA/ INTERDIPEND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3263760" y="3421080"/>
            <a:ext cx="3378240" cy="45972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RISORSE UTILIZZ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770040" y="3809880"/>
            <a:ext cx="83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ARZIALMENTE CERTE O GIA’ SPERIMEN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9"/>
          <p:cNvSpPr/>
          <p:nvPr/>
        </p:nvSpPr>
        <p:spPr>
          <a:xfrm>
            <a:off x="3079080" y="4581360"/>
            <a:ext cx="3749760" cy="45972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STRATEGIE UTILIZZ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0"/>
          <p:cNvSpPr/>
          <p:nvPr/>
        </p:nvSpPr>
        <p:spPr>
          <a:xfrm>
            <a:off x="770040" y="4962600"/>
            <a:ext cx="836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AMBIAMENTO, MIGLIORAMENTO CONTINUO, TENTATIVI, USO INNOV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1"/>
          <p:cNvSpPr/>
          <p:nvPr/>
        </p:nvSpPr>
        <p:spPr>
          <a:xfrm>
            <a:off x="2261160" y="5952960"/>
            <a:ext cx="53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COINVOLGONO L’IMMAGINE DI SE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dri di tem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64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55F6-F2B0-47B1-83FC-161315391A9E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36120" y="4141440"/>
            <a:ext cx="410076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sono comportamenti che ostacolano o impediscono l’uso del tempo per priorità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graphicFrame>
        <p:nvGraphicFramePr>
          <p:cNvPr id="366" name="Object 2"/>
          <p:cNvGraphicFramePr/>
          <p:nvPr/>
        </p:nvGraphicFramePr>
        <p:xfrm>
          <a:off x="5168880" y="1052640"/>
          <a:ext cx="4100400" cy="28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68880" y="1052640"/>
                    <a:ext cx="410040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dri di tem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69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E183-3AEA-408B-AA87-86D1542918B4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880920" y="1152360"/>
            <a:ext cx="814392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85640" indent="-485640">
              <a:lnSpc>
                <a:spcPct val="110000"/>
              </a:lnSpc>
              <a:spcBef>
                <a:spcPts val="2001"/>
              </a:spcBef>
              <a:buClr>
                <a:srgbClr val="1b587c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b587c"/>
                </a:solidFill>
                <a:latin typeface="Arial"/>
              </a:rPr>
              <a:t>Ladri di tempo “interni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640" indent="-48564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sono le proprie propensioni ad utilizzare il tempo in modo non coerente con quanto si desidera fare o quanto si era a priori stabilito di f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640" indent="-485640">
              <a:lnSpc>
                <a:spcPct val="110000"/>
              </a:lnSpc>
              <a:spcBef>
                <a:spcPts val="6001"/>
              </a:spcBef>
              <a:buClr>
                <a:srgbClr val="1b587c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b587c"/>
                </a:solidFill>
                <a:latin typeface="Arial"/>
              </a:rPr>
              <a:t>Ladri di tempo “esterni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640" indent="-48564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sono comportamenti di altri che non si sa o non si può modificare e che fanno utilizzare il proprio tempo in modo non coerente con quanto si desidera fare o quanto si era a priori stabilito di f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dri di tem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72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4CEA-D2D5-44F4-9E13-D39200BB1911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776160" y="981000"/>
            <a:ext cx="825516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1b587c"/>
                </a:solidFill>
                <a:latin typeface="Arial"/>
              </a:rPr>
              <a:t>A volte i ladri esterni sono usati come </a:t>
            </a:r>
            <a:r>
              <a:rPr b="1" lang="it-IT" sz="4000" spc="-1" strike="noStrike">
                <a:solidFill>
                  <a:srgbClr val="1b587c"/>
                </a:solidFill>
                <a:latin typeface="Arial"/>
              </a:rPr>
              <a:t>scusa </a:t>
            </a:r>
            <a:r>
              <a:rPr b="0" lang="it-IT" sz="3600" spc="-1" strike="noStrike">
                <a:solidFill>
                  <a:srgbClr val="1b587c"/>
                </a:solidFill>
                <a:latin typeface="Arial"/>
              </a:rPr>
              <a:t>per giustificare ladri interni che non si vuole riconosce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1b587c"/>
                </a:solidFill>
                <a:latin typeface="Arial"/>
              </a:rPr>
              <a:t>Ognuno è sempre responsabile, almeno parzialmente, dei furti subiti, quindi </a:t>
            </a:r>
            <a:r>
              <a:rPr b="1" lang="it-IT" sz="4000" spc="-1" strike="noStrike">
                <a:solidFill>
                  <a:srgbClr val="1b587c"/>
                </a:solidFill>
                <a:latin typeface="Arial"/>
              </a:rPr>
              <a:t>é sempre responsabile</a:t>
            </a:r>
            <a:r>
              <a:rPr b="0" lang="it-IT" sz="3600" spc="-1" strike="noStrike">
                <a:solidFill>
                  <a:srgbClr val="1b587c"/>
                </a:solidFill>
                <a:latin typeface="Arial"/>
              </a:rPr>
              <a:t> di attivare gli antifurto contro i ladr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dri di tem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75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FFC6-BEC6-4AF6-8956-4632A9DEB47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1182600" y="1027080"/>
            <a:ext cx="7155000" cy="50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72960" indent="-372960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b587c"/>
                </a:solidFill>
                <a:latin typeface="Arial"/>
              </a:rPr>
              <a:t>I ladri esterni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gli incontri,le riun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gli arrivi inatt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e burocraz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e interru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e persone imprepa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ca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telef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a po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e informazioni (ritardo,incompletezz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a casa, ec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dri di tem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78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D9A4-8554-4C76-A705-A502268966A6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776160" y="981000"/>
            <a:ext cx="7594560" cy="49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72960" indent="-37296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b587c"/>
                </a:solidFill>
                <a:latin typeface="Arial"/>
              </a:rPr>
              <a:t>I ladri interni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2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a mancanza di ord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2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a mancanza di obiettivi e priorità chi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2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perfezion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2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’indeci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2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a difficoltà a deleg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2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a disper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2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a difficoltà a dire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2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a scarsa pianif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2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non darsi scad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dri di tem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81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3B89-E605-4F16-A1C2-AF8B57465F8A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1100160" y="1990800"/>
            <a:ext cx="7815240" cy="31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72960" indent="-37296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a mancanza di me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voler straf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a mancanza di concent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e condizioni di sal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a difficoltà nel control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ecc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Pianificare l’uso del tem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84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8939-1A43-4EEA-B868-0BC0B65E4B6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631800" y="907920"/>
            <a:ext cx="8694720" cy="53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1b587c"/>
                </a:solidFill>
                <a:latin typeface="Arial"/>
              </a:rPr>
              <a:t>Scopo</a:t>
            </a: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 :</a:t>
            </a:r>
            <a:br>
              <a:rPr sz="3200"/>
            </a:b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destinare </a:t>
            </a:r>
            <a:r>
              <a:rPr b="0" lang="it-IT" sz="3200" spc="-1" strike="noStrike" u="sng">
                <a:solidFill>
                  <a:srgbClr val="1b587c"/>
                </a:solidFill>
                <a:uFillTx/>
                <a:latin typeface="Arial"/>
              </a:rPr>
              <a:t>“a monte</a:t>
            </a: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” il tempo in rapporto all’importanza delle cose da f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1b587c"/>
                </a:solidFill>
                <a:latin typeface="Arial"/>
              </a:rPr>
              <a:t>Pianificare</a:t>
            </a: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 è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decidere quali sono le cose important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dandosi degli obiettiv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stabilendo le azioni necessar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i tempi e le scaden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per un uso efficace delle riso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Di che tempo parliamo?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48880" y="1052640"/>
            <a:ext cx="8502840" cy="25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b587c"/>
                </a:solidFill>
                <a:latin typeface="Arial"/>
              </a:rPr>
              <a:t>Tempo naturale o fisiologico</a:t>
            </a:r>
            <a:endParaRPr b="0" lang="en-US" sz="30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b587c"/>
                </a:solidFill>
                <a:latin typeface="Arial"/>
              </a:rPr>
              <a:t>Tempo sociale o organizzato</a:t>
            </a:r>
            <a:endParaRPr b="0" lang="en-US" sz="30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b587c"/>
                </a:solidFill>
                <a:latin typeface="Arial"/>
              </a:rPr>
              <a:t>Tempo vissuto o percepito</a:t>
            </a:r>
            <a:endParaRPr b="0" lang="en-US" sz="30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00" name="Rectangle 1030"/>
          <p:cNvSpPr/>
          <p:nvPr/>
        </p:nvSpPr>
        <p:spPr>
          <a:xfrm>
            <a:off x="1490760" y="4486320"/>
            <a:ext cx="6933960" cy="74304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b587c"/>
                </a:solidFill>
                <a:latin typeface="Arial"/>
              </a:rPr>
              <a:t>TEMPO COME RISOR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egnaposto numero diapositiva 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983C-50A7-4F62-A7A5-9B3E1160676E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Programmare l’uso del tem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87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A97C-634A-4514-888B-897AD9AFBD86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027"/>
          <p:cNvSpPr/>
          <p:nvPr/>
        </p:nvSpPr>
        <p:spPr>
          <a:xfrm>
            <a:off x="631800" y="907920"/>
            <a:ext cx="8475840" cy="52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1b587c"/>
                </a:solidFill>
                <a:latin typeface="Arial"/>
              </a:rPr>
              <a:t>Scopo</a:t>
            </a: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 :</a:t>
            </a:r>
            <a:br>
              <a:rPr sz="3200"/>
            </a:b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destinare “</a:t>
            </a:r>
            <a:r>
              <a:rPr b="0" lang="it-IT" sz="3200" spc="-1" strike="noStrike" u="sng">
                <a:solidFill>
                  <a:srgbClr val="1b587c"/>
                </a:solidFill>
                <a:uFillTx/>
                <a:latin typeface="Arial"/>
              </a:rPr>
              <a:t>a monte</a:t>
            </a: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” il tempo in funzione della durata delle attività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1b587c"/>
                </a:solidFill>
                <a:latin typeface="Arial"/>
              </a:rPr>
              <a:t>Programmare</a:t>
            </a: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 è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collocare nel tempo le attività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in base ad una sequenza pensa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definendone la durata prevista, voluta, necessaria, per una gestione efficiente delle riso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Organizzare l’uso del tem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90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1A47-D892-4E63-A403-A5456369AD8A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027"/>
          <p:cNvSpPr/>
          <p:nvPr/>
        </p:nvSpPr>
        <p:spPr>
          <a:xfrm>
            <a:off x="612720" y="914400"/>
            <a:ext cx="8804160" cy="55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b587c"/>
                </a:solidFill>
                <a:latin typeface="Arial"/>
              </a:rPr>
              <a:t>Scopo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 :</a:t>
            </a:r>
            <a:br>
              <a:rPr sz="1800"/>
            </a:b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definire “</a:t>
            </a:r>
            <a:r>
              <a:rPr b="0" lang="it-IT" sz="1800" spc="-1" strike="noStrike" u="sng">
                <a:solidFill>
                  <a:srgbClr val="1b587c"/>
                </a:solidFill>
                <a:uFillTx/>
                <a:latin typeface="Arial"/>
              </a:rPr>
              <a:t>a monte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” le modalità di utilizzo delle risorse in modo da riuscire a lavorare sulle finalità scelte di volta in vo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Organizzare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è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programmare e coordinare nell’uso del tempo tutte le risorse a propria disposizion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elaborando programmi operativi concreti e dettagliat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definendo strumenti di coordinamento a monte delle singole attività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utilizzando strumenti operativi per il risparmio del tempo nel corso delle attiv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Stabilire le priorità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93" name="Segnaposto numero diapositiva 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3B8B-92D8-4912-87E9-6CDFF353E278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20880" y="1125360"/>
            <a:ext cx="8283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1b587c"/>
                </a:solidFill>
                <a:uFillTx/>
                <a:latin typeface="Arial"/>
              </a:rPr>
              <a:t>L’IMPORTANZA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: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ncidenza di una attività sugli obiettivi fondamentali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920880" y="2374920"/>
            <a:ext cx="8393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30000"/>
              </a:lnSpc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1b587c"/>
                </a:solidFill>
                <a:uFillTx/>
                <a:latin typeface="Arial"/>
              </a:rPr>
              <a:t>L’URGENZA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 :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é determinata dalla scadenza entro cui il problema va gestito con successo e senza danni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920880" y="4626000"/>
            <a:ext cx="82548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 algn="ctr">
              <a:spcBef>
                <a:spcPts val="2001"/>
              </a:spcBef>
              <a:buClr>
                <a:srgbClr val="1b587c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entrambe alte/ba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5000" indent="-765000" algn="ctr">
              <a:spcBef>
                <a:spcPts val="2001"/>
              </a:spcBef>
              <a:buClr>
                <a:srgbClr val="1b587c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una alta/l’altra ba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’importanz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98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722C-8893-40CF-9F14-AD1C3EE927FF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880920" y="1055520"/>
            <a:ext cx="82551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1b587c"/>
                </a:solidFill>
                <a:uFillTx/>
                <a:latin typeface="Arial"/>
              </a:rPr>
              <a:t>REGOLA </a:t>
            </a: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:</a:t>
            </a:r>
            <a:br>
              <a:rPr sz="3200"/>
            </a:b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con il 20% delle attività e dei problemi si ottiene  l’80% dei risultati importa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4"/>
          <p:cNvSpPr/>
          <p:nvPr/>
        </p:nvSpPr>
        <p:spPr>
          <a:xfrm>
            <a:off x="920880" y="3324240"/>
            <a:ext cx="1271520" cy="276120"/>
          </a:xfrm>
          <a:prstGeom prst="rightArrow">
            <a:avLst>
              <a:gd name="adj1" fmla="val 50000"/>
              <a:gd name="adj2" fmla="val 179934"/>
            </a:avLst>
          </a:prstGeom>
          <a:solidFill>
            <a:srgbClr val="ffffff"/>
          </a:solidFill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2311560" y="3270240"/>
            <a:ext cx="726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1b587c"/>
                </a:solidFill>
                <a:latin typeface="Arial"/>
              </a:rPr>
              <a:t>attività e problemi strategici 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he incidono direttamente sugli obiettivi fondament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6"/>
          <p:cNvSpPr/>
          <p:nvPr/>
        </p:nvSpPr>
        <p:spPr>
          <a:xfrm>
            <a:off x="920880" y="4919760"/>
            <a:ext cx="1271520" cy="276120"/>
          </a:xfrm>
          <a:prstGeom prst="rightArrow">
            <a:avLst>
              <a:gd name="adj1" fmla="val 50000"/>
              <a:gd name="adj2" fmla="val 179934"/>
            </a:avLst>
          </a:prstGeom>
          <a:solidFill>
            <a:srgbClr val="ffffff"/>
          </a:solidFill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2311560" y="4873680"/>
            <a:ext cx="7154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1b587c"/>
                </a:solidFill>
                <a:latin typeface="Arial"/>
              </a:rPr>
              <a:t>attività e problemi operativi 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he si riferiscono alla routine, non importante sul piano degli obiettivi, ma necess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’importanz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05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2ED8-3628-48D5-8A54-D903FF8389C3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569880" y="907920"/>
            <a:ext cx="9136080" cy="46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b587c"/>
                </a:solidFill>
                <a:latin typeface="Arial"/>
              </a:rPr>
              <a:t>Per l’uso del tempo si deve considerare ch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buClr>
                <a:srgbClr val="1b587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1b587c"/>
                </a:solidFill>
                <a:uFillTx/>
                <a:latin typeface="Arial"/>
              </a:rPr>
              <a:t>le attività ed i problemi strategici</a:t>
            </a: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 hanno alta importanza</a:t>
            </a:r>
            <a:br>
              <a:rPr sz="3200"/>
            </a:b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(20% da l’80% dei risulta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buClr>
                <a:srgbClr val="1b587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1b587c"/>
                </a:solidFill>
                <a:uFillTx/>
                <a:latin typeface="Arial"/>
              </a:rPr>
              <a:t>le attività ed i problemi operativi</a:t>
            </a: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 hanno bassa importanza</a:t>
            </a:r>
            <a:br>
              <a:rPr sz="3200"/>
            </a:b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(80% da il 20% dei risulta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’urgenz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08" name="Segnaposto numero diapositiva 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D606-0333-4880-A87D-41B4B8938AB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1046160" y="914400"/>
            <a:ext cx="78138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L’80% delle urgenze nascono su attività e problemi che incidono al 20% sui risultati fina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825480" y="2044800"/>
            <a:ext cx="8310600" cy="137376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1b587c"/>
                </a:solidFill>
                <a:uFillTx/>
                <a:latin typeface="Arial"/>
              </a:rPr>
              <a:t>attività e problemi a dinamicità nulla o positiva</a:t>
            </a:r>
            <a:r>
              <a:rPr b="0" lang="it-IT" sz="2800" spc="-1" strike="noStrike">
                <a:solidFill>
                  <a:srgbClr val="1b587c"/>
                </a:solidFill>
                <a:latin typeface="Arial"/>
              </a:rPr>
              <a:t>:</a:t>
            </a:r>
            <a:br>
              <a:rPr sz="2800"/>
            </a:br>
            <a:r>
              <a:rPr b="0" lang="it-IT" sz="2800" spc="-1" strike="noStrike">
                <a:solidFill>
                  <a:srgbClr val="1b587c"/>
                </a:solidFill>
                <a:latin typeface="Arial"/>
              </a:rPr>
              <a:t>col passare del tempo rimangono inalterati,diventano più facili o si risolvono da so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770040" y="4149720"/>
            <a:ext cx="8366040" cy="137376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1b587c"/>
                </a:solidFill>
                <a:uFillTx/>
                <a:latin typeface="Arial"/>
              </a:rPr>
              <a:t>attività e problemi a dinamicità negativa</a:t>
            </a:r>
            <a:r>
              <a:rPr b="0" lang="it-IT" sz="2800" spc="-1" strike="noStrike">
                <a:solidFill>
                  <a:srgbClr val="1b587c"/>
                </a:solidFill>
                <a:latin typeface="Arial"/>
              </a:rPr>
              <a:t>:</a:t>
            </a:r>
            <a:br>
              <a:rPr sz="2800"/>
            </a:br>
            <a:r>
              <a:rPr b="0" lang="it-IT" sz="2800" spc="-1" strike="noStrike">
                <a:solidFill>
                  <a:srgbClr val="1b587c"/>
                </a:solidFill>
                <a:latin typeface="Arial"/>
              </a:rPr>
              <a:t>col passare del tempo diventano più difficili da gestire e producono effetti negativi crescen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Uso ottimale del tem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13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9B6A-53F9-447E-BE13-04319B0B2EC6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027"/>
          <p:cNvSpPr/>
          <p:nvPr/>
        </p:nvSpPr>
        <p:spPr>
          <a:xfrm>
            <a:off x="1100160" y="1203480"/>
            <a:ext cx="7815240" cy="44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b587c"/>
                </a:solidFill>
                <a:latin typeface="Arial"/>
              </a:rPr>
              <a:t>80% del tempo per il 20% di attività e problemi importanti, strategici, che danno l’80% dei risulta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b587c"/>
                </a:solidFill>
                <a:latin typeface="Arial"/>
              </a:rPr>
              <a:t>20% del tempo per l’80% di attività e problemi non importanti, operativi, che danno il 20% dei risulta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l sistema A-B-C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45840" y="907560"/>
            <a:ext cx="891540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i compiti A: devono essere svolti subito; 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i risultati che si possono conseguire sono rilevanti, se tralasciati comportano serie conseguenze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i compiti B: dovrebbero essere svolti subito;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non possono essere rimandati a lungo altrimenti si trasformano in compiti A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i compiti C: possono essere rimandati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17" name="Segnaposto numero diapositiva 6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4DDD-6F94-4581-9462-F09463DC6CBB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l sistema A-B-C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53760" y="1001520"/>
            <a:ext cx="8475480" cy="390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.....e poi </a:t>
            </a: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i compiti D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: in teoria non dovrebbero essere fatti perché non vincolati da scadenze, ma </a:t>
            </a: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sono piacevoli!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lnSpc>
                <a:spcPct val="125000"/>
              </a:lnSpc>
              <a:spcBef>
                <a:spcPts val="299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ossiamo anche dare delle </a:t>
            </a:r>
            <a:r>
              <a:rPr b="0" lang="it-IT" sz="2400" spc="-1" strike="noStrike" u="sng">
                <a:solidFill>
                  <a:srgbClr val="1b587c"/>
                </a:solidFill>
                <a:uFillTx/>
                <a:latin typeface="Arial"/>
              </a:rPr>
              <a:t>sottocategorie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 come A1, A2, A3, ecc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lnSpc>
                <a:spcPct val="120000"/>
              </a:lnSpc>
              <a:spcBef>
                <a:spcPts val="299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COME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 : segnare in agenda, schedari, cartelline, ecc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lnSpc>
                <a:spcPct val="120000"/>
              </a:lnSpc>
              <a:spcBef>
                <a:spcPts val="299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NO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 post it e biglietti volanti!!!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20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BC1F-C407-4FB5-B9FD-DF8BDBC20A54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Strumenti per l’uso del tem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22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7117-FA30-4A60-98C2-73CB9C6B794B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31800" y="1046160"/>
            <a:ext cx="49816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lega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ordinamento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filtri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ccorpamenti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finizione di tempi e durate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cadenze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invii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strumenti personali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graphicFrame>
        <p:nvGraphicFramePr>
          <p:cNvPr id="424" name="Object 2"/>
          <p:cNvGraphicFramePr/>
          <p:nvPr/>
        </p:nvGraphicFramePr>
        <p:xfrm>
          <a:off x="6824520" y="1268280"/>
          <a:ext cx="122904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4520" y="1268280"/>
                    <a:ext cx="12290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caratteristiche del tem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04520" y="980640"/>
            <a:ext cx="8420040" cy="49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601"/>
              </a:spcBef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LIMITATO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1b587c"/>
                </a:solidFill>
                <a:latin typeface="Arial"/>
              </a:rPr>
              <a:t>non ce n’é di più: é una risorsa molto critica</a:t>
            </a:r>
            <a:endParaRPr b="0" lang="en-US" sz="2800" spc="-1" strike="noStrike">
              <a:solidFill>
                <a:srgbClr val="1b587c"/>
              </a:solidFill>
              <a:latin typeface="Century Gothic"/>
            </a:endParaRPr>
          </a:p>
          <a:p>
            <a:pPr marL="457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457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2. INCONTROLLABILE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1b587c"/>
                </a:solidFill>
                <a:latin typeface="Arial"/>
              </a:rPr>
              <a:t>come lo spazio, il tempo é una costante e non può essere amministrato</a:t>
            </a:r>
            <a:endParaRPr b="0" lang="en-US" sz="2800" spc="-1" strike="noStrike">
              <a:solidFill>
                <a:srgbClr val="1b587c"/>
              </a:solidFill>
              <a:latin typeface="Century Gothic"/>
            </a:endParaRPr>
          </a:p>
          <a:p>
            <a:pPr marL="457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457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3. IRRECUPERABILE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1b587c"/>
                </a:solidFill>
                <a:latin typeface="Arial"/>
              </a:rPr>
              <a:t>il tempo passato non può essere recuperato</a:t>
            </a:r>
            <a:endParaRPr b="0" lang="en-US" sz="28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04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AEEA-D2F5-4557-AD2B-235C187CCBA8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 deleg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27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B061-9817-48FB-9499-84893355D1C9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631800" y="907920"/>
            <a:ext cx="8475840" cy="53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87200" indent="-18720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OSA DELEGA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0000"/>
              </a:lnSpc>
              <a:spcBef>
                <a:spcPts val="12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decisioni che prendete con maggior freque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0000"/>
              </a:lnSpc>
              <a:spcBef>
                <a:spcPts val="12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compiti tecnico specialist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0000"/>
              </a:lnSpc>
              <a:spcBef>
                <a:spcPts val="12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compiti per cui siete meno qualific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0000"/>
              </a:lnSpc>
              <a:spcBef>
                <a:spcPts val="12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funzioni che non vi piaccio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0000"/>
              </a:lnSpc>
              <a:spcBef>
                <a:spcPts val="12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compiti che procurano esperienza o crescita professionale ai collabora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0000"/>
              </a:lnSpc>
              <a:spcBef>
                <a:spcPts val="12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compiti che aggiungono varietà alla routine lavor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0000"/>
              </a:lnSpc>
              <a:spcBef>
                <a:spcPts val="12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attività che completerebbero una posi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 deleg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30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9FD3-D495-4CF6-8AC9-AE1382189C3C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027"/>
          <p:cNvSpPr/>
          <p:nvPr/>
        </p:nvSpPr>
        <p:spPr>
          <a:xfrm>
            <a:off x="990720" y="1160640"/>
            <a:ext cx="7924680" cy="44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87200" indent="-187200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b587c"/>
                </a:solidFill>
                <a:latin typeface="Arial"/>
              </a:rPr>
              <a:t>CONTENUTI DELLA DELEG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OBIET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RISULTATI VOL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RITERI DI MIS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RISORSE DISPONIBILI E VIN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AUTONOMIA, AUTORIT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TEMPIST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MODALITA’ DI CONT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Modalità di deleg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33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04A7-AE0A-4483-8E02-5C1C891CC82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027"/>
          <p:cNvSpPr/>
          <p:nvPr/>
        </p:nvSpPr>
        <p:spPr>
          <a:xfrm>
            <a:off x="770040" y="1055520"/>
            <a:ext cx="8366040" cy="47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87200" indent="-18720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COLLOQUIO DI DELEGA PER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0000"/>
              </a:lnSpc>
              <a:spcBef>
                <a:spcPts val="12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hiarire, mettere in comune obiettivi, autonomie, autorità, controlli, criteri di valu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0000"/>
              </a:lnSpc>
              <a:spcBef>
                <a:spcPts val="12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ottenere responsabilizzazione e coinvolgimento sugli obiet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EVITARE INCARICHI GENERIC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0000"/>
              </a:lnSpc>
              <a:spcBef>
                <a:spcPts val="12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ostringono il collaboratore a chiedere chiarimenti in itin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0000"/>
              </a:lnSpc>
              <a:spcBef>
                <a:spcPts val="12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lasciano pericolose zone d’ombra per la fase di valu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ogiche di deleg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36" name="Segnaposto numero diapositiva 6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84A6-10FC-4D8F-9AC1-C2D05986F2AF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495360" y="844560"/>
            <a:ext cx="89154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TUO TEMPO E’ A MIA DISPOSI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968400" y="3213000"/>
            <a:ext cx="80564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TUO TEMPO E’ UNA TUA RISORSA PER IL LAVORO CHE TI HO ASSEGN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550800" y="1268280"/>
            <a:ext cx="8861400" cy="15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VANTAGGI: evito i miei ritardi, posso seguire le mie urge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SVANTAGGI: causo perdite di tempo ai miei collabor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7"/>
          <p:cNvSpPr/>
          <p:nvPr/>
        </p:nvSpPr>
        <p:spPr>
          <a:xfrm>
            <a:off x="493560" y="3860640"/>
            <a:ext cx="886140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VANTAGGI: evito perdite di tempo ai collaboratori, li costringo ad organizzare il loro tempo e a finalizzarne l’utili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SVANTAGGI: rischio ritardi su urgenze emergenti, ho meno margini di recupero sulle mie efficie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AutoShape 8"/>
          <p:cNvSpPr/>
          <p:nvPr/>
        </p:nvSpPr>
        <p:spPr>
          <a:xfrm rot="10800000">
            <a:off x="3741480" y="2214360"/>
            <a:ext cx="2422440" cy="42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Object 2" descr=""/>
          <p:cNvPicPr/>
          <p:nvPr/>
        </p:nvPicPr>
        <p:blipFill>
          <a:blip r:embed="rId1"/>
          <a:stretch/>
        </p:blipFill>
        <p:spPr>
          <a:xfrm>
            <a:off x="4292640" y="2633760"/>
            <a:ext cx="1414440" cy="1226880"/>
          </a:xfrm>
          <a:prstGeom prst="rect">
            <a:avLst/>
          </a:prstGeom>
          <a:ln w="0">
            <a:noFill/>
          </a:ln>
        </p:spPr>
      </p:pic>
      <p:sp>
        <p:nvSpPr>
          <p:cNvPr id="443" name="AutoShape 7"/>
          <p:cNvSpPr/>
          <p:nvPr/>
        </p:nvSpPr>
        <p:spPr>
          <a:xfrm>
            <a:off x="3741840" y="3870360"/>
            <a:ext cx="2422440" cy="42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l coordinament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45" name="Segnaposto numero diapositiva 8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EFCF-829C-4CD3-98F6-2DDE50D50328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"/>
          <p:cNvSpPr/>
          <p:nvPr/>
        </p:nvSpPr>
        <p:spPr>
          <a:xfrm>
            <a:off x="990720" y="949320"/>
            <a:ext cx="7924680" cy="118980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ASPETTI DI AUTONOMIA:</a:t>
            </a:r>
            <a:br>
              <a:rPr sz="2400"/>
            </a:b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LAVORO DI RUOLO, INDIVIDUALE E DIFFERENZI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990720" y="4316400"/>
            <a:ext cx="7924680" cy="118980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ASPETTI DI INTEGRAZIONE:</a:t>
            </a:r>
            <a:br>
              <a:rPr sz="2400"/>
            </a:b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LAVORO CORRELATO ALL’USO DI RISORSE ALTR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9"/>
          <p:cNvSpPr/>
          <p:nvPr/>
        </p:nvSpPr>
        <p:spPr>
          <a:xfrm>
            <a:off x="604800" y="5224320"/>
            <a:ext cx="8718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b587c"/>
                </a:solidFill>
                <a:latin typeface="Arial"/>
              </a:rPr>
              <a:t>OCCORRE ORGANIZZARE I MOMENTI DI LAVORO INTEGRATO ATTRAVERSO UNA PROGRAMMAZIONE DEI TEMPI COMU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 filtr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50" name="Segnaposto numero diapositiva 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24E4-4BDF-4294-8BFC-6B2C1903AA9D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1212840" y="844560"/>
            <a:ext cx="7924680" cy="26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spesso gli altri non sanno quanto é importante ciò che stiamo facendo rispetto a ciò per cui ci interromp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b587c"/>
                </a:solidFill>
                <a:latin typeface="Arial"/>
              </a:rPr>
              <a:t>QUINDI OCCORR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b587c"/>
                </a:solidFill>
                <a:latin typeface="Arial"/>
              </a:rPr>
              <a:t>FILTRI SELETTIVI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717480" y="3639960"/>
            <a:ext cx="8915400" cy="73404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PERSONE </a:t>
            </a: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(segretaria)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 e TECNOLOGIE </a:t>
            </a: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(segreteria tel., e-mail) 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HE RICEVONO L’INTERR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5"/>
          <p:cNvSpPr/>
          <p:nvPr/>
        </p:nvSpPr>
        <p:spPr>
          <a:xfrm>
            <a:off x="817560" y="5011560"/>
            <a:ext cx="8717040" cy="64260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ON ISTRUZIONI CHIARE E PRECISE PER DETERMINARE L’IMPORTANZA DELL’INTERRUZIONE RISPETTO A CIO’ CHE STO FACE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Gli accorpamenti di attività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55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E309-D854-41FB-8CBA-415DE1B22D51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770040" y="1635120"/>
            <a:ext cx="825480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RITERIO DI AUTO ORGANIZZAZIONE BASATO SULLA RIDUZIONE / ELIMINAZIONE DI TEMPI DI PREPARAZIONE IN GENERE, DOVUTE ALLA CONCENTRAZIONE DI ATTIVITA’ OMOGEN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Definizione dei temp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58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FDDC-3C32-450D-A5BC-AB01F2B70751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770040" y="1371600"/>
            <a:ext cx="8366040" cy="37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 prescindere dall’importanza delle cose da fare occorre sempre </a:t>
            </a:r>
            <a:r>
              <a:rPr b="0" lang="it-IT" sz="2400" spc="-1" strike="noStrike" u="sng">
                <a:solidFill>
                  <a:srgbClr val="1b587c"/>
                </a:solidFill>
                <a:uFillTx/>
                <a:latin typeface="Arial"/>
              </a:rPr>
              <a:t>stabilire il tempo necessario per ciascuna attività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ulla vieta di decidere dei cambi in tal senso, ma, se ho fissato dei tempi, ciò avviene </a:t>
            </a:r>
            <a:r>
              <a:rPr b="1" lang="it-IT" sz="2400" spc="-1" strike="noStrike" u="sng">
                <a:solidFill>
                  <a:srgbClr val="1b587c"/>
                </a:solidFill>
                <a:uFillTx/>
                <a:latin typeface="Arial"/>
              </a:rPr>
              <a:t>per scelta consapevole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 e non per l’emergere di ladri di t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scadenz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61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9C4B-FDD3-4C79-8DCC-EF5A1BC6296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770040" y="896760"/>
            <a:ext cx="8254800" cy="47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85640" indent="-485640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’ utile fissare una </a:t>
            </a:r>
            <a:r>
              <a:rPr b="0" i="1" lang="it-IT" sz="2400" spc="-1" strike="noStrike">
                <a:solidFill>
                  <a:srgbClr val="1b587c"/>
                </a:solidFill>
                <a:latin typeface="Arial"/>
              </a:rPr>
              <a:t>scadenza d’inizio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d una </a:t>
            </a:r>
            <a:r>
              <a:rPr b="0" i="1" lang="it-IT" sz="2400" spc="-1" strike="noStrike">
                <a:solidFill>
                  <a:srgbClr val="1b587c"/>
                </a:solidFill>
                <a:latin typeface="Arial"/>
              </a:rPr>
              <a:t>scadenza di fine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er perseguire tre scop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640" indent="-485640">
              <a:lnSpc>
                <a:spcPct val="160000"/>
              </a:lnSpc>
              <a:spcBef>
                <a:spcPts val="15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tressarsi nel rispettare gli impeg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640" indent="-485640">
              <a:lnSpc>
                <a:spcPct val="160000"/>
              </a:lnSpc>
              <a:spcBef>
                <a:spcPts val="15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stringersi ad un uso del tempo essenziale e finalizzato (</a:t>
            </a: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uso anticipatorio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640" indent="-485640">
              <a:lnSpc>
                <a:spcPct val="160000"/>
              </a:lnSpc>
              <a:spcBef>
                <a:spcPts val="15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verificare poi la propria motivazione reale e gli obiettivi prioritari (</a:t>
            </a: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uso successivo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 rinvi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501880" y="790560"/>
            <a:ext cx="440388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9360" indent="-279360">
              <a:lnSpc>
                <a:spcPct val="100000"/>
              </a:lnSpc>
              <a:spcAft>
                <a:spcPts val="2401"/>
              </a:spcAft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evita rinvii non consapevoli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279360" indent="-279360">
              <a:lnSpc>
                <a:spcPct val="100000"/>
              </a:lnSpc>
              <a:spcAft>
                <a:spcPts val="2401"/>
              </a:spcAft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evita rinvii generici e dimenticanze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279360" indent="-279360">
              <a:lnSpc>
                <a:spcPct val="100000"/>
              </a:lnSpc>
              <a:spcAft>
                <a:spcPts val="2401"/>
              </a:spcAft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consente un efficace ancoraggio mnemonico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279360" indent="-279360">
              <a:lnSpc>
                <a:spcPct val="100000"/>
              </a:lnSpc>
              <a:spcAft>
                <a:spcPts val="2401"/>
              </a:spcAft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evita di cedere passivamente ad urgenze non reali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279360" indent="-279360">
              <a:lnSpc>
                <a:spcPct val="100000"/>
              </a:lnSpc>
              <a:spcAft>
                <a:spcPts val="2401"/>
              </a:spcAft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evita di riprendere totalmente il problema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65" name="Text Box 4"/>
          <p:cNvSpPr/>
          <p:nvPr/>
        </p:nvSpPr>
        <p:spPr>
          <a:xfrm>
            <a:off x="622440" y="941400"/>
            <a:ext cx="4402080" cy="82548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FISSA IMPEGNI CON SCADE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622440" y="1938240"/>
            <a:ext cx="4402080" cy="82548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E RINVII FISSA SUBITO QUANDO RIPREND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6"/>
          <p:cNvSpPr/>
          <p:nvPr/>
        </p:nvSpPr>
        <p:spPr>
          <a:xfrm>
            <a:off x="622440" y="2997360"/>
            <a:ext cx="4402080" cy="82548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INVIA SOLO DOPO AVER FATTO QUALCOSA SUB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7"/>
          <p:cNvSpPr/>
          <p:nvPr/>
        </p:nvSpPr>
        <p:spPr>
          <a:xfrm>
            <a:off x="622440" y="4005360"/>
            <a:ext cx="4402080" cy="119124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E RINVII PER UN UNRGENZA, ANALIZZA POI IL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8"/>
          <p:cNvSpPr/>
          <p:nvPr/>
        </p:nvSpPr>
        <p:spPr>
          <a:xfrm>
            <a:off x="622440" y="5373720"/>
            <a:ext cx="4402080" cy="82548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INVIA SE HAI VERIFICATO CHE NON PUOI DELEG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egnaposto numero diapositiva 9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007E-63EA-444A-8263-4BB116FD2E86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caratteristiche del tem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36120" y="921960"/>
            <a:ext cx="8420040" cy="46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INVARIABILE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i muove con cadenza fissa predeterminata. Il tempo non vola, ne si trascina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UNIVERSALE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é equamente distribuito. Ciascuno ha la sua parte uguale agli altri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NON IMMAGAZZINABILE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può essere accantonato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07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7C10-7198-4A98-9DEA-1E92979D1DD8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Razionalità ed emotività nell’uso del tem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71040" y="1107720"/>
            <a:ext cx="8696520" cy="126180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txBody>
          <a:bodyPr anchor="t">
            <a:normAutofit/>
          </a:bodyPr>
          <a:p>
            <a:pPr indent="0" algn="ctr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LA LETTURA RAZIONALE NON ESAURISCE IL PROBLEMA DELL’USO DEL TEMPO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73" name="Rectangle 1028"/>
          <p:cNvSpPr/>
          <p:nvPr/>
        </p:nvSpPr>
        <p:spPr>
          <a:xfrm>
            <a:off x="617400" y="2584440"/>
            <a:ext cx="8804520" cy="126252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LA SPINTA EMOTIVA ESERCITATA DALLE NOSTRE REALI MOTIVAZIONI CONDIZIONA LE NOSTRE 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029"/>
          <p:cNvSpPr/>
          <p:nvPr/>
        </p:nvSpPr>
        <p:spPr>
          <a:xfrm>
            <a:off x="936720" y="4167360"/>
            <a:ext cx="81676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OCCORRE ATTIVARE UNA COMUNICAZIONE DIRETTA FRA SCELTE RAZIONALI E SPINTE EMOTIVE CHE LE RENDA PROGRESSIVAMENTE COMPATIB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egnaposto numero diapositiva 6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9AFE-89D2-4624-AC70-FC3EAFC82DA1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 VERIFICA DELL’USO DEL TEM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61560" y="907560"/>
            <a:ext cx="7807320" cy="212436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txBody>
          <a:bodyPr anchor="t">
            <a:normAutofit/>
          </a:bodyPr>
          <a:p>
            <a:pPr marL="279360" indent="-279360">
              <a:lnSpc>
                <a:spcPct val="160000"/>
              </a:lnSpc>
              <a:spcBef>
                <a:spcPts val="49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ESPLICITARE E DICHIARARE A SE STESSI LE VERIFICHE MOTIVAZIONALI</a:t>
            </a:r>
            <a:endParaRPr b="0" lang="en-US" sz="2000" spc="-1" strike="noStrike">
              <a:solidFill>
                <a:srgbClr val="1b587c"/>
              </a:solidFill>
              <a:latin typeface="Century Gothic"/>
            </a:endParaRPr>
          </a:p>
          <a:p>
            <a:pPr marL="279360" indent="-279360">
              <a:lnSpc>
                <a:spcPct val="160000"/>
              </a:lnSpc>
              <a:spcBef>
                <a:spcPts val="49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ESPLICITARE E DICHIARARE A SE STESSI LE VERIFICHE STRUMENTALI</a:t>
            </a:r>
            <a:endParaRPr b="0" lang="en-US" sz="20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78" name="Text Box 2053"/>
          <p:cNvSpPr/>
          <p:nvPr/>
        </p:nvSpPr>
        <p:spPr>
          <a:xfrm>
            <a:off x="550800" y="3086280"/>
            <a:ext cx="26416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b587c"/>
                </a:solidFill>
                <a:latin typeface="Arial"/>
              </a:rPr>
              <a:t>IPOTES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054"/>
          <p:cNvSpPr/>
          <p:nvPr/>
        </p:nvSpPr>
        <p:spPr>
          <a:xfrm>
            <a:off x="988920" y="3451320"/>
            <a:ext cx="7761240" cy="278496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Più ti costringi ad esplicitare l’USO REALE del temp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… </a:t>
            </a: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Più il tuo inconscio emotivo si trova spinto 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499"/>
              </a:spcBef>
              <a:buClr>
                <a:srgbClr val="6b9f25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PRENDERE ATTO DELLE DISFUN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499"/>
              </a:spcBef>
              <a:buClr>
                <a:srgbClr val="6b9f25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APRIRE LO SPAZIO A TENTA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499"/>
              </a:spcBef>
              <a:buClr>
                <a:srgbClr val="6b9f25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ACCETTARE LA TUA IDENTITA’ RE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egnaposto numero diapositiva 6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B54F-366C-4F9D-B9FA-84BC78CA3334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Processo nelle verifiche nell’uso del tem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45840" y="980640"/>
            <a:ext cx="89154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PIANIFICA E ORGANIZZA IL TEMPO IN MODO ESPLICITO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AUTOCONTROLLO SULL’USO REALE DEL TEMPO RISPETTO AI PIANI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FAI LA VERIFICA MOTIVAZIONALE ESPLICITA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IDENTIFICA MICROINTERVENTI SPECIFICI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RICOMINCIA DALL’AUTOCONTROLLO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83" name="Segnaposto numero diapositiva 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2A74-8250-41E5-B6DA-07233DBCF996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ivelli di verifica nell’uso del tem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04880" y="1003320"/>
            <a:ext cx="869472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LA CORREZIONE DEI PROPRI SLOGANS SUL TEMPO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L’USO DI UN ANTIFURTO SPECIFICO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LA CACCIA AD UN LADRO SPECIFICO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IL CONTROLLO SU UNA SITUAZIONE GESTIONALE SPECIFICA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IL CONTROLLO SU UN PERIODO LIMITATO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IL CONTROLLO DEI PIANI,  DEI PROGRAMMI, DELL’AGENDA, ECC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86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A0EB-8D24-4F82-A78E-A348CC9E2AA9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Correzione degli slogans sul tem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88" name="Text Box 1029"/>
          <p:cNvSpPr/>
          <p:nvPr/>
        </p:nvSpPr>
        <p:spPr>
          <a:xfrm>
            <a:off x="1517760" y="131112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030"/>
          <p:cNvSpPr/>
          <p:nvPr/>
        </p:nvSpPr>
        <p:spPr>
          <a:xfrm>
            <a:off x="631800" y="907920"/>
            <a:ext cx="89154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FRASI FATTE CON CUI CI NASCONDIAMO L’USO REALE DEL TEMPO O SCARICHIAMO ALL’ESTERNO LE CAUSE DEI FURTI DI T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031"/>
          <p:cNvSpPr/>
          <p:nvPr/>
        </p:nvSpPr>
        <p:spPr>
          <a:xfrm>
            <a:off x="709560" y="2673360"/>
            <a:ext cx="431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NON HO AVUTO TEMPO per far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032"/>
          <p:cNvSpPr/>
          <p:nvPr/>
        </p:nvSpPr>
        <p:spPr>
          <a:xfrm>
            <a:off x="5613480" y="2421000"/>
            <a:ext cx="363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IN QUANTO HO RITENUTO PIU’ IMPORTANTE FARE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033"/>
          <p:cNvSpPr/>
          <p:nvPr/>
        </p:nvSpPr>
        <p:spPr>
          <a:xfrm>
            <a:off x="709560" y="4033800"/>
            <a:ext cx="43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HO PERDUTO DEL T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034"/>
          <p:cNvSpPr/>
          <p:nvPr/>
        </p:nvSpPr>
        <p:spPr>
          <a:xfrm>
            <a:off x="5613480" y="3760920"/>
            <a:ext cx="40194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NEL FARE X PERCHE’ MI SONO MESSO A FARE Y </a:t>
            </a:r>
            <a:r>
              <a:rPr b="1" lang="it-IT" sz="1800" spc="-1" strike="noStrike">
                <a:solidFill>
                  <a:srgbClr val="1b587c"/>
                </a:solidFill>
                <a:latin typeface="Arial"/>
              </a:rPr>
              <a:t>(che è diventato priorita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035"/>
          <p:cNvSpPr/>
          <p:nvPr/>
        </p:nvSpPr>
        <p:spPr>
          <a:xfrm>
            <a:off x="679320" y="5157720"/>
            <a:ext cx="9026640" cy="82548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OCCORRE COSTRINGERE  SE STESSI A COMPLETARE LE FRASI PER ESPLICITARE LA VERIFICA MOTIVAZ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egnaposto numero diapositiva 10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55AB-BFDF-4CF3-81ED-F4BE47857860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’uso di un antifurto specific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97" name="Text Box 2051"/>
          <p:cNvSpPr/>
          <p:nvPr/>
        </p:nvSpPr>
        <p:spPr>
          <a:xfrm>
            <a:off x="1517760" y="131112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52"/>
          <p:cNvSpPr/>
          <p:nvPr/>
        </p:nvSpPr>
        <p:spPr>
          <a:xfrm>
            <a:off x="646200" y="1425600"/>
            <a:ext cx="891540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 algn="ctr">
              <a:spcBef>
                <a:spcPts val="2999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IDENTIFICA UNO SPECIFICO ANTIFURTO E SCRIVI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 algn="ctr">
              <a:spcBef>
                <a:spcPts val="2999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ANNOTA IMPEGNI PRECISI PER UTILIZZARLO</a:t>
            </a:r>
            <a:br>
              <a:rPr sz="2400"/>
            </a:b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(con chi, quan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 algn="ctr">
              <a:spcBef>
                <a:spcPts val="2999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SFORZATI DI ATTIVARE GLI IMPEGNI rilevando successi ed insucce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 algn="ctr">
              <a:spcBef>
                <a:spcPts val="2999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TRAI LE CONCLUSIONI: QUANDO E CON CHI E’ U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 algn="ctr">
              <a:spcBef>
                <a:spcPts val="2999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ELABORA NUOVI ANTIFURTO PER LE SITUAZIONI DI INEFFICACIA E RICOMI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2058"/>
          <p:cNvSpPr/>
          <p:nvPr/>
        </p:nvSpPr>
        <p:spPr>
          <a:xfrm>
            <a:off x="4365720" y="90792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b587c"/>
                </a:solidFill>
                <a:latin typeface="Arial"/>
              </a:rPr>
              <a:t>PRO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egnaposto numero diapositiva 6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2E4A-7B63-4B80-A3D9-EC0D4AD5C8CC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 caccia ad un ladro specific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02" name="Text Box 1027"/>
          <p:cNvSpPr/>
          <p:nvPr/>
        </p:nvSpPr>
        <p:spPr>
          <a:xfrm>
            <a:off x="1517760" y="131112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028"/>
          <p:cNvSpPr/>
          <p:nvPr/>
        </p:nvSpPr>
        <p:spPr>
          <a:xfrm>
            <a:off x="631800" y="1341360"/>
            <a:ext cx="907416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 algn="ctr">
              <a:spcBef>
                <a:spcPts val="1800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IDENTIFICA UNO SPECIFICO LADRO DI TEM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 algn="ctr">
              <a:spcBef>
                <a:spcPts val="1800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INDICA L’OBIETTIVO DELLA CACCIA IN TERMINI POSITIVI (cosa vuoi ottenere non cosa vuoi evit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 algn="ctr">
              <a:spcBef>
                <a:spcPts val="1800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INDICA I CRITERI OPERATIVI PER VERIFICARE IL SUCCESSO: (cosa deve accadere in concreto perché il il ladro sia elimina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 algn="ctr">
              <a:spcBef>
                <a:spcPts val="1800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INDICA I PROBLEMI CHE IL LADRO HA CREATO ED I VANTAGGI CHE OTTERRAI ELIMINAND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 algn="ctr">
              <a:spcBef>
                <a:spcPts val="1800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INDICA GLI ANTIFURTO CHE INTENDI ATTIV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 algn="ctr">
              <a:spcBef>
                <a:spcPts val="1800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FISSATI IMPEGNI CON SCADENZE DI VERI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 algn="ctr">
              <a:spcBef>
                <a:spcPts val="1800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VERIFICA E SOTTOLINEA I RISULTATI RAGGIUNTI ED I MIGLIORAMENTI DA F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029"/>
          <p:cNvSpPr/>
          <p:nvPr/>
        </p:nvSpPr>
        <p:spPr>
          <a:xfrm>
            <a:off x="4260960" y="90792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b587c"/>
                </a:solidFill>
                <a:latin typeface="Arial"/>
              </a:rPr>
              <a:t>PRO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egnaposto numero diapositiva 6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A57F-36CF-4565-9861-84227DC7BA1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Controllo su una situazione gestionale specific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07" name="Text Box 3075"/>
          <p:cNvSpPr/>
          <p:nvPr/>
        </p:nvSpPr>
        <p:spPr>
          <a:xfrm>
            <a:off x="1517760" y="131112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3076"/>
          <p:cNvSpPr/>
          <p:nvPr/>
        </p:nvSpPr>
        <p:spPr>
          <a:xfrm>
            <a:off x="631800" y="1306440"/>
            <a:ext cx="8943840" cy="50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 algn="ctr">
              <a:spcBef>
                <a:spcPts val="1800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DEFINIRE UN ORDINE DEL GIORNO</a:t>
            </a:r>
            <a:br>
              <a:rPr sz="2000"/>
            </a:b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 definire argomenti e obiettivi</a:t>
            </a:r>
            <a:br>
              <a:rPr sz="2000"/>
            </a:b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definire i tempi dedicati in base all’importa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 algn="ctr">
              <a:spcBef>
                <a:spcPts val="1800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GESTIRE SPONTANEAMENTE LA RIUN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 algn="ctr">
              <a:spcBef>
                <a:spcPts val="1800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VERIFICARE L’USO REALE DEL TEMPO</a:t>
            </a:r>
            <a:br>
              <a:rPr sz="2000"/>
            </a:b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obiettivi raggiunti e non raggiunti</a:t>
            </a:r>
            <a:br>
              <a:rPr sz="2000"/>
            </a:b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rispetto dei tempi</a:t>
            </a:r>
            <a:br>
              <a:rPr sz="2000"/>
            </a:b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motivazioni sottostanti le differenze</a:t>
            </a:r>
            <a:br>
              <a:rPr sz="2000"/>
            </a:b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bisogni realmente soddisfatti</a:t>
            </a:r>
            <a:br>
              <a:rPr sz="2000"/>
            </a:b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grado d’importanza realmente attribuito alle questioni in discuss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 algn="ctr">
              <a:spcBef>
                <a:spcPts val="1800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RIDEFINIRE L’ODG PER UNA FUTURA RIUNIONE</a:t>
            </a:r>
            <a:br>
              <a:rPr sz="2000"/>
            </a:b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definire argomenti e obiettivi</a:t>
            </a:r>
            <a:br>
              <a:rPr sz="2000"/>
            </a:b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definire i tempi dedicati in base all’importanza</a:t>
            </a:r>
            <a:br>
              <a:rPr sz="2000"/>
            </a:b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definire gli antifurto per evitare scostamenti indesider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3077"/>
          <p:cNvSpPr/>
          <p:nvPr/>
        </p:nvSpPr>
        <p:spPr>
          <a:xfrm>
            <a:off x="3406680" y="907920"/>
            <a:ext cx="31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b587c"/>
                </a:solidFill>
                <a:latin typeface="Arial"/>
              </a:rPr>
              <a:t>PROCESSO PER RIUN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egnaposto numero diapositiva 6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9ADC-DC31-44B2-93D5-B7035824A803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Controllo su un periodo limitat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12" name="Text Box 3075"/>
          <p:cNvSpPr/>
          <p:nvPr/>
        </p:nvSpPr>
        <p:spPr>
          <a:xfrm>
            <a:off x="1517760" y="131112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3076"/>
          <p:cNvSpPr/>
          <p:nvPr/>
        </p:nvSpPr>
        <p:spPr>
          <a:xfrm>
            <a:off x="631800" y="1484280"/>
            <a:ext cx="8943840" cy="47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 algn="ctr">
              <a:spcBef>
                <a:spcPts val="2500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Descrivere OBIETTIVI, ATTIVITA’ PRINCIPALI (PIANO) del periodo più ampio in cui la settimana tipo è inser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 algn="ctr">
              <a:spcBef>
                <a:spcPts val="2500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A MONTE, DESCRIVERE COME SI PENSA DI UTILIZZARE IL T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 algn="ctr">
              <a:spcBef>
                <a:spcPts val="2500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AGIRE SPONTANEAMENTE DURANTE LA SETTIM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 algn="ctr">
              <a:spcBef>
                <a:spcPts val="2500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A VALLE, DESCRIVERE COME SI E’ UTILIZZATO IL T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 algn="ctr">
              <a:spcBef>
                <a:spcPts val="2500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CONFRONTARE IL PIANO DI LAVORO CON IL CONSUN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 algn="ctr">
              <a:spcBef>
                <a:spcPts val="2500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FORMULARE ANTIFURTI PER LA SETTIMANA SUCCESSIVA </a:t>
            </a:r>
            <a:br>
              <a:rPr sz="2000"/>
            </a:b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(pochi e dettaglia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 algn="ctr">
              <a:spcBef>
                <a:spcPts val="2500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OSSERVARE L’ANDAMENTO DELLA SETTIMANA SUCCESS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3077"/>
          <p:cNvSpPr/>
          <p:nvPr/>
        </p:nvSpPr>
        <p:spPr>
          <a:xfrm>
            <a:off x="2102760" y="836640"/>
            <a:ext cx="58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PROCESSO SU UNA SETTIMANA TI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egnaposto numero diapositiva 8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DF1B-5C30-4F5C-B53C-7B2A4E51E430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l controllo di pianificazion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1517760" y="131112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6"/>
          <p:cNvSpPr/>
          <p:nvPr/>
        </p:nvSpPr>
        <p:spPr>
          <a:xfrm>
            <a:off x="770040" y="1055520"/>
            <a:ext cx="836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E’ UN CONTROLLO DI COERENZA SU OBIETTIVI E RESPONSABILITA’ STRATEG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7"/>
          <p:cNvSpPr/>
          <p:nvPr/>
        </p:nvSpPr>
        <p:spPr>
          <a:xfrm>
            <a:off x="1215360" y="197964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DUE MO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8"/>
          <p:cNvSpPr/>
          <p:nvPr/>
        </p:nvSpPr>
        <p:spPr>
          <a:xfrm>
            <a:off x="660240" y="2565360"/>
            <a:ext cx="8498160" cy="119124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SE SI E’ FATTA UNA PIANIFICAZIONE A MONTE, VALUTARE IL TEMPO EFFETTIVAMENTE ASSEGNATO RISPETTO ALLA LOGICA 80% -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9"/>
          <p:cNvSpPr/>
          <p:nvPr/>
        </p:nvSpPr>
        <p:spPr>
          <a:xfrm>
            <a:off x="660240" y="3990960"/>
            <a:ext cx="8498160" cy="192276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SE NON SI E’ FATTA UNA PIANIFICAZIONE A MONTE, VALUTARE L’IMPORTANZA DEGLI OBIETTIVI IN BASE AL TEMPO EFFETTIVAMENTE ASSEGNATO VERIFICANDONE LA COERENZA RISPETTO ALLA LOGICA 80% -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egnaposto numero diapositiva 8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5DEB-8319-4A46-BFBD-3364505DB060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’uso del tem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09" name="Segnaposto numero diapositiva 6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D624-87F3-4420-A2CE-F539093811C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1050840" y="1052640"/>
            <a:ext cx="78138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Tempo = Risorsa Limit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Cose che si fanno real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4"/>
          <p:cNvSpPr/>
          <p:nvPr/>
        </p:nvSpPr>
        <p:spPr>
          <a:xfrm>
            <a:off x="4581360" y="2567160"/>
            <a:ext cx="752760" cy="790560"/>
          </a:xfrm>
          <a:prstGeom prst="downArrow">
            <a:avLst>
              <a:gd name="adj1" fmla="val 50000"/>
              <a:gd name="adj2" fmla="val 109567"/>
            </a:avLst>
          </a:prstGeom>
          <a:solidFill>
            <a:srgbClr val="ffffff"/>
          </a:solidFill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660240" y="3486240"/>
            <a:ext cx="858528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Cose da fare 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“</a:t>
            </a:r>
            <a:r>
              <a:rPr b="0" i="1" lang="it-IT" sz="3200" spc="-1" strike="noStrike">
                <a:solidFill>
                  <a:srgbClr val="1b587c"/>
                </a:solidFill>
                <a:latin typeface="Arial"/>
              </a:rPr>
              <a:t>INFINI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920880" y="4869000"/>
            <a:ext cx="819936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a scelta delle attività da collocare dentro al nostro tempo e il come collocarle determina 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b587c"/>
                </a:solidFill>
                <a:latin typeface="Arial"/>
              </a:rPr>
              <a:t>“</a:t>
            </a:r>
            <a:r>
              <a:rPr b="1" lang="it-IT" sz="1800" spc="-1" strike="noStrike">
                <a:solidFill>
                  <a:srgbClr val="1b587c"/>
                </a:solidFill>
                <a:latin typeface="Arial"/>
              </a:rPr>
              <a:t>SCELTA-DECISION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’uso del tem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9154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FACCIO O NON FACCIO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FACCIO IO O LASCIO FARE AD ALTRI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FACCIO SUBITO O FARO’ DOPO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FACCIO IN PIU’ O MENO TEMPO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984240" y="3141720"/>
            <a:ext cx="8145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raverso questo processo continuo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“</a:t>
            </a: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SCELTA-DECISIONE”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merge il nost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RUOLO RE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ell’organizzazione del t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9EFD-0375-436B-9D39-4021409543F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Uso o gestione del tempo?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60160" y="980640"/>
            <a:ext cx="89154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Il tempo non si gestisce: si utilizza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Noi possiamo gestire le attività da svolgere all’interno del tempo a disposizione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’attività a cui dedico il mio tempo é per me prioritaria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1281240" y="3951360"/>
            <a:ext cx="3257640" cy="67860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ia per una sce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AUTODETERMIN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2498760" y="4865760"/>
            <a:ext cx="5761440" cy="67860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ia per una sce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DETERMINATA DA ALTRI/VINCOL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6"/>
          <p:cNvSpPr/>
          <p:nvPr/>
        </p:nvSpPr>
        <p:spPr>
          <a:xfrm flipH="1">
            <a:off x="3301920" y="3429000"/>
            <a:ext cx="881280" cy="285840"/>
          </a:xfrm>
          <a:prstGeom prst="line">
            <a:avLst/>
          </a:prstGeom>
          <a:ln w="28440">
            <a:solidFill>
              <a:srgbClr val="f07f0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7"/>
          <p:cNvSpPr/>
          <p:nvPr/>
        </p:nvSpPr>
        <p:spPr>
          <a:xfrm>
            <a:off x="6494400" y="3429000"/>
            <a:ext cx="770040" cy="1257480"/>
          </a:xfrm>
          <a:prstGeom prst="line">
            <a:avLst/>
          </a:prstGeom>
          <a:ln w="28440">
            <a:solidFill>
              <a:srgbClr val="f07f0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egnaposto numero diapositiva 9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6567-9E93-4367-85DB-335B6A7517A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Uso o gestione del tempo?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09200" y="1052640"/>
            <a:ext cx="84200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1b587c"/>
                </a:solidFill>
                <a:uFillTx/>
                <a:latin typeface="Arial"/>
              </a:rPr>
              <a:t>Tempo gestito da altri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: per deleghe,procedure,urgenze di altri,ordini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1b587c"/>
                </a:solidFill>
                <a:uFillTx/>
                <a:latin typeface="Arial"/>
              </a:rPr>
              <a:t>Tempo condizionato da altri e da noi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1b587c"/>
                </a:solidFill>
                <a:uFillTx/>
                <a:latin typeface="Arial"/>
              </a:rPr>
              <a:t>Tempo autodeterminato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1b587c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1b587c"/>
                </a:solidFill>
                <a:latin typeface="Arial"/>
              </a:rPr>
              <a:t>I vincoli e gli influenzamenti esterni non vanno subiti;</a:t>
            </a:r>
            <a:br>
              <a:rPr sz="2400"/>
            </a:br>
            <a:r>
              <a:rPr b="0" i="1" lang="it-IT" sz="2400" spc="-1" strike="noStrike">
                <a:solidFill>
                  <a:srgbClr val="1b587c"/>
                </a:solidFill>
                <a:latin typeface="Arial"/>
              </a:rPr>
              <a:t>lo spazio di autodeterminazione va difeso ed allargato !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27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23D7-C274-422F-9FCE-CE912697832C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Desideri e uso reale del tem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29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D70D-E66F-435C-A5F8-995D90E76C28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990720" y="1052640"/>
            <a:ext cx="7924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La differenza tra uso del tempo reale e uso desiderato è sempre determinata 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631800" y="3213000"/>
            <a:ext cx="1743120" cy="219240"/>
          </a:xfrm>
          <a:prstGeom prst="rightArrow">
            <a:avLst>
              <a:gd name="adj1" fmla="val 50000"/>
              <a:gd name="adj2" fmla="val 190560"/>
            </a:avLst>
          </a:prstGeom>
          <a:solidFill>
            <a:srgbClr val="ffffff"/>
          </a:solidFill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631800" y="5084640"/>
            <a:ext cx="1743120" cy="219240"/>
          </a:xfrm>
          <a:prstGeom prst="rightArrow">
            <a:avLst>
              <a:gd name="adj1" fmla="val 50000"/>
              <a:gd name="adj2" fmla="val 190560"/>
            </a:avLst>
          </a:prstGeom>
          <a:solidFill>
            <a:srgbClr val="ffffff"/>
          </a:solidFill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2824200" y="3029040"/>
            <a:ext cx="693432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1b587c"/>
                </a:solidFill>
                <a:uFillTx/>
                <a:latin typeface="Arial"/>
              </a:rPr>
              <a:t>crisi motivazionale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prevalere di bisogni ritenuti meno rilevanti,e/o la paura di non possedere le risorse adegu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2824200" y="4724280"/>
            <a:ext cx="64944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1b587c"/>
                </a:solidFill>
                <a:uFillTx/>
                <a:latin typeface="Arial"/>
              </a:rPr>
              <a:t>crisi strumentale</a:t>
            </a:r>
            <a:r>
              <a:rPr b="0" lang="it-IT" sz="4400" spc="-1" strike="noStrike">
                <a:solidFill>
                  <a:srgbClr val="1b587c"/>
                </a:solidFill>
                <a:latin typeface="Arial"/>
              </a:rPr>
              <a:t>:</a:t>
            </a:r>
            <a:br>
              <a:rPr sz="4400"/>
            </a:b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non conoscenza tecnica di strumenti oper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6:34:11Z</dcterms:created>
  <dc:creator>Gianmarco Falzi</dc:creator>
  <dc:description/>
  <dc:language>en-US</dc:language>
  <cp:lastModifiedBy>Gianmarco Falzi</cp:lastModifiedBy>
  <dcterms:modified xsi:type="dcterms:W3CDTF">2010-07-25T14:07:29Z</dcterms:modified>
  <cp:revision>114</cp:revision>
  <dc:subject/>
  <dc:title>Diapositiva 1</dc:title>
</cp:coreProperties>
</file>