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wmf" ContentType="image/x-wmf"/>
  <Override PartName="/ppt/media/image14.wmf" ContentType="image/x-wmf"/>
  <Override PartName="/ppt/media/image9.wmf" ContentType="image/x-wmf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8.wmf" ContentType="image/x-wmf"/>
  <Override PartName="/ppt/media/image13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B5F7-0AB3-45B4-A74E-2AE309B8DED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BF49-0994-44A9-934F-08BA10C37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FF3C-8F25-4B56-92DD-C6B87DE435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1FF0-2661-43FE-8675-C6BEC407CF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DCBB-2AB0-4E72-B129-4C934F0A0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F726-21A3-4731-A433-244421F15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81F8-B855-49C2-A6B7-F9D39E9F5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B486-C730-4BA5-ABE8-2009CA234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11FB-966C-4F2D-943A-4B39D734F3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DFF4-D1C3-4FE2-9C2F-F5D1AF895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21D8-1E7C-47B9-A826-E5B4EE4DD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74A9-1958-4682-AEAD-9EE92DB32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75D6-5A3C-4639-B514-1EA4E85DA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9441-9DE2-40BF-9D7B-625FC8231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85A2-32E1-4ACA-8DBD-16EC90F23B51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8288-957E-491D-8E14-818F4C9871A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FDAE-A1A3-49EF-87C4-D6252289E50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95B7-F6C5-427D-8F4F-8C8E8D411D2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40A5-D6D5-4E08-AE7E-FA9BEE374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C5E1-D268-4535-88E3-0B23362B9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6852-ACD9-43D1-BD39-D4F6ABF9C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0D2F-D6D5-4C54-B86C-0ADEED7D2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E434-FB75-4AFE-BFAC-ED3C5BD46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942E-5E25-4539-843E-9952E706145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37EA-CE63-467F-8011-44CF29263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69B6-12FF-41E0-A2D4-14AA12627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F2DC-31CD-4A99-B361-2B5CFD4BC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7F37-6E66-497C-943B-9E0A7AA9D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5502-97CD-4D3B-A7E8-5810C43F8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D409-F234-4D81-909A-39D18922E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2A6E-3D88-4DDB-832F-A0FAB0194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1E24-EF84-41B6-B310-CF4223173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F892-F5F6-4F27-9F59-27E79BD3D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5492-173C-411E-B4E2-AE9F82722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C1B2-2085-4C66-B663-84F0F0A10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DBDB-D353-49ED-82BB-62675A0C5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3285-BEFC-4A57-9F15-3B373D54D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2F4B-369B-4EB2-BE55-28AA2A68B62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726D-0177-44DD-B330-15DF8DE67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FD5A-7AB6-4D94-83DE-987DCA083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EA5C-13D6-42DA-ADBB-EEB6BD583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C58A-263D-4D05-A2C0-67B838217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AEFF-F7AD-41C5-9019-EFEB39B44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E587-5A39-4C42-850C-00C774AF7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3B5D-3718-449C-A9FC-AF1C764F1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F2A8-C9BB-491C-8289-E901E8FDD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5922-2CE8-40BC-9344-706EF5AF7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88C4-8F99-4F07-AF16-ABA0BDB0E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3456-6C2C-40A7-8036-AAB0C341A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AF1F-D801-403A-B19D-2E09A5CAA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219E-586A-4DE0-9706-88C30F86B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C77C-C935-45FD-BBDD-A42329128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B1BC-85B4-430C-AB11-E4E7CA2D1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CA01-BF25-4C52-B07F-9E24B7074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3162-04E1-4494-B305-438C407A9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B8A2-F09B-45FE-B154-B55E3F28C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935C-84EB-4859-A272-538EA79AA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0B6A-4C54-4CC8-9F31-49AA8D286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4A78-AC96-450F-B1C5-2947264EC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1E1C-7DC4-4960-A01E-81324A7FD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CC2E-CB14-4CCF-A0F5-5F3A06091C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360F-288A-4F5C-BACF-2F8CC1756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B5B8-CA05-49DD-B91B-BFEF3D5B9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D455-1B36-42D4-90A5-C8E8BBC65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4C82-18B1-4709-98E0-728EF3E7F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3223-07FE-4C65-903F-1CFA4DA12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2023-41B5-4B79-B0F5-C949C27FCF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CFBF-5B4F-4767-A7F9-04E659B1DE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727F-4B88-4030-9E46-ECEE8794F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08E5-F350-4C54-B673-DF3798085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25C4-06EB-459F-AC35-F0141FE45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0433-AEBB-4619-81CB-0E2D28BA6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ABAA-69F2-49A1-AE77-B63B53363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417A-94FA-466C-A56D-A087F4B03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ABE5-7C77-4DA5-B624-5BD0AB13C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15C3-7C47-453C-81F5-8FA9499D03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2568-A0B9-4CA2-841E-DC3A0A9E2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F0A8-C9ED-4479-9A5A-1E2C124E71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0BE9-92F5-4D40-AAC3-850CD4E82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7D99-E730-496F-BC4D-AE4594D534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8008-4A65-4D24-AEA7-0134263C7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4230-69EB-4950-B7CB-8F00B6C84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049D-1093-4A90-A760-0E73E229E7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60D6-D2E1-4A9B-A1A9-AEF864810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1A84-6D7C-457D-BBBF-315074F19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08E4-65C4-4D76-97AB-6F12DC8FE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D6B3-2828-465C-81B0-FD7FB2505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0DAD-5791-4285-94F6-BB6DBD65DE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716E-2592-4A08-B46C-593B59194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770F-5F10-495C-B1E9-F8DBE4FB5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1ACE-28F2-4A10-B4D3-9EEE69694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462F-4C87-408E-925D-66ADFFADF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95AC-1CFC-4720-8165-B9BB3854B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8B97-C459-45A2-B465-B016DB22D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CB51-2891-423A-BB12-41AA154DDA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C916D-5DD9-4C85-A2AD-1870C667AB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F706-BDD9-4F8A-9310-A998F18B29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826A-1928-4F8F-8F17-D7BDA072A3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ACC8E-CED1-47F6-BC86-0E9B7E8BD1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9135-1E1A-43D3-BAE4-0DE62C05C0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466B1-B329-4189-8FBD-49663609E0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360C8-D857-418E-A8C6-CD52E5D350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17AEF-8BD9-4193-93DE-CD6799640D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1BC33-8F8F-45C5-8C25-02D584D671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87589-AD7F-41FE-B447-4AE04EBB98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3337B-BDFF-4751-ADBF-AE0A38412AF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1191C-E9B8-47F6-9DAA-F298E7EF8A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B9B-ACF8-4A77-B806-8C49DF9B9A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A3F-4BBC-465B-9E31-F11BECA0C6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939-124C-4641-8143-F5EEEC137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B54D-E2FF-470C-BB85-96BEE1E8C8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7A2-46F9-40D0-9007-7582C43495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29D4-E57F-464A-A36A-B8512984065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17F-FA26-4216-B04C-A15DFC1176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C0A-81CC-45A1-A7ED-4E8EEB2EE46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B516-A39E-43B2-A08B-16D0DA88BF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E26-8EDC-4CF1-9418-35B1B10FC0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27A2-1416-41B3-BA09-70FDD58D12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8BA-EAD3-4282-867A-A29A54AF6C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1C1A-FC52-4D26-BBEA-FD90D9FF22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5F7B-E072-465C-9EA7-7F5505F4F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DD9D-1FFE-4358-A4E4-23A1F7796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CB22-D4D1-46D5-AE4B-0F09EBCEA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2DFC-5F21-4236-BD98-4182CD3B1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32C5-0D6F-41DA-B3C0-460B2D5B1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102600" y="6350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DF66-BE2A-45C1-981C-09657E13A951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Immagine 4" descr="banner sopra.jpg"/>
          <p:cNvPicPr/>
          <p:nvPr/>
        </p:nvPicPr>
        <p:blipFill>
          <a:blip r:embed="rId2"/>
          <a:stretch/>
        </p:blipFill>
        <p:spPr>
          <a:xfrm>
            <a:off x="365040" y="369720"/>
            <a:ext cx="9221760" cy="1525680"/>
          </a:xfrm>
          <a:prstGeom prst="rect">
            <a:avLst/>
          </a:prstGeom>
          <a:ln w="0">
            <a:noFill/>
          </a:ln>
        </p:spPr>
      </p:pic>
      <p:sp>
        <p:nvSpPr>
          <p:cNvPr id="40" name="Rettangolo 6"/>
          <p:cNvSpPr/>
          <p:nvPr/>
        </p:nvSpPr>
        <p:spPr>
          <a:xfrm>
            <a:off x="309600" y="357120"/>
            <a:ext cx="9286920" cy="6143760"/>
          </a:xfrm>
          <a:prstGeom prst="rect">
            <a:avLst/>
          </a:prstGeom>
          <a:noFill/>
          <a:ln w="19080">
            <a:solidFill>
              <a:srgbClr val="84a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Connettore 1 7"/>
          <p:cNvSpPr/>
          <p:nvPr/>
        </p:nvSpPr>
        <p:spPr>
          <a:xfrm>
            <a:off x="8382240" y="213480"/>
            <a:ext cx="1362600" cy="1365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onnettore 1 8"/>
          <p:cNvSpPr/>
          <p:nvPr/>
        </p:nvSpPr>
        <p:spPr>
          <a:xfrm>
            <a:off x="167040" y="5285520"/>
            <a:ext cx="1362960" cy="1365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sellaDiTesto 9"/>
          <p:cNvSpPr/>
          <p:nvPr/>
        </p:nvSpPr>
        <p:spPr>
          <a:xfrm>
            <a:off x="309600" y="6224760"/>
            <a:ext cx="35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b587c"/>
                </a:solidFill>
                <a:latin typeface="Century Gothic"/>
              </a:rPr>
              <a:t>Consulente: Gianmarco Fal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sellaDiTesto 10"/>
          <p:cNvSpPr/>
          <p:nvPr/>
        </p:nvSpPr>
        <p:spPr>
          <a:xfrm>
            <a:off x="7167600" y="6215040"/>
            <a:ext cx="24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b587c"/>
                </a:solidFill>
                <a:latin typeface="Century Gothic"/>
              </a:rPr>
              <a:t>www.personeorganizzazioni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ngolo ripiegato 4"/>
          <p:cNvSpPr/>
          <p:nvPr/>
        </p:nvSpPr>
        <p:spPr>
          <a:xfrm>
            <a:off x="9028080" y="6162840"/>
            <a:ext cx="577800" cy="577800"/>
          </a:xfrm>
          <a:prstGeom prst="foldedCorner">
            <a:avLst>
              <a:gd name="adj" fmla="val 42495"/>
            </a:avLst>
          </a:prstGeom>
          <a:solidFill>
            <a:srgbClr val="e3ded1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magine 4" descr="banner sopra.jpg"/>
          <p:cNvPicPr/>
          <p:nvPr/>
        </p:nvPicPr>
        <p:blipFill>
          <a:blip r:embed="rId2"/>
          <a:stretch/>
        </p:blipFill>
        <p:spPr>
          <a:xfrm>
            <a:off x="365040" y="369720"/>
            <a:ext cx="9221760" cy="152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212F-4ED3-47C7-B26B-3D6455B45010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ngolo ripiegato 4"/>
          <p:cNvSpPr/>
          <p:nvPr/>
        </p:nvSpPr>
        <p:spPr>
          <a:xfrm>
            <a:off x="9028080" y="6162840"/>
            <a:ext cx="577800" cy="577800"/>
          </a:xfrm>
          <a:prstGeom prst="foldedCorner">
            <a:avLst>
              <a:gd name="adj" fmla="val 42495"/>
            </a:avLst>
          </a:prstGeom>
          <a:solidFill>
            <a:srgbClr val="e3ded1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onnettore 1 6"/>
          <p:cNvSpPr/>
          <p:nvPr/>
        </p:nvSpPr>
        <p:spPr>
          <a:xfrm>
            <a:off x="166680" y="785880"/>
            <a:ext cx="9286920" cy="1440"/>
          </a:xfrm>
          <a:prstGeom prst="line">
            <a:avLst/>
          </a:prstGeom>
          <a:ln w="93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ttore 1 7"/>
          <p:cNvSpPr/>
          <p:nvPr/>
        </p:nvSpPr>
        <p:spPr>
          <a:xfrm>
            <a:off x="496800" y="285840"/>
            <a:ext cx="28800" cy="621504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uppo 10"/>
          <p:cNvGrpSpPr/>
          <p:nvPr/>
        </p:nvGrpSpPr>
        <p:grpSpPr>
          <a:xfrm>
            <a:off x="3916080" y="6357960"/>
            <a:ext cx="2394360" cy="450720"/>
            <a:chOff x="3916080" y="6357960"/>
            <a:chExt cx="2394360" cy="450720"/>
          </a:xfrm>
        </p:grpSpPr>
        <p:pic>
          <p:nvPicPr>
            <p:cNvPr id="128" name="Immagine 9" descr="solo logo sopra stretto.jpg"/>
            <p:cNvPicPr/>
            <p:nvPr/>
          </p:nvPicPr>
          <p:blipFill>
            <a:blip r:embed="rId2"/>
            <a:stretch/>
          </p:blipFill>
          <p:spPr>
            <a:xfrm>
              <a:off x="4800600" y="6357960"/>
              <a:ext cx="15098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CasellaDiTesto 10"/>
            <p:cNvSpPr/>
            <p:nvPr/>
          </p:nvSpPr>
          <p:spPr>
            <a:xfrm>
              <a:off x="3916080" y="64022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1b587c"/>
                  </a:solidFill>
                  <a:latin typeface="Century Gothic"/>
                </a:rPr>
                <a:t>Realizzato 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3"/>
          </p:nvPr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8C25-DF98-403E-B536-B6997DCC00F6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280" y="2781360"/>
            <a:ext cx="8381880" cy="1433520"/>
          </a:xfrm>
          <a:prstGeom prst="rect">
            <a:avLst/>
          </a:prstGeom>
          <a:noFill/>
          <a:ln w="9360">
            <a:solidFill>
              <a:srgbClr val="1b587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IL MESTIERE DI CAPO E LA GESTIONE DEI COLLABORATORI</a:t>
            </a:r>
            <a:endParaRPr b="1" lang="en-US" sz="36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42680" y="4621320"/>
            <a:ext cx="8297640" cy="11779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Indicazioni concrete per i responsabili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Primo incontro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801720" y="1886040"/>
            <a:ext cx="8305920" cy="30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80% del tempo per il 20% di attività e problemi importanti,strategici,che danno l’80% dei risult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20% del tempo per l’80% di attività e problemi non importanti,operativi che danno il 20% dei risult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Pareto sostiene che: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2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09DA-E19B-409F-AF1D-A541FD84147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3668400" y="1371600"/>
            <a:ext cx="260100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IANIF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900000" y="23763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DENTIFICAZIONE DEI FINI DEL REPARTO/UFF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257800" y="237636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GETTAZIONE DI PIANI DI 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595440" y="3718080"/>
            <a:ext cx="4495680" cy="223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’E’ LA MISSION DEL MIO REPARTO/UFFIC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SONO GLI OBIETTIVI CHE MI PONGO O CHE MI HANNO ASSEGNATO (FATTURATO, REDDITIVITA’, PRESTAZIONE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5595840" y="3718080"/>
            <a:ext cx="3853080" cy="24246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OBIE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ZIONI 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CAD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ISTEMA DI MONITORAG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MISURA DEI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5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9F57-0E30-4194-B821-F3B8A62008F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3668400" y="1233360"/>
            <a:ext cx="260100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IANIF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20760" y="2176560"/>
            <a:ext cx="459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ACCOLTA DI INFORMAZIONI/ ELABORAZIONE DI SCEN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257800" y="217656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GRAMMAZIONE SVILUPPO SERVI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76120" y="3632040"/>
            <a:ext cx="4649760" cy="24915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’E’ L’ANDAMENTO DEL MERCA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 SONO POSIZIONATI I CONCORREN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SONO LE VARIABILI ESTERNE CHE INCIDERANNO SULLA PERFORMANCE AZIENDA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173560" y="3632040"/>
            <a:ext cx="4537080" cy="23328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E QUANTE RISORSE DEDIC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PARTNERSHIP ATTIV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BENCH MARK CON I CONCORR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TRUMENTI PER CALCOLARE LA REDDITIVITA’ DEI PROG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42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C654-2FED-4CDC-81C8-549D3CF0B07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528360" y="1114560"/>
            <a:ext cx="288900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976320" y="213372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UTAZIONE DELLE RISORSE NECESSARIE E DISPONI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5400720" y="231444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GRAMMAZIONE DEI TEMPI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71400" y="3718080"/>
            <a:ext cx="4496040" cy="208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I COSA HO BISOGNO PER OTTENERE GLI OBIETTIV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OVE POSSO REPERIRE CIO’ CHE MI SER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PIANO DI REPERIMENTO RIS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5477040" y="3517920"/>
            <a:ext cx="4190760" cy="24246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TO POSSO PRODUR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TO VOGLIO PRODUR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SA PRODU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N QUALI TEMP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N QUANTE RISO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49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6487-07F9-4119-A5BB-8BDD8EC00E6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3509280" y="993600"/>
            <a:ext cx="288900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612720" y="1895400"/>
            <a:ext cx="45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UDDIVISIONE DEI COMPITI E ATTRIBUZIONE DELLE RESPONS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11080" y="3411360"/>
            <a:ext cx="4175280" cy="27774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 FACCIO A PRODUR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SONO I MIEI PROCESS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HI FA CHE CO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SONO LE RESPONSABILITA’ DEI RUO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 DEVE CIRCOLARE L’INFORMAZI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5130720" y="2098800"/>
            <a:ext cx="45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IGLIORAMENTO DEI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5405400" y="3429000"/>
            <a:ext cx="4329000" cy="21898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 SONO LE FASI CRITICHE NEL PROCESS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TO POSSO RIDURRE I COS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125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 MIGLIORARE COSTANTEMENTE LA QUALITA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BF11-FF84-4906-BDB7-9B801120F9F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4076280" y="1197000"/>
            <a:ext cx="175500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947880" y="1847880"/>
            <a:ext cx="38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L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257800" y="1847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VIL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00120" y="2617920"/>
            <a:ext cx="4495680" cy="33980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VENGONO DEFINITI ED ASSEGNATI OBIETTIV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VVIENE UNA VALUTAZIONE DELLE COMPETENZE NECESSARIE E DISPONIBI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 CI SI MUOVE PER RICERCARE E SELEZIONARE LE RISORSE PROFESSIONALI NECESSAR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5391000" y="2617920"/>
            <a:ext cx="4114800" cy="30690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TO CRESCONO PROFESSIONALMENTE LE MIE RISO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’AZIENDA ED I CAPI FAVORISCONO LA CRESCITA MANGERIALE DI ALTRE FIGU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 RESPONSABILI INSEGNANO AI COLLABORATOR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63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1E96-1E20-46CD-B83F-EA0480B1894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4065120" y="1219320"/>
            <a:ext cx="175500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905040" y="2011320"/>
            <a:ext cx="38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COM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5400720" y="18288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 CLIMA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600120" y="2703600"/>
            <a:ext cx="4495680" cy="339804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GESTIONE DEL SISTEMA DI RETRIBUZIONE FISSO E VARIABILE E’ EFFICA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ESISTE E VIENE CORRENTEMENTE UTILIZZATO UN SISTEMA DI RETRIBUZIONI NON MONETAR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 SONO COINVOLTI I CAPI DI LINEA NELL’ASSEGNAZIONE DELLE RICOMPEN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5324400" y="2703600"/>
            <a:ext cx="4267440" cy="32950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9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ONO CAPACE DI PREMIARE E DI BIASIM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9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ONO ATTENTO AI SEGNALI DEBO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9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UNICO IN MODO EFFICACE CON I COLLABORATOR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9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MI PREOCCUPO DEL BENESSERE DEL GRUPP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9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ZIENDA: CASERMA, FAMIGLIA O SQUAD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70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9F78-90D0-41D1-9C68-338395C810D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3920400" y="1144440"/>
            <a:ext cx="207648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590400" y="19447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FINIZIONE DI STANDARD DI PRESTAZIONE E MOMENTI DI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257800" y="21258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NITORAGGIO DEI FLUSSI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666720" y="3403440"/>
            <a:ext cx="4495680" cy="22395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HO CHIARO E SO SPIEGARE QUANDO E COME UNA PRESTAZIONE MI SODDISF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FISSO MOMENTI DI VALUTAZIONE FORMALI CON I MIEI COLLABORATOR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5334120" y="3429000"/>
            <a:ext cx="4190760" cy="273996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HO SOTTO CONTROLLO I FLUSSI PRODUTTIV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UTILIZZO STRUMENTI PER IL CONTROLLO DELLA QUALITA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20000"/>
              </a:lnSpc>
              <a:spcBef>
                <a:spcPts val="1349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BBIAMO UN SISTEMA DI RACCOLTA DI DATI STATISTICI DI PRESTAZIONE A TUTTI I LIVELL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77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3F69-7A7E-4101-9332-03787A42AD0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20400" y="1219320"/>
            <a:ext cx="2076480" cy="4597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143000" y="20574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ACCOLTA DATI SU ANDAMENTI E PRES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1498680" y="2790720"/>
            <a:ext cx="6933960" cy="33570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I SIAMO DATI STRUMENTI PER SAPERE COME STIAMO ANDANDO IN TERMINI D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-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LIMA ALL’INTERNO DELL’AZI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-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RISULTATI QUANTITATIVI DELLE PRESTAZIONI DEI 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INGOLI E AZIEND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-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LITA’ DEL SERVIZIO/PRODOTTO EROG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282600"/>
                <a:tab algn="l" pos="565200"/>
                <a:tab algn="l" pos="847800"/>
                <a:tab algn="l" pos="1130400"/>
                <a:tab algn="l" pos="1413000"/>
                <a:tab algn="l" pos="1695600"/>
                <a:tab algn="l" pos="1978200"/>
                <a:tab algn="l" pos="2260440"/>
                <a:tab algn="l" pos="2543040"/>
                <a:tab algn="l" pos="2825640"/>
                <a:tab algn="l" pos="3108240"/>
                <a:tab algn="l" pos="3390840"/>
                <a:tab algn="l" pos="3673440"/>
                <a:tab algn="l" pos="3956040"/>
                <a:tab algn="l" pos="4238640"/>
                <a:tab algn="l" pos="4521240"/>
                <a:tab algn="l" pos="4803840"/>
                <a:tab algn="l" pos="5086440"/>
                <a:tab algn="l" pos="5369040"/>
                <a:tab algn="l" pos="565164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-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NTROLLO DEI COS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2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7A8A-B662-49B6-A81A-C948E71FB54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347120" y="122868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IANIF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204200" y="37148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6565320" y="12142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6630120" y="37148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781200" y="1752480"/>
            <a:ext cx="37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Determinazione dei fini della strut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Progettazione di piani di 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819000" y="4305240"/>
            <a:ext cx="3848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Valutazione delle risorse necessarie e disponibi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Programmazione dei tempi di 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Suddivisione dei compiti e attribuzione delle responsabil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Miglioramento dei proces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5932440" y="4305240"/>
            <a:ext cx="347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Definizione di standard di prestazione e momenti di valut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Monitoraggio dei flussi di 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5977080" y="1824120"/>
            <a:ext cx="293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Dele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Sviluppo dei collabor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Gestione delle ricomp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5120" indent="-195120"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b587c"/>
                </a:solidFill>
                <a:latin typeface="Arial"/>
              </a:rPr>
              <a:t>Attenzione al clima int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quattro macro attività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2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8620-7C15-45C9-AF6D-80D83CED2F6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685800" y="1295280"/>
            <a:ext cx="853452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’ORGANIZZAZIONE PUO’ ESSERE DEFINITA COME UN INSIEME DI ASPETTATIVE RISPETTO AI COMPORTAMENTI DI CIASCUNO DEI MEMB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5800" y="4038480"/>
            <a:ext cx="853452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GNI PERSONA SI ASPETTA CHE I COLLEGHI O IL RESPONSABILE ASSUMANO DEI COMPORTAMENTI DETERMINATI DAL RUOLO RICOP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organizz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1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6EE1-8532-4C00-B9AE-EF4F7F29A3C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1611360" y="1746360"/>
            <a:ext cx="668664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I SONO ATTIVITA’ CHE POSSONO ESSERE SVOLTE SOLO DA VO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 QUESTE VA DATA PRIORITA’ DELEGANDO IN MODO ADEGU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n conclusione: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3B27-F522-44AD-BDA7-230A3914F2C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tabilire le priorità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97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ACFB-B43D-4785-AB3F-A4B42C97EBB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47800" y="1214280"/>
            <a:ext cx="8283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L’IMPORTANZA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cidenza di una attività sugli obiettivi fondamental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738360" y="3112920"/>
            <a:ext cx="8393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3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1b587c"/>
                </a:solidFill>
                <a:uFillTx/>
                <a:latin typeface="Arial"/>
              </a:rPr>
              <a:t>L’URGENZA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é determinata dalla scadenza entro cui il problema va gestito con successo e senza dann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738360" y="4786200"/>
            <a:ext cx="82548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 algn="ctr">
              <a:spcBef>
                <a:spcPts val="2001"/>
              </a:spcBef>
              <a:buClr>
                <a:srgbClr val="1b587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entrambe alte/b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5000" indent="-765000" algn="ctr">
              <a:spcBef>
                <a:spcPts val="2001"/>
              </a:spcBef>
              <a:buClr>
                <a:srgbClr val="1b587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b587c"/>
                </a:solidFill>
                <a:latin typeface="Arial"/>
              </a:rPr>
              <a:t>una alta/l’altra b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urgenz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2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4EBA-8F4E-45B0-9609-4C2213215A6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1046160" y="1285920"/>
            <a:ext cx="78138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L’80% delle urgenze nascono su attività e problemi che incidono al 20% sui risultati fin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25480" y="2687760"/>
            <a:ext cx="8310600" cy="137376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1b587c"/>
                </a:solidFill>
                <a:uFillTx/>
                <a:latin typeface="Arial"/>
              </a:rPr>
              <a:t>attività e problemi a dinamicità nulla o positiva</a:t>
            </a: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:</a:t>
            </a:r>
            <a:br>
              <a:rPr sz="2800"/>
            </a:b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col passare del tempo rimangono inalterati,diventano più facili o si risolvono da s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770040" y="4538520"/>
            <a:ext cx="8366040" cy="137376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1b587c"/>
                </a:solidFill>
                <a:uFillTx/>
                <a:latin typeface="Arial"/>
              </a:rPr>
              <a:t>attività e problemi a dinamicità negativa</a:t>
            </a: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:</a:t>
            </a:r>
            <a:br>
              <a:rPr sz="2800"/>
            </a:b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col passare del tempo diventano più difficili da gestire e producono effetti negativi cresc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sistema A-B-C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E4B2-EC40-4190-97CA-02DCF8745B9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8000" y="1230480"/>
            <a:ext cx="85849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 compiti A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: devono essere svolti subito; 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 risultati che si possono conseguire sono rilevanti, se tralasciati comportano serie conseguenz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 compiti B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: dovrebbero essere svolti subito;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possono essere rimandati a lungo altrimenti si trasformano in compiti A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b587c"/>
                </a:solidFill>
                <a:latin typeface="Arial"/>
              </a:rPr>
              <a:t>i compiti C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: possono essere rimandati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sistema A-B-C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000B-A07F-4325-8B52-7DBBB0FAFAB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66720" y="1171440"/>
            <a:ext cx="850104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… </a:t>
            </a: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e poi i compiti D : in teoria non dovrebbero essere fatti perché non vincolati da scadenze, ma sono piacevoli!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Possiamo anche dare delle sottocategorie come A1, A2, A3, ecc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COME : segnare in agenda, schedari, cartelline, ecc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NO post it e biglietti volanti!!!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55280" y="2739960"/>
            <a:ext cx="8381880" cy="1433520"/>
          </a:xfrm>
          <a:prstGeom prst="rect">
            <a:avLst/>
          </a:prstGeom>
          <a:noFill/>
          <a:ln w="9360">
            <a:solidFill>
              <a:srgbClr val="1b587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IL MESTIERE DI CAPO E LA GESTIONE DEI COLLABORATORI</a:t>
            </a:r>
            <a:endParaRPr b="1" lang="en-US" sz="36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42680" y="4621320"/>
            <a:ext cx="8297640" cy="11779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Indicazioni concrete per i responsabili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Secondo incontro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mappa delle “grane” del ca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5" name="Segnaposto numero diapositiva 1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1EA2-CD53-4C36-863D-62914958854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738360" y="928800"/>
            <a:ext cx="8665920" cy="4135320"/>
          </a:xfrm>
          <a:custGeom>
            <a:avLst/>
            <a:gdLst>
              <a:gd name="textAreaLeft" fmla="*/ 0 w 8665920"/>
              <a:gd name="textAreaRight" fmla="*/ 8666280 w 8665920"/>
              <a:gd name="textAreaTop" fmla="*/ 0 h 4135320"/>
              <a:gd name="textAreaBottom" fmla="*/ 1485360 h 4135320"/>
            </a:gdLst>
            <a:ahLst/>
            <a:rect l="textAreaLeft" t="textAreaTop" r="textAreaRight" b="textAreaBottom"/>
            <a:pathLst>
              <a:path w="21600" h="21600">
                <a:moveTo>
                  <a:pt x="7751" y="10812"/>
                </a:moveTo>
                <a:cubicBezTo>
                  <a:pt x="7751" y="10808"/>
                  <a:pt x="7751" y="10804"/>
                  <a:pt x="7751" y="10800"/>
                </a:cubicBezTo>
                <a:cubicBezTo>
                  <a:pt x="7751" y="9116"/>
                  <a:pt x="9116" y="7751"/>
                  <a:pt x="10800" y="7751"/>
                </a:cubicBezTo>
                <a:cubicBezTo>
                  <a:pt x="12483" y="7751"/>
                  <a:pt x="13849" y="9116"/>
                  <a:pt x="13849" y="10800"/>
                </a:cubicBezTo>
                <a:cubicBezTo>
                  <a:pt x="13849" y="10804"/>
                  <a:pt x="13848" y="10808"/>
                  <a:pt x="13848" y="10812"/>
                </a:cubicBezTo>
                <a:lnTo>
                  <a:pt x="21599" y="10842"/>
                </a:lnTo>
                <a:cubicBezTo>
                  <a:pt x="21599" y="10828"/>
                  <a:pt x="21600" y="10814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14"/>
                  <a:pt x="0" y="10828"/>
                  <a:pt x="0" y="10842"/>
                </a:cubicBezTo>
                <a:lnTo>
                  <a:pt x="7751" y="10812"/>
                </a:lnTo>
                <a:close/>
              </a:path>
            </a:pathLst>
          </a:cu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 rot="10800000">
            <a:off x="736200" y="2209320"/>
            <a:ext cx="8666280" cy="4135680"/>
          </a:xfrm>
          <a:custGeom>
            <a:avLst/>
            <a:gdLst>
              <a:gd name="textAreaLeft" fmla="*/ 0 w 8666280"/>
              <a:gd name="textAreaRight" fmla="*/ 8666640 w 8666280"/>
              <a:gd name="textAreaTop" fmla="*/ 0 h 4135680"/>
              <a:gd name="textAreaBottom" fmla="*/ 1485360 h 4135680"/>
            </a:gdLst>
            <a:ahLst/>
            <a:rect l="textAreaLeft" t="textAreaTop" r="textAreaRight" b="textAreaBottom"/>
            <a:pathLst>
              <a:path w="21600" h="21600">
                <a:moveTo>
                  <a:pt x="7751" y="10812"/>
                </a:moveTo>
                <a:cubicBezTo>
                  <a:pt x="7751" y="10808"/>
                  <a:pt x="7751" y="10804"/>
                  <a:pt x="7751" y="10800"/>
                </a:cubicBezTo>
                <a:cubicBezTo>
                  <a:pt x="7751" y="9116"/>
                  <a:pt x="9116" y="7751"/>
                  <a:pt x="10800" y="7751"/>
                </a:cubicBezTo>
                <a:cubicBezTo>
                  <a:pt x="12483" y="7751"/>
                  <a:pt x="13849" y="9116"/>
                  <a:pt x="13849" y="10800"/>
                </a:cubicBezTo>
                <a:cubicBezTo>
                  <a:pt x="13849" y="10804"/>
                  <a:pt x="13848" y="10808"/>
                  <a:pt x="13848" y="10812"/>
                </a:cubicBezTo>
                <a:lnTo>
                  <a:pt x="21599" y="10842"/>
                </a:lnTo>
                <a:cubicBezTo>
                  <a:pt x="21599" y="10828"/>
                  <a:pt x="21600" y="10814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14"/>
                  <a:pt x="0" y="10828"/>
                  <a:pt x="0" y="10842"/>
                </a:cubicBezTo>
                <a:lnTo>
                  <a:pt x="7751" y="10812"/>
                </a:lnTo>
                <a:close/>
              </a:path>
            </a:pathLst>
          </a:cu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4344840" y="2638440"/>
            <a:ext cx="14482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4186080" y="4219560"/>
            <a:ext cx="1791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LE REL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7"/>
          <p:cNvSpPr/>
          <p:nvPr/>
        </p:nvSpPr>
        <p:spPr>
          <a:xfrm>
            <a:off x="1273320" y="2041560"/>
            <a:ext cx="181440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ORGANIZZARE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IL 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8"/>
          <p:cNvSpPr/>
          <p:nvPr/>
        </p:nvSpPr>
        <p:spPr>
          <a:xfrm>
            <a:off x="2416320" y="1309680"/>
            <a:ext cx="181440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CONTROLL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9"/>
          <p:cNvSpPr/>
          <p:nvPr/>
        </p:nvSpPr>
        <p:spPr>
          <a:xfrm>
            <a:off x="4309920" y="1041480"/>
            <a:ext cx="181476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RAGGIUNGERE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GLI OBIET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6066000" y="1295280"/>
            <a:ext cx="1814400" cy="85752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RISOLVERE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PROBL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11"/>
          <p:cNvSpPr/>
          <p:nvPr/>
        </p:nvSpPr>
        <p:spPr>
          <a:xfrm>
            <a:off x="7159680" y="2041560"/>
            <a:ext cx="181440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GESTIRE LE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EMERGE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2"/>
          <p:cNvSpPr/>
          <p:nvPr/>
        </p:nvSpPr>
        <p:spPr>
          <a:xfrm>
            <a:off x="1060560" y="4341960"/>
            <a:ext cx="181440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GESTIRE” I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SUPERI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3"/>
          <p:cNvSpPr/>
          <p:nvPr/>
        </p:nvSpPr>
        <p:spPr>
          <a:xfrm>
            <a:off x="2155680" y="5079960"/>
            <a:ext cx="198936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GESTIRE I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COLLABOR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4"/>
          <p:cNvSpPr/>
          <p:nvPr/>
        </p:nvSpPr>
        <p:spPr>
          <a:xfrm>
            <a:off x="6070680" y="5094360"/>
            <a:ext cx="197460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MOTIVARE I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COLLABOR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5"/>
          <p:cNvSpPr/>
          <p:nvPr/>
        </p:nvSpPr>
        <p:spPr>
          <a:xfrm>
            <a:off x="7186680" y="4335480"/>
            <a:ext cx="197496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ALLENARE I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COLLABOR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6"/>
          <p:cNvSpPr/>
          <p:nvPr/>
        </p:nvSpPr>
        <p:spPr>
          <a:xfrm>
            <a:off x="4135320" y="5405400"/>
            <a:ext cx="198936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GUIDARE I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COLLABOR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Object 2" descr=""/>
          <p:cNvPicPr/>
          <p:nvPr/>
        </p:nvPicPr>
        <p:blipFill>
          <a:blip r:embed="rId1"/>
          <a:stretch/>
        </p:blipFill>
        <p:spPr>
          <a:xfrm>
            <a:off x="7585200" y="1246320"/>
            <a:ext cx="1882800" cy="1758960"/>
          </a:xfrm>
          <a:prstGeom prst="rect">
            <a:avLst/>
          </a:prstGeom>
          <a:ln w="0">
            <a:noFill/>
          </a:ln>
        </p:spPr>
      </p:pic>
      <p:sp>
        <p:nvSpPr>
          <p:cNvPr id="331" name="Oval 4"/>
          <p:cNvSpPr/>
          <p:nvPr/>
        </p:nvSpPr>
        <p:spPr>
          <a:xfrm>
            <a:off x="3284640" y="942840"/>
            <a:ext cx="3200400" cy="15624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le leve organizz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8"/>
          <p:cNvSpPr/>
          <p:nvPr/>
        </p:nvSpPr>
        <p:spPr>
          <a:xfrm>
            <a:off x="6067440" y="3632040"/>
            <a:ext cx="3386160" cy="18288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la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escita profess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9"/>
          <p:cNvSpPr/>
          <p:nvPr/>
        </p:nvSpPr>
        <p:spPr>
          <a:xfrm>
            <a:off x="880920" y="3772080"/>
            <a:ext cx="3429000" cy="13716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la valutazione e al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“driver”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35" name="Segnaposto numero diapositiva 9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A7E7-D4A1-40F9-BEE4-560E2E7DFF5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9"/>
          <p:cNvSpPr/>
          <p:nvPr/>
        </p:nvSpPr>
        <p:spPr>
          <a:xfrm>
            <a:off x="3166920" y="4865760"/>
            <a:ext cx="3429000" cy="13716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la re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e 12"/>
          <p:cNvSpPr/>
          <p:nvPr/>
        </p:nvSpPr>
        <p:spPr>
          <a:xfrm>
            <a:off x="738360" y="2697120"/>
            <a:ext cx="8804160" cy="366228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asellaDiTesto 13"/>
          <p:cNvSpPr/>
          <p:nvPr/>
        </p:nvSpPr>
        <p:spPr>
          <a:xfrm>
            <a:off x="2714760" y="3056040"/>
            <a:ext cx="46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lo stile manage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gestione del pers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17480" y="1266840"/>
            <a:ext cx="891216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gestione del personale non è un’attività astratta o generica ma è fortemente condizionata: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Dalla cultura aziendal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Dal contesto organizzativ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Dalla situazione di mercat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4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974E-14BC-4EF0-8520-C8484D8625D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2"/>
          <p:cNvSpPr/>
          <p:nvPr/>
        </p:nvSpPr>
        <p:spPr>
          <a:xfrm rot="10800000">
            <a:off x="3234960" y="1856520"/>
            <a:ext cx="3608280" cy="180036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ei variabili del modello FABER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3235320" y="3686040"/>
            <a:ext cx="3608280" cy="180036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">
            <a:hlinkClick r:id="rId1" action="ppaction://hlinksldjump"/>
          </p:cNvPr>
          <p:cNvSpPr/>
          <p:nvPr/>
        </p:nvSpPr>
        <p:spPr>
          <a:xfrm>
            <a:off x="3483000" y="3305160"/>
            <a:ext cx="3219480" cy="601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118800" bIns="118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ile di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 rot="5400000">
            <a:off x="4860360" y="-101520"/>
            <a:ext cx="381240" cy="36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b9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7"/>
          <p:cNvSpPr/>
          <p:nvPr/>
        </p:nvSpPr>
        <p:spPr>
          <a:xfrm>
            <a:off x="1336680" y="1371600"/>
            <a:ext cx="2219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st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8"/>
          <p:cNvSpPr/>
          <p:nvPr/>
        </p:nvSpPr>
        <p:spPr>
          <a:xfrm>
            <a:off x="6289560" y="1371600"/>
            <a:ext cx="23940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un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9"/>
          <p:cNvSpPr/>
          <p:nvPr/>
        </p:nvSpPr>
        <p:spPr>
          <a:xfrm>
            <a:off x="3835440" y="914400"/>
            <a:ext cx="245412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rot="16200000">
            <a:off x="4860720" y="3784320"/>
            <a:ext cx="381240" cy="36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b9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1"/>
          <p:cNvSpPr/>
          <p:nvPr/>
        </p:nvSpPr>
        <p:spPr>
          <a:xfrm>
            <a:off x="6454800" y="4952880"/>
            <a:ext cx="2476440" cy="9144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ità delle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l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2"/>
          <p:cNvSpPr/>
          <p:nvPr/>
        </p:nvSpPr>
        <p:spPr>
          <a:xfrm>
            <a:off x="1006560" y="4952880"/>
            <a:ext cx="2641680" cy="9144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ità del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3"/>
          <p:cNvSpPr/>
          <p:nvPr/>
        </p:nvSpPr>
        <p:spPr>
          <a:xfrm>
            <a:off x="3813120" y="5410080"/>
            <a:ext cx="247644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ità delle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t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egnaposto numero diapositiva 1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92D2-093F-4C52-9D01-6C4F4598B3C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8864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o schema di Mintzberg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3" name="Segnaposto numero diapositiva 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1F31-3E39-4EED-8F26-CFFF05A3990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Immagine 7" descr=""/>
          <p:cNvPicPr/>
          <p:nvPr/>
        </p:nvPicPr>
        <p:blipFill>
          <a:blip r:embed="rId1"/>
          <a:srcRect l="10829" t="26032" r="34611" b="44975"/>
          <a:stretch/>
        </p:blipFill>
        <p:spPr>
          <a:xfrm>
            <a:off x="2000160" y="1413000"/>
            <a:ext cx="6121440" cy="4484520"/>
          </a:xfrm>
          <a:prstGeom prst="rect">
            <a:avLst/>
          </a:prstGeom>
          <a:ln w="0">
            <a:noFill/>
          </a:ln>
        </p:spPr>
      </p:pic>
      <p:sp>
        <p:nvSpPr>
          <p:cNvPr id="185" name="Connettore 1 9"/>
          <p:cNvSpPr/>
          <p:nvPr/>
        </p:nvSpPr>
        <p:spPr>
          <a:xfrm flipH="1">
            <a:off x="2504880" y="3284640"/>
            <a:ext cx="2555640" cy="252072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nettore 1 11"/>
          <p:cNvSpPr/>
          <p:nvPr/>
        </p:nvSpPr>
        <p:spPr>
          <a:xfrm>
            <a:off x="5060880" y="3284640"/>
            <a:ext cx="3060720" cy="252072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nettore 1 14"/>
          <p:cNvSpPr/>
          <p:nvPr/>
        </p:nvSpPr>
        <p:spPr>
          <a:xfrm flipV="1">
            <a:off x="5060880" y="907920"/>
            <a:ext cx="0" cy="237672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15"/>
          <p:cNvSpPr/>
          <p:nvPr/>
        </p:nvSpPr>
        <p:spPr>
          <a:xfrm>
            <a:off x="4313520" y="590868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collabo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6"/>
          <p:cNvSpPr/>
          <p:nvPr/>
        </p:nvSpPr>
        <p:spPr>
          <a:xfrm>
            <a:off x="7195320" y="154764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superiori e colleg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asellaDiTesto 17"/>
          <p:cNvSpPr/>
          <p:nvPr/>
        </p:nvSpPr>
        <p:spPr>
          <a:xfrm>
            <a:off x="760680" y="1125360"/>
            <a:ext cx="33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clienti, fornitori,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Organizz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17480" y="1266840"/>
            <a:ext cx="891216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chiarezza e l’efficacia della suddivisione del lavoro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chiarezza e l’efficacia dei flussi operativi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capacità di attivare programmi di innovazione dei prodotti/servizi e dei processi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l livello delle tecnologie e degli strumenti disponibili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qualità dei layout e degli ambienti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5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EADF-5060-4774-9437-25DF5F8ADE5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41080" y="249120"/>
            <a:ext cx="8823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Gest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728280" y="1216080"/>
            <a:ext cx="85978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esistenza e la conoscenza delle modalità di crescita verticale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esistenza e la conoscenza delle opportunità di sviluppo professionale (formazione, mobilità interfuzionale)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esistenza ed il funzionamento di un sistema di riconoscimenti (indirizzo e ricompensa delle prestazioni)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2A5B-9A79-43DA-B259-1CF51FD396E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municazione Intern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71400" y="1252080"/>
            <a:ext cx="87393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esistenza di attività di comunicazione interna top-down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289080" indent="-2890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attivazione di canali per ricevere osservazioni e proposte di miglioramento da parte dei dipendenti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289080" indent="-2890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esistenza di modalità strutturate o meno per diffondere e consolidare la cultura aziendale ed il senso di appartenenza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3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A0BB-83F2-4737-8F4D-65C306E03A3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tile di Managemen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3360" y="1266840"/>
            <a:ext cx="870444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presenza di comportamenti orientati alla “guida”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decidere, definire obiettivi e standard, attribuire compiti, fissare regole, essere portavoce. 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presenza di comportamenti orientati allo “stimolo”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addestrare, incoraggiare, stressare le competenze e superare gli standard, delegare e dare autonomia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presenza di comportamenti di “regolazione”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supervisionare attività, mediare i conflitti, valutare le performance, fornire feedback sulle competenze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B19E-4DE2-49BB-BF3C-FE6EE4AB906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41080" y="249120"/>
            <a:ext cx="8823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alità del Lavor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25320" y="1241280"/>
            <a:ext cx="900144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“qualità intrinseca” del lavoro svolto in termini di valore organizzativo del ruolo, rilevanza del contributo alla mission d’impresa; margini di autonomia e discrezionalità, possibilità di dimostrare capacità personali, opportunità di apprendimento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l livello del “feedback” in termini di gamma ed esplicitazione dei riconoscimenti ottenibili, criteri e processo di valutazione, equità della distribuzione dei riconoscimenti. 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A4CC-2284-417F-B526-3A87EAD2C0B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alità delle Rela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25480" y="1636200"/>
            <a:ext cx="8655120" cy="31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l livello di identificazione e di senso di appartenenza verso l’organizzazione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e modalità e la qualità delle relazioni tra le figure professionali presenti nell’organizzazione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e modalità e la qualità delle relazioni tra le diverse strutture in cui si articola l’organizzazione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7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95DE-DD50-460D-A35C-4ED19420E8A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a premess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grpSp>
        <p:nvGrpSpPr>
          <p:cNvPr id="374" name="Group 6"/>
          <p:cNvGrpSpPr/>
          <p:nvPr/>
        </p:nvGrpSpPr>
        <p:grpSpPr>
          <a:xfrm>
            <a:off x="474840" y="1174680"/>
            <a:ext cx="1861200" cy="1683720"/>
            <a:chOff x="474840" y="1174680"/>
            <a:chExt cx="1861200" cy="1683720"/>
          </a:xfrm>
        </p:grpSpPr>
        <p:sp>
          <p:nvSpPr>
            <p:cNvPr id="375" name="AutoShape 5"/>
            <p:cNvSpPr/>
            <p:nvPr/>
          </p:nvSpPr>
          <p:spPr>
            <a:xfrm>
              <a:off x="477000" y="1174680"/>
              <a:ext cx="1857240" cy="16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34"/>
            <p:cNvGrpSpPr/>
            <p:nvPr/>
          </p:nvGrpSpPr>
          <p:grpSpPr>
            <a:xfrm>
              <a:off x="715680" y="1175760"/>
              <a:ext cx="1620360" cy="382680"/>
              <a:chOff x="715680" y="1175760"/>
              <a:chExt cx="1620360" cy="382680"/>
            </a:xfrm>
          </p:grpSpPr>
          <p:grpSp>
            <p:nvGrpSpPr>
              <p:cNvPr id="377" name="Group 14"/>
              <p:cNvGrpSpPr/>
              <p:nvPr/>
            </p:nvGrpSpPr>
            <p:grpSpPr>
              <a:xfrm>
                <a:off x="726480" y="1198440"/>
                <a:ext cx="1596600" cy="342360"/>
                <a:chOff x="726480" y="1198440"/>
                <a:chExt cx="1596600" cy="342360"/>
              </a:xfrm>
            </p:grpSpPr>
            <p:sp>
              <p:nvSpPr>
                <p:cNvPr id="378" name="Freeform 7"/>
                <p:cNvSpPr/>
                <p:nvPr/>
              </p:nvSpPr>
              <p:spPr>
                <a:xfrm>
                  <a:off x="726480" y="1302840"/>
                  <a:ext cx="68400" cy="15264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52640"/>
                    <a:gd name="textAreaBottom" fmla="*/ 153000 h 152640"/>
                  </a:gdLst>
                  <a:ahLst/>
                  <a:rect l="textAreaLeft" t="textAreaTop" r="textAreaRight" b="textAreaBottom"/>
                  <a:pathLst>
                    <a:path w="63" h="140">
                      <a:moveTo>
                        <a:pt x="0" y="22"/>
                      </a:moveTo>
                      <a:lnTo>
                        <a:pt x="20" y="0"/>
                      </a:lnTo>
                      <a:lnTo>
                        <a:pt x="55" y="0"/>
                      </a:lnTo>
                      <a:lnTo>
                        <a:pt x="63" y="32"/>
                      </a:lnTo>
                      <a:lnTo>
                        <a:pt x="61" y="127"/>
                      </a:lnTo>
                      <a:lnTo>
                        <a:pt x="37" y="140"/>
                      </a:lnTo>
                      <a:lnTo>
                        <a:pt x="2" y="121"/>
                      </a:lnTo>
                      <a:lnTo>
                        <a:pt x="0" y="56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9c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8"/>
                <p:cNvSpPr/>
                <p:nvPr/>
              </p:nvSpPr>
              <p:spPr>
                <a:xfrm>
                  <a:off x="1152360" y="1257120"/>
                  <a:ext cx="99360" cy="21924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91" h="201">
                      <a:moveTo>
                        <a:pt x="10" y="55"/>
                      </a:moveTo>
                      <a:lnTo>
                        <a:pt x="12" y="16"/>
                      </a:lnTo>
                      <a:lnTo>
                        <a:pt x="35" y="0"/>
                      </a:lnTo>
                      <a:lnTo>
                        <a:pt x="70" y="5"/>
                      </a:lnTo>
                      <a:lnTo>
                        <a:pt x="91" y="26"/>
                      </a:lnTo>
                      <a:lnTo>
                        <a:pt x="81" y="186"/>
                      </a:lnTo>
                      <a:lnTo>
                        <a:pt x="41" y="201"/>
                      </a:lnTo>
                      <a:lnTo>
                        <a:pt x="0" y="181"/>
                      </a:lnTo>
                      <a:lnTo>
                        <a:pt x="10" y="55"/>
                      </a:lnTo>
                      <a:close/>
                    </a:path>
                  </a:pathLst>
                </a:custGeom>
                <a:solidFill>
                  <a:srgbClr val="f9c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9"/>
                <p:cNvSpPr/>
                <p:nvPr/>
              </p:nvSpPr>
              <p:spPr>
                <a:xfrm>
                  <a:off x="1596240" y="1249560"/>
                  <a:ext cx="90360" cy="2376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237600"/>
                    <a:gd name="textAreaBottom" fmla="*/ 237960 h 237600"/>
                  </a:gdLst>
                  <a:ahLst/>
                  <a:rect l="textAreaLeft" t="textAreaTop" r="textAreaRight" b="textAreaBottom"/>
                  <a:pathLst>
                    <a:path w="83" h="218">
                      <a:moveTo>
                        <a:pt x="2" y="22"/>
                      </a:moveTo>
                      <a:lnTo>
                        <a:pt x="23" y="0"/>
                      </a:lnTo>
                      <a:lnTo>
                        <a:pt x="64" y="0"/>
                      </a:lnTo>
                      <a:lnTo>
                        <a:pt x="83" y="24"/>
                      </a:lnTo>
                      <a:lnTo>
                        <a:pt x="81" y="203"/>
                      </a:lnTo>
                      <a:lnTo>
                        <a:pt x="35" y="218"/>
                      </a:lnTo>
                      <a:lnTo>
                        <a:pt x="0" y="198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f9c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10"/>
                <p:cNvSpPr/>
                <p:nvPr/>
              </p:nvSpPr>
              <p:spPr>
                <a:xfrm>
                  <a:off x="2231640" y="1198440"/>
                  <a:ext cx="91440" cy="342360"/>
                </a:xfrm>
                <a:custGeom>
                  <a:avLst/>
                  <a:gdLst>
                    <a:gd name="textAreaLeft" fmla="*/ 0 w 91440"/>
                    <a:gd name="textAreaRight" fmla="*/ 91800 w 91440"/>
                    <a:gd name="textAreaTop" fmla="*/ 0 h 342360"/>
                    <a:gd name="textAreaBottom" fmla="*/ 342720 h 342360"/>
                  </a:gdLst>
                  <a:ahLst/>
                  <a:rect l="textAreaLeft" t="textAreaTop" r="textAreaRight" b="textAreaBottom"/>
                  <a:pathLst>
                    <a:path w="84" h="314">
                      <a:moveTo>
                        <a:pt x="6" y="23"/>
                      </a:moveTo>
                      <a:lnTo>
                        <a:pt x="29" y="0"/>
                      </a:lnTo>
                      <a:lnTo>
                        <a:pt x="70" y="0"/>
                      </a:lnTo>
                      <a:lnTo>
                        <a:pt x="84" y="39"/>
                      </a:lnTo>
                      <a:lnTo>
                        <a:pt x="76" y="285"/>
                      </a:lnTo>
                      <a:lnTo>
                        <a:pt x="43" y="314"/>
                      </a:lnTo>
                      <a:lnTo>
                        <a:pt x="0" y="280"/>
                      </a:lnTo>
                      <a:lnTo>
                        <a:pt x="6" y="23"/>
                      </a:lnTo>
                      <a:close/>
                    </a:path>
                  </a:pathLst>
                </a:custGeom>
                <a:solidFill>
                  <a:srgbClr val="f9c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11"/>
                <p:cNvSpPr/>
                <p:nvPr/>
              </p:nvSpPr>
              <p:spPr>
                <a:xfrm>
                  <a:off x="789480" y="1309680"/>
                  <a:ext cx="375840" cy="131760"/>
                </a:xfrm>
                <a:custGeom>
                  <a:avLst/>
                  <a:gdLst>
                    <a:gd name="textAreaLeft" fmla="*/ 0 w 375840"/>
                    <a:gd name="textAreaRight" fmla="*/ 376200 w 37584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345" h="121">
                      <a:moveTo>
                        <a:pt x="0" y="17"/>
                      </a:moveTo>
                      <a:lnTo>
                        <a:pt x="345" y="0"/>
                      </a:lnTo>
                      <a:lnTo>
                        <a:pt x="340" y="121"/>
                      </a:lnTo>
                      <a:lnTo>
                        <a:pt x="0" y="121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Freeform 12"/>
                <p:cNvSpPr/>
                <p:nvPr/>
              </p:nvSpPr>
              <p:spPr>
                <a:xfrm>
                  <a:off x="1238760" y="1280160"/>
                  <a:ext cx="365760" cy="180720"/>
                </a:xfrm>
                <a:custGeom>
                  <a:avLst/>
                  <a:gdLst>
                    <a:gd name="textAreaLeft" fmla="*/ 0 w 365760"/>
                    <a:gd name="textAreaRight" fmla="*/ 366120 w 365760"/>
                    <a:gd name="textAreaTop" fmla="*/ 0 h 180720"/>
                    <a:gd name="textAreaBottom" fmla="*/ 181080 h 180720"/>
                  </a:gdLst>
                  <a:ahLst/>
                  <a:rect l="textAreaLeft" t="textAreaTop" r="textAreaRight" b="textAreaBottom"/>
                  <a:pathLst>
                    <a:path w="336" h="166">
                      <a:moveTo>
                        <a:pt x="14" y="15"/>
                      </a:moveTo>
                      <a:lnTo>
                        <a:pt x="336" y="0"/>
                      </a:lnTo>
                      <a:lnTo>
                        <a:pt x="331" y="166"/>
                      </a:lnTo>
                      <a:lnTo>
                        <a:pt x="0" y="160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13"/>
                <p:cNvSpPr/>
                <p:nvPr/>
              </p:nvSpPr>
              <p:spPr>
                <a:xfrm>
                  <a:off x="1682280" y="1226520"/>
                  <a:ext cx="558000" cy="289800"/>
                </a:xfrm>
                <a:custGeom>
                  <a:avLst/>
                  <a:gdLst>
                    <a:gd name="textAreaLeft" fmla="*/ 0 w 558000"/>
                    <a:gd name="textAreaRight" fmla="*/ 558360 w 558000"/>
                    <a:gd name="textAreaTop" fmla="*/ 0 h 289800"/>
                    <a:gd name="textAreaBottom" fmla="*/ 290160 h 289800"/>
                  </a:gdLst>
                  <a:ahLst/>
                  <a:rect l="textAreaLeft" t="textAreaTop" r="textAreaRight" b="textAreaBottom"/>
                  <a:pathLst>
                    <a:path w="512" h="266">
                      <a:moveTo>
                        <a:pt x="7" y="40"/>
                      </a:moveTo>
                      <a:lnTo>
                        <a:pt x="512" y="0"/>
                      </a:lnTo>
                      <a:lnTo>
                        <a:pt x="503" y="266"/>
                      </a:lnTo>
                      <a:lnTo>
                        <a:pt x="0" y="219"/>
                      </a:lnTo>
                      <a:lnTo>
                        <a:pt x="7" y="40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Group 33"/>
              <p:cNvGrpSpPr/>
              <p:nvPr/>
            </p:nvGrpSpPr>
            <p:grpSpPr>
              <a:xfrm>
                <a:off x="715680" y="1175760"/>
                <a:ext cx="1620360" cy="382680"/>
                <a:chOff x="715680" y="1175760"/>
                <a:chExt cx="1620360" cy="382680"/>
              </a:xfrm>
            </p:grpSpPr>
            <p:grpSp>
              <p:nvGrpSpPr>
                <p:cNvPr id="386" name="Group 17"/>
                <p:cNvGrpSpPr/>
                <p:nvPr/>
              </p:nvGrpSpPr>
              <p:grpSpPr>
                <a:xfrm>
                  <a:off x="715680" y="1292040"/>
                  <a:ext cx="94320" cy="172440"/>
                  <a:chOff x="715680" y="1292040"/>
                  <a:chExt cx="94320" cy="172440"/>
                </a:xfrm>
              </p:grpSpPr>
              <p:sp>
                <p:nvSpPr>
                  <p:cNvPr id="387" name="Freeform 15"/>
                  <p:cNvSpPr/>
                  <p:nvPr/>
                </p:nvSpPr>
                <p:spPr>
                  <a:xfrm>
                    <a:off x="734040" y="1292040"/>
                    <a:ext cx="75960" cy="17244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70" h="158">
                        <a:moveTo>
                          <a:pt x="12" y="44"/>
                        </a:moveTo>
                        <a:lnTo>
                          <a:pt x="6" y="28"/>
                        </a:lnTo>
                        <a:lnTo>
                          <a:pt x="24" y="20"/>
                        </a:lnTo>
                        <a:lnTo>
                          <a:pt x="36" y="26"/>
                        </a:lnTo>
                        <a:lnTo>
                          <a:pt x="42" y="37"/>
                        </a:lnTo>
                        <a:lnTo>
                          <a:pt x="42" y="121"/>
                        </a:lnTo>
                        <a:lnTo>
                          <a:pt x="34" y="136"/>
                        </a:lnTo>
                        <a:lnTo>
                          <a:pt x="12" y="132"/>
                        </a:lnTo>
                        <a:lnTo>
                          <a:pt x="4" y="121"/>
                        </a:lnTo>
                        <a:lnTo>
                          <a:pt x="4" y="141"/>
                        </a:lnTo>
                        <a:lnTo>
                          <a:pt x="16" y="152"/>
                        </a:lnTo>
                        <a:lnTo>
                          <a:pt x="34" y="158"/>
                        </a:lnTo>
                        <a:lnTo>
                          <a:pt x="54" y="152"/>
                        </a:lnTo>
                        <a:lnTo>
                          <a:pt x="64" y="132"/>
                        </a:lnTo>
                        <a:lnTo>
                          <a:pt x="70" y="114"/>
                        </a:lnTo>
                        <a:lnTo>
                          <a:pt x="66" y="33"/>
                        </a:lnTo>
                        <a:lnTo>
                          <a:pt x="60" y="17"/>
                        </a:lnTo>
                        <a:lnTo>
                          <a:pt x="46" y="0"/>
                        </a:lnTo>
                        <a:lnTo>
                          <a:pt x="28" y="0"/>
                        </a:lnTo>
                        <a:lnTo>
                          <a:pt x="10" y="4"/>
                        </a:lnTo>
                        <a:lnTo>
                          <a:pt x="0" y="17"/>
                        </a:lnTo>
                        <a:lnTo>
                          <a:pt x="12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Freeform 16"/>
                  <p:cNvSpPr/>
                  <p:nvPr/>
                </p:nvSpPr>
                <p:spPr>
                  <a:xfrm>
                    <a:off x="715680" y="1297440"/>
                    <a:ext cx="61920" cy="158400"/>
                  </a:xfrm>
                  <a:custGeom>
                    <a:avLst/>
                    <a:gdLst>
                      <a:gd name="textAreaLeft" fmla="*/ 0 w 61920"/>
                      <a:gd name="textAreaRight" fmla="*/ 62280 w 61920"/>
                      <a:gd name="textAreaTop" fmla="*/ 0 h 158400"/>
                      <a:gd name="textAreaBottom" fmla="*/ 158760 h 158400"/>
                    </a:gdLst>
                    <a:ahLst/>
                    <a:rect l="textAreaLeft" t="textAreaTop" r="textAreaRight" b="textAreaBottom"/>
                    <a:pathLst>
                      <a:path w="57" h="145">
                        <a:moveTo>
                          <a:pt x="31" y="0"/>
                        </a:moveTo>
                        <a:lnTo>
                          <a:pt x="8" y="11"/>
                        </a:lnTo>
                        <a:lnTo>
                          <a:pt x="0" y="33"/>
                        </a:lnTo>
                        <a:lnTo>
                          <a:pt x="6" y="95"/>
                        </a:lnTo>
                        <a:lnTo>
                          <a:pt x="8" y="128"/>
                        </a:lnTo>
                        <a:lnTo>
                          <a:pt x="18" y="139"/>
                        </a:lnTo>
                        <a:lnTo>
                          <a:pt x="37" y="145"/>
                        </a:lnTo>
                        <a:lnTo>
                          <a:pt x="57" y="145"/>
                        </a:lnTo>
                        <a:lnTo>
                          <a:pt x="31" y="126"/>
                        </a:lnTo>
                        <a:lnTo>
                          <a:pt x="24" y="100"/>
                        </a:lnTo>
                        <a:lnTo>
                          <a:pt x="26" y="33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9" name="Group 20"/>
                <p:cNvGrpSpPr/>
                <p:nvPr/>
              </p:nvGrpSpPr>
              <p:grpSpPr>
                <a:xfrm>
                  <a:off x="1146960" y="1249560"/>
                  <a:ext cx="115560" cy="240120"/>
                  <a:chOff x="1146960" y="1249560"/>
                  <a:chExt cx="115560" cy="240120"/>
                </a:xfrm>
              </p:grpSpPr>
              <p:sp>
                <p:nvSpPr>
                  <p:cNvPr id="390" name="Freeform 18"/>
                  <p:cNvSpPr/>
                  <p:nvPr/>
                </p:nvSpPr>
                <p:spPr>
                  <a:xfrm>
                    <a:off x="1146960" y="1249560"/>
                    <a:ext cx="115560" cy="240120"/>
                  </a:xfrm>
                  <a:custGeom>
                    <a:avLst/>
                    <a:gdLst>
                      <a:gd name="textAreaLeft" fmla="*/ 0 w 115560"/>
                      <a:gd name="textAreaRight" fmla="*/ 115920 w 11556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06" h="220">
                        <a:moveTo>
                          <a:pt x="23" y="18"/>
                        </a:moveTo>
                        <a:lnTo>
                          <a:pt x="32" y="5"/>
                        </a:lnTo>
                        <a:lnTo>
                          <a:pt x="55" y="0"/>
                        </a:lnTo>
                        <a:lnTo>
                          <a:pt x="78" y="5"/>
                        </a:lnTo>
                        <a:lnTo>
                          <a:pt x="100" y="16"/>
                        </a:lnTo>
                        <a:lnTo>
                          <a:pt x="106" y="40"/>
                        </a:lnTo>
                        <a:lnTo>
                          <a:pt x="102" y="176"/>
                        </a:lnTo>
                        <a:lnTo>
                          <a:pt x="95" y="209"/>
                        </a:lnTo>
                        <a:lnTo>
                          <a:pt x="68" y="220"/>
                        </a:lnTo>
                        <a:lnTo>
                          <a:pt x="38" y="220"/>
                        </a:lnTo>
                        <a:lnTo>
                          <a:pt x="17" y="209"/>
                        </a:lnTo>
                        <a:lnTo>
                          <a:pt x="0" y="191"/>
                        </a:lnTo>
                        <a:lnTo>
                          <a:pt x="0" y="176"/>
                        </a:lnTo>
                        <a:lnTo>
                          <a:pt x="21" y="187"/>
                        </a:lnTo>
                        <a:lnTo>
                          <a:pt x="44" y="196"/>
                        </a:lnTo>
                        <a:lnTo>
                          <a:pt x="62" y="187"/>
                        </a:lnTo>
                        <a:lnTo>
                          <a:pt x="78" y="176"/>
                        </a:lnTo>
                        <a:lnTo>
                          <a:pt x="80" y="142"/>
                        </a:lnTo>
                        <a:lnTo>
                          <a:pt x="80" y="33"/>
                        </a:lnTo>
                        <a:lnTo>
                          <a:pt x="66" y="22"/>
                        </a:lnTo>
                        <a:lnTo>
                          <a:pt x="45" y="24"/>
                        </a:lnTo>
                        <a:lnTo>
                          <a:pt x="23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Freeform 19"/>
                  <p:cNvSpPr/>
                  <p:nvPr/>
                </p:nvSpPr>
                <p:spPr>
                  <a:xfrm>
                    <a:off x="1146960" y="1251720"/>
                    <a:ext cx="69480" cy="220320"/>
                  </a:xfrm>
                  <a:custGeom>
                    <a:avLst/>
                    <a:gdLst>
                      <a:gd name="textAreaLeft" fmla="*/ 0 w 69480"/>
                      <a:gd name="textAreaRight" fmla="*/ 69840 w 6948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64" h="202">
                        <a:moveTo>
                          <a:pt x="6" y="27"/>
                        </a:moveTo>
                        <a:lnTo>
                          <a:pt x="18" y="11"/>
                        </a:lnTo>
                        <a:lnTo>
                          <a:pt x="42" y="0"/>
                        </a:lnTo>
                        <a:lnTo>
                          <a:pt x="64" y="9"/>
                        </a:lnTo>
                        <a:lnTo>
                          <a:pt x="34" y="27"/>
                        </a:lnTo>
                        <a:lnTo>
                          <a:pt x="28" y="44"/>
                        </a:lnTo>
                        <a:lnTo>
                          <a:pt x="24" y="173"/>
                        </a:lnTo>
                        <a:lnTo>
                          <a:pt x="30" y="189"/>
                        </a:lnTo>
                        <a:lnTo>
                          <a:pt x="52" y="202"/>
                        </a:lnTo>
                        <a:lnTo>
                          <a:pt x="10" y="195"/>
                        </a:lnTo>
                        <a:lnTo>
                          <a:pt x="0" y="178"/>
                        </a:lnTo>
                        <a:lnTo>
                          <a:pt x="6" y="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Group 23"/>
                <p:cNvGrpSpPr/>
                <p:nvPr/>
              </p:nvGrpSpPr>
              <p:grpSpPr>
                <a:xfrm>
                  <a:off x="1584360" y="1233360"/>
                  <a:ext cx="115200" cy="269280"/>
                  <a:chOff x="1584360" y="1233360"/>
                  <a:chExt cx="115200" cy="269280"/>
                </a:xfrm>
              </p:grpSpPr>
              <p:sp>
                <p:nvSpPr>
                  <p:cNvPr id="393" name="Freeform 21"/>
                  <p:cNvSpPr/>
                  <p:nvPr/>
                </p:nvSpPr>
                <p:spPr>
                  <a:xfrm>
                    <a:off x="1584360" y="1233360"/>
                    <a:ext cx="115200" cy="26928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269280"/>
                      <a:gd name="textAreaBottom" fmla="*/ 269640 h 269280"/>
                    </a:gdLst>
                    <a:ahLst/>
                    <a:rect l="textAreaLeft" t="textAreaTop" r="textAreaRight" b="textAreaBottom"/>
                    <a:pathLst>
                      <a:path w="106" h="247">
                        <a:moveTo>
                          <a:pt x="23" y="20"/>
                        </a:moveTo>
                        <a:lnTo>
                          <a:pt x="32" y="6"/>
                        </a:lnTo>
                        <a:lnTo>
                          <a:pt x="55" y="0"/>
                        </a:lnTo>
                        <a:lnTo>
                          <a:pt x="78" y="6"/>
                        </a:lnTo>
                        <a:lnTo>
                          <a:pt x="100" y="18"/>
                        </a:lnTo>
                        <a:lnTo>
                          <a:pt x="106" y="45"/>
                        </a:lnTo>
                        <a:lnTo>
                          <a:pt x="102" y="198"/>
                        </a:lnTo>
                        <a:lnTo>
                          <a:pt x="95" y="235"/>
                        </a:lnTo>
                        <a:lnTo>
                          <a:pt x="68" y="247"/>
                        </a:lnTo>
                        <a:lnTo>
                          <a:pt x="38" y="247"/>
                        </a:lnTo>
                        <a:lnTo>
                          <a:pt x="17" y="235"/>
                        </a:lnTo>
                        <a:lnTo>
                          <a:pt x="0" y="214"/>
                        </a:lnTo>
                        <a:lnTo>
                          <a:pt x="0" y="198"/>
                        </a:lnTo>
                        <a:lnTo>
                          <a:pt x="21" y="210"/>
                        </a:lnTo>
                        <a:lnTo>
                          <a:pt x="44" y="220"/>
                        </a:lnTo>
                        <a:lnTo>
                          <a:pt x="62" y="210"/>
                        </a:lnTo>
                        <a:lnTo>
                          <a:pt x="78" y="198"/>
                        </a:lnTo>
                        <a:lnTo>
                          <a:pt x="80" y="159"/>
                        </a:lnTo>
                        <a:lnTo>
                          <a:pt x="80" y="37"/>
                        </a:lnTo>
                        <a:lnTo>
                          <a:pt x="66" y="24"/>
                        </a:lnTo>
                        <a:lnTo>
                          <a:pt x="45" y="27"/>
                        </a:lnTo>
                        <a:lnTo>
                          <a:pt x="23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Freeform 22"/>
                  <p:cNvSpPr/>
                  <p:nvPr/>
                </p:nvSpPr>
                <p:spPr>
                  <a:xfrm>
                    <a:off x="1584360" y="1234440"/>
                    <a:ext cx="69480" cy="249480"/>
                  </a:xfrm>
                  <a:custGeom>
                    <a:avLst/>
                    <a:gdLst>
                      <a:gd name="textAreaLeft" fmla="*/ 0 w 69480"/>
                      <a:gd name="textAreaRight" fmla="*/ 69840 w 69480"/>
                      <a:gd name="textAreaTop" fmla="*/ 0 h 249480"/>
                      <a:gd name="textAreaBottom" fmla="*/ 249840 h 249480"/>
                    </a:gdLst>
                    <a:ahLst/>
                    <a:rect l="textAreaLeft" t="textAreaTop" r="textAreaRight" b="textAreaBottom"/>
                    <a:pathLst>
                      <a:path w="64" h="229">
                        <a:moveTo>
                          <a:pt x="6" y="31"/>
                        </a:moveTo>
                        <a:lnTo>
                          <a:pt x="18" y="12"/>
                        </a:lnTo>
                        <a:lnTo>
                          <a:pt x="42" y="0"/>
                        </a:lnTo>
                        <a:lnTo>
                          <a:pt x="64" y="10"/>
                        </a:lnTo>
                        <a:lnTo>
                          <a:pt x="34" y="31"/>
                        </a:lnTo>
                        <a:lnTo>
                          <a:pt x="28" y="50"/>
                        </a:lnTo>
                        <a:lnTo>
                          <a:pt x="24" y="196"/>
                        </a:lnTo>
                        <a:lnTo>
                          <a:pt x="30" y="215"/>
                        </a:lnTo>
                        <a:lnTo>
                          <a:pt x="52" y="229"/>
                        </a:lnTo>
                        <a:lnTo>
                          <a:pt x="10" y="221"/>
                        </a:lnTo>
                        <a:lnTo>
                          <a:pt x="0" y="202"/>
                        </a:lnTo>
                        <a:lnTo>
                          <a:pt x="6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Group 26"/>
                <p:cNvGrpSpPr/>
                <p:nvPr/>
              </p:nvGrpSpPr>
              <p:grpSpPr>
                <a:xfrm>
                  <a:off x="2220840" y="1175760"/>
                  <a:ext cx="115200" cy="382680"/>
                  <a:chOff x="2220840" y="1175760"/>
                  <a:chExt cx="115200" cy="382680"/>
                </a:xfrm>
              </p:grpSpPr>
              <p:sp>
                <p:nvSpPr>
                  <p:cNvPr id="396" name="Freeform 24"/>
                  <p:cNvSpPr/>
                  <p:nvPr/>
                </p:nvSpPr>
                <p:spPr>
                  <a:xfrm>
                    <a:off x="2220840" y="1175760"/>
                    <a:ext cx="115200" cy="38268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382680"/>
                      <a:gd name="textAreaBottom" fmla="*/ 383040 h 382680"/>
                    </a:gdLst>
                    <a:ahLst/>
                    <a:rect l="textAreaLeft" t="textAreaTop" r="textAreaRight" b="textAreaBottom"/>
                    <a:pathLst>
                      <a:path w="106" h="351">
                        <a:moveTo>
                          <a:pt x="23" y="29"/>
                        </a:moveTo>
                        <a:lnTo>
                          <a:pt x="32" y="9"/>
                        </a:lnTo>
                        <a:lnTo>
                          <a:pt x="55" y="0"/>
                        </a:lnTo>
                        <a:lnTo>
                          <a:pt x="78" y="9"/>
                        </a:lnTo>
                        <a:lnTo>
                          <a:pt x="100" y="26"/>
                        </a:lnTo>
                        <a:lnTo>
                          <a:pt x="106" y="64"/>
                        </a:lnTo>
                        <a:lnTo>
                          <a:pt x="102" y="281"/>
                        </a:lnTo>
                        <a:lnTo>
                          <a:pt x="95" y="334"/>
                        </a:lnTo>
                        <a:lnTo>
                          <a:pt x="68" y="351"/>
                        </a:lnTo>
                        <a:lnTo>
                          <a:pt x="38" y="351"/>
                        </a:lnTo>
                        <a:lnTo>
                          <a:pt x="17" y="334"/>
                        </a:lnTo>
                        <a:lnTo>
                          <a:pt x="0" y="305"/>
                        </a:lnTo>
                        <a:lnTo>
                          <a:pt x="0" y="281"/>
                        </a:lnTo>
                        <a:lnTo>
                          <a:pt x="21" y="299"/>
                        </a:lnTo>
                        <a:lnTo>
                          <a:pt x="44" y="313"/>
                        </a:lnTo>
                        <a:lnTo>
                          <a:pt x="62" y="299"/>
                        </a:lnTo>
                        <a:lnTo>
                          <a:pt x="78" y="281"/>
                        </a:lnTo>
                        <a:lnTo>
                          <a:pt x="80" y="226"/>
                        </a:lnTo>
                        <a:lnTo>
                          <a:pt x="80" y="52"/>
                        </a:lnTo>
                        <a:lnTo>
                          <a:pt x="66" y="35"/>
                        </a:lnTo>
                        <a:lnTo>
                          <a:pt x="45" y="38"/>
                        </a:lnTo>
                        <a:lnTo>
                          <a:pt x="23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Freeform 25"/>
                  <p:cNvSpPr/>
                  <p:nvPr/>
                </p:nvSpPr>
                <p:spPr>
                  <a:xfrm>
                    <a:off x="2220840" y="1177560"/>
                    <a:ext cx="69480" cy="354240"/>
                  </a:xfrm>
                  <a:custGeom>
                    <a:avLst/>
                    <a:gdLst>
                      <a:gd name="textAreaLeft" fmla="*/ 0 w 69480"/>
                      <a:gd name="textAreaRight" fmla="*/ 69840 w 69480"/>
                      <a:gd name="textAreaTop" fmla="*/ 0 h 354240"/>
                      <a:gd name="textAreaBottom" fmla="*/ 354600 h 354240"/>
                    </a:gdLst>
                    <a:ahLst/>
                    <a:rect l="textAreaLeft" t="textAreaTop" r="textAreaRight" b="textAreaBottom"/>
                    <a:pathLst>
                      <a:path w="64" h="325">
                        <a:moveTo>
                          <a:pt x="6" y="44"/>
                        </a:moveTo>
                        <a:lnTo>
                          <a:pt x="18" y="18"/>
                        </a:lnTo>
                        <a:lnTo>
                          <a:pt x="42" y="0"/>
                        </a:lnTo>
                        <a:lnTo>
                          <a:pt x="64" y="15"/>
                        </a:lnTo>
                        <a:lnTo>
                          <a:pt x="34" y="44"/>
                        </a:lnTo>
                        <a:lnTo>
                          <a:pt x="28" y="70"/>
                        </a:lnTo>
                        <a:lnTo>
                          <a:pt x="24" y="278"/>
                        </a:lnTo>
                        <a:lnTo>
                          <a:pt x="30" y="305"/>
                        </a:lnTo>
                        <a:lnTo>
                          <a:pt x="52" y="325"/>
                        </a:lnTo>
                        <a:lnTo>
                          <a:pt x="10" y="313"/>
                        </a:lnTo>
                        <a:lnTo>
                          <a:pt x="0" y="287"/>
                        </a:lnTo>
                        <a:lnTo>
                          <a:pt x="6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8" name="Freeform 27"/>
                <p:cNvSpPr/>
                <p:nvPr/>
              </p:nvSpPr>
              <p:spPr>
                <a:xfrm>
                  <a:off x="1672560" y="1206000"/>
                  <a:ext cx="579600" cy="81720"/>
                </a:xfrm>
                <a:custGeom>
                  <a:avLst/>
                  <a:gdLst>
                    <a:gd name="textAreaLeft" fmla="*/ 0 w 579600"/>
                    <a:gd name="textAreaRight" fmla="*/ 579960 w 57960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532" h="75">
                      <a:moveTo>
                        <a:pt x="0" y="51"/>
                      </a:moveTo>
                      <a:lnTo>
                        <a:pt x="532" y="0"/>
                      </a:lnTo>
                      <a:lnTo>
                        <a:pt x="521" y="34"/>
                      </a:lnTo>
                      <a:lnTo>
                        <a:pt x="9" y="75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28"/>
                <p:cNvSpPr/>
                <p:nvPr/>
              </p:nvSpPr>
              <p:spPr>
                <a:xfrm>
                  <a:off x="1675800" y="1450440"/>
                  <a:ext cx="578880" cy="77400"/>
                </a:xfrm>
                <a:custGeom>
                  <a:avLst/>
                  <a:gdLst>
                    <a:gd name="textAreaLeft" fmla="*/ 0 w 578880"/>
                    <a:gd name="textAreaRight" fmla="*/ 579240 w 57888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531" h="71">
                      <a:moveTo>
                        <a:pt x="0" y="0"/>
                      </a:moveTo>
                      <a:lnTo>
                        <a:pt x="520" y="41"/>
                      </a:lnTo>
                      <a:lnTo>
                        <a:pt x="531" y="71"/>
                      </a:lnTo>
                      <a:lnTo>
                        <a:pt x="0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29"/>
                <p:cNvSpPr/>
                <p:nvPr/>
              </p:nvSpPr>
              <p:spPr>
                <a:xfrm>
                  <a:off x="1243080" y="1263960"/>
                  <a:ext cx="367200" cy="47880"/>
                </a:xfrm>
                <a:custGeom>
                  <a:avLst/>
                  <a:gdLst>
                    <a:gd name="textAreaLeft" fmla="*/ 0 w 367200"/>
                    <a:gd name="textAreaRight" fmla="*/ 367560 w 367200"/>
                    <a:gd name="textAreaTop" fmla="*/ 0 h 47880"/>
                    <a:gd name="textAreaBottom" fmla="*/ 48240 h 47880"/>
                  </a:gdLst>
                  <a:ahLst/>
                  <a:rect l="textAreaLeft" t="textAreaTop" r="textAreaRight" b="textAreaBottom"/>
                  <a:pathLst>
                    <a:path w="337" h="44">
                      <a:moveTo>
                        <a:pt x="7" y="19"/>
                      </a:moveTo>
                      <a:lnTo>
                        <a:pt x="333" y="0"/>
                      </a:lnTo>
                      <a:lnTo>
                        <a:pt x="337" y="36"/>
                      </a:lnTo>
                      <a:lnTo>
                        <a:pt x="0" y="44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0"/>
                <p:cNvSpPr/>
                <p:nvPr/>
              </p:nvSpPr>
              <p:spPr>
                <a:xfrm>
                  <a:off x="1233360" y="1435320"/>
                  <a:ext cx="371520" cy="41400"/>
                </a:xfrm>
                <a:custGeom>
                  <a:avLst/>
                  <a:gdLst>
                    <a:gd name="textAreaLeft" fmla="*/ 0 w 371520"/>
                    <a:gd name="textAreaRight" fmla="*/ 371880 w 3715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341" h="38">
                      <a:moveTo>
                        <a:pt x="9" y="0"/>
                      </a:moveTo>
                      <a:lnTo>
                        <a:pt x="336" y="7"/>
                      </a:lnTo>
                      <a:lnTo>
                        <a:pt x="341" y="38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1"/>
                <p:cNvSpPr/>
                <p:nvPr/>
              </p:nvSpPr>
              <p:spPr>
                <a:xfrm>
                  <a:off x="792000" y="1297440"/>
                  <a:ext cx="379080" cy="46800"/>
                </a:xfrm>
                <a:custGeom>
                  <a:avLst/>
                  <a:gdLst>
                    <a:gd name="textAreaLeft" fmla="*/ 0 w 379080"/>
                    <a:gd name="textAreaRight" fmla="*/ 379440 w 379080"/>
                    <a:gd name="textAreaTop" fmla="*/ 0 h 46800"/>
                    <a:gd name="textAreaBottom" fmla="*/ 47160 h 46800"/>
                  </a:gdLst>
                  <a:ahLst/>
                  <a:rect l="textAreaLeft" t="textAreaTop" r="textAreaRight" b="textAreaBottom"/>
                  <a:pathLst>
                    <a:path w="348" h="43">
                      <a:moveTo>
                        <a:pt x="5" y="19"/>
                      </a:moveTo>
                      <a:lnTo>
                        <a:pt x="348" y="0"/>
                      </a:lnTo>
                      <a:lnTo>
                        <a:pt x="339" y="30"/>
                      </a:lnTo>
                      <a:lnTo>
                        <a:pt x="0" y="43"/>
                      </a:lnTo>
                      <a:lnTo>
                        <a:pt x="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32"/>
                <p:cNvSpPr/>
                <p:nvPr/>
              </p:nvSpPr>
              <p:spPr>
                <a:xfrm>
                  <a:off x="774360" y="1417680"/>
                  <a:ext cx="392400" cy="36000"/>
                </a:xfrm>
                <a:custGeom>
                  <a:avLst/>
                  <a:gdLst>
                    <a:gd name="textAreaLeft" fmla="*/ 0 w 392400"/>
                    <a:gd name="textAreaRight" fmla="*/ 392760 w 392400"/>
                    <a:gd name="textAreaTop" fmla="*/ 0 h 36000"/>
                    <a:gd name="textAreaBottom" fmla="*/ 36360 h 36000"/>
                  </a:gdLst>
                  <a:ahLst/>
                  <a:rect l="textAreaLeft" t="textAreaTop" r="textAreaRight" b="textAreaBottom"/>
                  <a:pathLst>
                    <a:path w="360" h="33">
                      <a:moveTo>
                        <a:pt x="16" y="5"/>
                      </a:moveTo>
                      <a:lnTo>
                        <a:pt x="358" y="0"/>
                      </a:lnTo>
                      <a:lnTo>
                        <a:pt x="360" y="33"/>
                      </a:lnTo>
                      <a:lnTo>
                        <a:pt x="0" y="28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4" name="Group 41"/>
            <p:cNvGrpSpPr/>
            <p:nvPr/>
          </p:nvGrpSpPr>
          <p:grpSpPr>
            <a:xfrm>
              <a:off x="474840" y="1210680"/>
              <a:ext cx="952920" cy="1647720"/>
              <a:chOff x="474840" y="1210680"/>
              <a:chExt cx="952920" cy="1647720"/>
            </a:xfrm>
          </p:grpSpPr>
          <p:sp>
            <p:nvSpPr>
              <p:cNvPr id="405" name="Freeform 35"/>
              <p:cNvSpPr/>
              <p:nvPr/>
            </p:nvSpPr>
            <p:spPr>
              <a:xfrm>
                <a:off x="474840" y="1210680"/>
                <a:ext cx="371520" cy="342360"/>
              </a:xfrm>
              <a:custGeom>
                <a:avLst/>
                <a:gdLst>
                  <a:gd name="textAreaLeft" fmla="*/ 0 w 371520"/>
                  <a:gd name="textAreaRight" fmla="*/ 371880 w 371520"/>
                  <a:gd name="textAreaTop" fmla="*/ 0 h 342360"/>
                  <a:gd name="textAreaBottom" fmla="*/ 342720 h 342360"/>
                </a:gdLst>
                <a:ahLst/>
                <a:rect l="textAreaLeft" t="textAreaTop" r="textAreaRight" b="textAreaBottom"/>
                <a:pathLst>
                  <a:path w="341" h="314">
                    <a:moveTo>
                      <a:pt x="232" y="158"/>
                    </a:moveTo>
                    <a:lnTo>
                      <a:pt x="217" y="120"/>
                    </a:lnTo>
                    <a:lnTo>
                      <a:pt x="201" y="83"/>
                    </a:lnTo>
                    <a:lnTo>
                      <a:pt x="179" y="43"/>
                    </a:lnTo>
                    <a:lnTo>
                      <a:pt x="158" y="18"/>
                    </a:lnTo>
                    <a:lnTo>
                      <a:pt x="136" y="5"/>
                    </a:lnTo>
                    <a:lnTo>
                      <a:pt x="108" y="0"/>
                    </a:lnTo>
                    <a:lnTo>
                      <a:pt x="77" y="0"/>
                    </a:lnTo>
                    <a:lnTo>
                      <a:pt x="50" y="7"/>
                    </a:lnTo>
                    <a:lnTo>
                      <a:pt x="27" y="29"/>
                    </a:lnTo>
                    <a:lnTo>
                      <a:pt x="11" y="59"/>
                    </a:lnTo>
                    <a:lnTo>
                      <a:pt x="0" y="92"/>
                    </a:lnTo>
                    <a:lnTo>
                      <a:pt x="0" y="129"/>
                    </a:lnTo>
                    <a:lnTo>
                      <a:pt x="11" y="179"/>
                    </a:lnTo>
                    <a:lnTo>
                      <a:pt x="32" y="226"/>
                    </a:lnTo>
                    <a:lnTo>
                      <a:pt x="54" y="258"/>
                    </a:lnTo>
                    <a:lnTo>
                      <a:pt x="83" y="285"/>
                    </a:lnTo>
                    <a:lnTo>
                      <a:pt x="120" y="309"/>
                    </a:lnTo>
                    <a:lnTo>
                      <a:pt x="156" y="314"/>
                    </a:lnTo>
                    <a:lnTo>
                      <a:pt x="183" y="314"/>
                    </a:lnTo>
                    <a:lnTo>
                      <a:pt x="205" y="307"/>
                    </a:lnTo>
                    <a:lnTo>
                      <a:pt x="217" y="291"/>
                    </a:lnTo>
                    <a:lnTo>
                      <a:pt x="233" y="269"/>
                    </a:lnTo>
                    <a:lnTo>
                      <a:pt x="239" y="231"/>
                    </a:lnTo>
                    <a:lnTo>
                      <a:pt x="242" y="201"/>
                    </a:lnTo>
                    <a:lnTo>
                      <a:pt x="280" y="221"/>
                    </a:lnTo>
                    <a:lnTo>
                      <a:pt x="328" y="231"/>
                    </a:lnTo>
                    <a:lnTo>
                      <a:pt x="341" y="215"/>
                    </a:lnTo>
                    <a:lnTo>
                      <a:pt x="339" y="194"/>
                    </a:lnTo>
                    <a:lnTo>
                      <a:pt x="298" y="179"/>
                    </a:lnTo>
                    <a:lnTo>
                      <a:pt x="255" y="172"/>
                    </a:lnTo>
                    <a:lnTo>
                      <a:pt x="232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6"/>
              <p:cNvSpPr/>
              <p:nvPr/>
            </p:nvSpPr>
            <p:spPr>
              <a:xfrm>
                <a:off x="578160" y="1595520"/>
                <a:ext cx="325800" cy="575280"/>
              </a:xfrm>
              <a:custGeom>
                <a:avLst/>
                <a:gdLst>
                  <a:gd name="textAreaLeft" fmla="*/ 0 w 325800"/>
                  <a:gd name="textAreaRight" fmla="*/ 326160 w 325800"/>
                  <a:gd name="textAreaTop" fmla="*/ 0 h 575280"/>
                  <a:gd name="textAreaBottom" fmla="*/ 575640 h 575280"/>
                </a:gdLst>
                <a:ahLst/>
                <a:rect l="textAreaLeft" t="textAreaTop" r="textAreaRight" b="textAreaBottom"/>
                <a:pathLst>
                  <a:path w="299" h="527">
                    <a:moveTo>
                      <a:pt x="61" y="11"/>
                    </a:moveTo>
                    <a:lnTo>
                      <a:pt x="110" y="0"/>
                    </a:lnTo>
                    <a:lnTo>
                      <a:pt x="148" y="4"/>
                    </a:lnTo>
                    <a:lnTo>
                      <a:pt x="169" y="14"/>
                    </a:lnTo>
                    <a:lnTo>
                      <a:pt x="207" y="46"/>
                    </a:lnTo>
                    <a:lnTo>
                      <a:pt x="232" y="84"/>
                    </a:lnTo>
                    <a:lnTo>
                      <a:pt x="250" y="121"/>
                    </a:lnTo>
                    <a:lnTo>
                      <a:pt x="270" y="171"/>
                    </a:lnTo>
                    <a:lnTo>
                      <a:pt x="288" y="224"/>
                    </a:lnTo>
                    <a:lnTo>
                      <a:pt x="299" y="292"/>
                    </a:lnTo>
                    <a:lnTo>
                      <a:pt x="297" y="340"/>
                    </a:lnTo>
                    <a:lnTo>
                      <a:pt x="292" y="390"/>
                    </a:lnTo>
                    <a:lnTo>
                      <a:pt x="277" y="431"/>
                    </a:lnTo>
                    <a:lnTo>
                      <a:pt x="261" y="463"/>
                    </a:lnTo>
                    <a:lnTo>
                      <a:pt x="232" y="493"/>
                    </a:lnTo>
                    <a:lnTo>
                      <a:pt x="195" y="515"/>
                    </a:lnTo>
                    <a:lnTo>
                      <a:pt x="153" y="525"/>
                    </a:lnTo>
                    <a:lnTo>
                      <a:pt x="110" y="527"/>
                    </a:lnTo>
                    <a:lnTo>
                      <a:pt x="70" y="516"/>
                    </a:lnTo>
                    <a:lnTo>
                      <a:pt x="49" y="500"/>
                    </a:lnTo>
                    <a:lnTo>
                      <a:pt x="27" y="474"/>
                    </a:lnTo>
                    <a:lnTo>
                      <a:pt x="18" y="442"/>
                    </a:lnTo>
                    <a:lnTo>
                      <a:pt x="16" y="408"/>
                    </a:lnTo>
                    <a:lnTo>
                      <a:pt x="18" y="369"/>
                    </a:lnTo>
                    <a:lnTo>
                      <a:pt x="38" y="336"/>
                    </a:lnTo>
                    <a:lnTo>
                      <a:pt x="59" y="299"/>
                    </a:lnTo>
                    <a:lnTo>
                      <a:pt x="70" y="276"/>
                    </a:lnTo>
                    <a:lnTo>
                      <a:pt x="65" y="240"/>
                    </a:lnTo>
                    <a:lnTo>
                      <a:pt x="50" y="214"/>
                    </a:lnTo>
                    <a:lnTo>
                      <a:pt x="29" y="187"/>
                    </a:lnTo>
                    <a:lnTo>
                      <a:pt x="7" y="150"/>
                    </a:lnTo>
                    <a:lnTo>
                      <a:pt x="0" y="112"/>
                    </a:lnTo>
                    <a:lnTo>
                      <a:pt x="5" y="75"/>
                    </a:lnTo>
                    <a:lnTo>
                      <a:pt x="18" y="46"/>
                    </a:lnTo>
                    <a:lnTo>
                      <a:pt x="38" y="27"/>
                    </a:lnTo>
                    <a:lnTo>
                      <a:pt x="6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7"/>
              <p:cNvSpPr/>
              <p:nvPr/>
            </p:nvSpPr>
            <p:spPr>
              <a:xfrm>
                <a:off x="648360" y="1335960"/>
                <a:ext cx="779400" cy="404640"/>
              </a:xfrm>
              <a:custGeom>
                <a:avLst/>
                <a:gdLst>
                  <a:gd name="textAreaLeft" fmla="*/ 0 w 779400"/>
                  <a:gd name="textAreaRight" fmla="*/ 779760 w 77940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715" h="371">
                    <a:moveTo>
                      <a:pt x="41" y="269"/>
                    </a:moveTo>
                    <a:lnTo>
                      <a:pt x="20" y="276"/>
                    </a:lnTo>
                    <a:lnTo>
                      <a:pt x="0" y="303"/>
                    </a:lnTo>
                    <a:lnTo>
                      <a:pt x="11" y="330"/>
                    </a:lnTo>
                    <a:lnTo>
                      <a:pt x="51" y="351"/>
                    </a:lnTo>
                    <a:lnTo>
                      <a:pt x="126" y="367"/>
                    </a:lnTo>
                    <a:lnTo>
                      <a:pt x="192" y="371"/>
                    </a:lnTo>
                    <a:lnTo>
                      <a:pt x="287" y="362"/>
                    </a:lnTo>
                    <a:lnTo>
                      <a:pt x="367" y="351"/>
                    </a:lnTo>
                    <a:lnTo>
                      <a:pt x="394" y="351"/>
                    </a:lnTo>
                    <a:lnTo>
                      <a:pt x="413" y="341"/>
                    </a:lnTo>
                    <a:lnTo>
                      <a:pt x="431" y="312"/>
                    </a:lnTo>
                    <a:lnTo>
                      <a:pt x="463" y="263"/>
                    </a:lnTo>
                    <a:lnTo>
                      <a:pt x="504" y="228"/>
                    </a:lnTo>
                    <a:lnTo>
                      <a:pt x="548" y="185"/>
                    </a:lnTo>
                    <a:lnTo>
                      <a:pt x="584" y="158"/>
                    </a:lnTo>
                    <a:lnTo>
                      <a:pt x="623" y="136"/>
                    </a:lnTo>
                    <a:lnTo>
                      <a:pt x="669" y="125"/>
                    </a:lnTo>
                    <a:lnTo>
                      <a:pt x="694" y="115"/>
                    </a:lnTo>
                    <a:lnTo>
                      <a:pt x="715" y="97"/>
                    </a:lnTo>
                    <a:lnTo>
                      <a:pt x="706" y="72"/>
                    </a:lnTo>
                    <a:lnTo>
                      <a:pt x="674" y="65"/>
                    </a:lnTo>
                    <a:lnTo>
                      <a:pt x="649" y="54"/>
                    </a:lnTo>
                    <a:lnTo>
                      <a:pt x="642" y="23"/>
                    </a:lnTo>
                    <a:lnTo>
                      <a:pt x="623" y="0"/>
                    </a:lnTo>
                    <a:lnTo>
                      <a:pt x="600" y="11"/>
                    </a:lnTo>
                    <a:lnTo>
                      <a:pt x="601" y="50"/>
                    </a:lnTo>
                    <a:lnTo>
                      <a:pt x="623" y="81"/>
                    </a:lnTo>
                    <a:lnTo>
                      <a:pt x="612" y="99"/>
                    </a:lnTo>
                    <a:lnTo>
                      <a:pt x="575" y="129"/>
                    </a:lnTo>
                    <a:lnTo>
                      <a:pt x="516" y="163"/>
                    </a:lnTo>
                    <a:lnTo>
                      <a:pt x="452" y="206"/>
                    </a:lnTo>
                    <a:lnTo>
                      <a:pt x="408" y="247"/>
                    </a:lnTo>
                    <a:lnTo>
                      <a:pt x="378" y="285"/>
                    </a:lnTo>
                    <a:lnTo>
                      <a:pt x="357" y="292"/>
                    </a:lnTo>
                    <a:lnTo>
                      <a:pt x="312" y="296"/>
                    </a:lnTo>
                    <a:lnTo>
                      <a:pt x="229" y="298"/>
                    </a:lnTo>
                    <a:lnTo>
                      <a:pt x="160" y="298"/>
                    </a:lnTo>
                    <a:lnTo>
                      <a:pt x="101" y="287"/>
                    </a:lnTo>
                    <a:lnTo>
                      <a:pt x="41" y="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38"/>
              <p:cNvSpPr/>
              <p:nvPr/>
            </p:nvSpPr>
            <p:spPr>
              <a:xfrm>
                <a:off x="677520" y="1257120"/>
                <a:ext cx="409680" cy="496800"/>
              </a:xfrm>
              <a:custGeom>
                <a:avLst/>
                <a:gdLst>
                  <a:gd name="textAreaLeft" fmla="*/ 0 w 409680"/>
                  <a:gd name="textAreaRight" fmla="*/ 410040 w 409680"/>
                  <a:gd name="textAreaTop" fmla="*/ 0 h 496800"/>
                  <a:gd name="textAreaBottom" fmla="*/ 497160 h 496800"/>
                </a:gdLst>
                <a:ahLst/>
                <a:rect l="textAreaLeft" t="textAreaTop" r="textAreaRight" b="textAreaBottom"/>
                <a:pathLst>
                  <a:path w="376" h="455">
                    <a:moveTo>
                      <a:pt x="32" y="325"/>
                    </a:moveTo>
                    <a:lnTo>
                      <a:pt x="4" y="332"/>
                    </a:lnTo>
                    <a:lnTo>
                      <a:pt x="0" y="357"/>
                    </a:lnTo>
                    <a:lnTo>
                      <a:pt x="21" y="391"/>
                    </a:lnTo>
                    <a:lnTo>
                      <a:pt x="64" y="416"/>
                    </a:lnTo>
                    <a:lnTo>
                      <a:pt x="113" y="439"/>
                    </a:lnTo>
                    <a:lnTo>
                      <a:pt x="186" y="455"/>
                    </a:lnTo>
                    <a:lnTo>
                      <a:pt x="274" y="455"/>
                    </a:lnTo>
                    <a:lnTo>
                      <a:pt x="295" y="453"/>
                    </a:lnTo>
                    <a:lnTo>
                      <a:pt x="301" y="405"/>
                    </a:lnTo>
                    <a:lnTo>
                      <a:pt x="310" y="341"/>
                    </a:lnTo>
                    <a:lnTo>
                      <a:pt x="312" y="268"/>
                    </a:lnTo>
                    <a:lnTo>
                      <a:pt x="315" y="228"/>
                    </a:lnTo>
                    <a:lnTo>
                      <a:pt x="322" y="196"/>
                    </a:lnTo>
                    <a:lnTo>
                      <a:pt x="342" y="180"/>
                    </a:lnTo>
                    <a:lnTo>
                      <a:pt x="376" y="171"/>
                    </a:lnTo>
                    <a:lnTo>
                      <a:pt x="374" y="153"/>
                    </a:lnTo>
                    <a:lnTo>
                      <a:pt x="317" y="153"/>
                    </a:lnTo>
                    <a:lnTo>
                      <a:pt x="304" y="118"/>
                    </a:lnTo>
                    <a:lnTo>
                      <a:pt x="288" y="96"/>
                    </a:lnTo>
                    <a:lnTo>
                      <a:pt x="285" y="68"/>
                    </a:lnTo>
                    <a:lnTo>
                      <a:pt x="299" y="43"/>
                    </a:lnTo>
                    <a:lnTo>
                      <a:pt x="322" y="37"/>
                    </a:lnTo>
                    <a:lnTo>
                      <a:pt x="328" y="20"/>
                    </a:lnTo>
                    <a:lnTo>
                      <a:pt x="299" y="4"/>
                    </a:lnTo>
                    <a:lnTo>
                      <a:pt x="261" y="0"/>
                    </a:lnTo>
                    <a:lnTo>
                      <a:pt x="240" y="11"/>
                    </a:lnTo>
                    <a:lnTo>
                      <a:pt x="224" y="43"/>
                    </a:lnTo>
                    <a:lnTo>
                      <a:pt x="213" y="64"/>
                    </a:lnTo>
                    <a:lnTo>
                      <a:pt x="220" y="96"/>
                    </a:lnTo>
                    <a:lnTo>
                      <a:pt x="231" y="128"/>
                    </a:lnTo>
                    <a:lnTo>
                      <a:pt x="258" y="159"/>
                    </a:lnTo>
                    <a:lnTo>
                      <a:pt x="283" y="177"/>
                    </a:lnTo>
                    <a:lnTo>
                      <a:pt x="285" y="214"/>
                    </a:lnTo>
                    <a:lnTo>
                      <a:pt x="279" y="284"/>
                    </a:lnTo>
                    <a:lnTo>
                      <a:pt x="272" y="337"/>
                    </a:lnTo>
                    <a:lnTo>
                      <a:pt x="252" y="389"/>
                    </a:lnTo>
                    <a:lnTo>
                      <a:pt x="242" y="394"/>
                    </a:lnTo>
                    <a:lnTo>
                      <a:pt x="186" y="389"/>
                    </a:lnTo>
                    <a:lnTo>
                      <a:pt x="134" y="375"/>
                    </a:lnTo>
                    <a:lnTo>
                      <a:pt x="102" y="353"/>
                    </a:lnTo>
                    <a:lnTo>
                      <a:pt x="68" y="337"/>
                    </a:lnTo>
                    <a:lnTo>
                      <a:pt x="32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39"/>
              <p:cNvSpPr/>
              <p:nvPr/>
            </p:nvSpPr>
            <p:spPr>
              <a:xfrm>
                <a:off x="619920" y="2030040"/>
                <a:ext cx="287640" cy="8283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828360"/>
                  <a:gd name="textAreaBottom" fmla="*/ 828720 h 828360"/>
                </a:gdLst>
                <a:ahLst/>
                <a:rect l="textAreaLeft" t="textAreaTop" r="textAreaRight" b="textAreaBottom"/>
                <a:pathLst>
                  <a:path w="264" h="759">
                    <a:moveTo>
                      <a:pt x="16" y="101"/>
                    </a:moveTo>
                    <a:lnTo>
                      <a:pt x="9" y="62"/>
                    </a:lnTo>
                    <a:lnTo>
                      <a:pt x="16" y="25"/>
                    </a:lnTo>
                    <a:lnTo>
                      <a:pt x="43" y="0"/>
                    </a:lnTo>
                    <a:lnTo>
                      <a:pt x="74" y="9"/>
                    </a:lnTo>
                    <a:lnTo>
                      <a:pt x="103" y="41"/>
                    </a:lnTo>
                    <a:lnTo>
                      <a:pt x="112" y="94"/>
                    </a:lnTo>
                    <a:lnTo>
                      <a:pt x="119" y="179"/>
                    </a:lnTo>
                    <a:lnTo>
                      <a:pt x="118" y="255"/>
                    </a:lnTo>
                    <a:lnTo>
                      <a:pt x="108" y="329"/>
                    </a:lnTo>
                    <a:lnTo>
                      <a:pt x="98" y="409"/>
                    </a:lnTo>
                    <a:lnTo>
                      <a:pt x="81" y="471"/>
                    </a:lnTo>
                    <a:lnTo>
                      <a:pt x="74" y="508"/>
                    </a:lnTo>
                    <a:lnTo>
                      <a:pt x="71" y="573"/>
                    </a:lnTo>
                    <a:lnTo>
                      <a:pt x="80" y="616"/>
                    </a:lnTo>
                    <a:lnTo>
                      <a:pt x="96" y="646"/>
                    </a:lnTo>
                    <a:lnTo>
                      <a:pt x="118" y="662"/>
                    </a:lnTo>
                    <a:lnTo>
                      <a:pt x="161" y="683"/>
                    </a:lnTo>
                    <a:lnTo>
                      <a:pt x="221" y="695"/>
                    </a:lnTo>
                    <a:lnTo>
                      <a:pt x="250" y="701"/>
                    </a:lnTo>
                    <a:lnTo>
                      <a:pt x="264" y="715"/>
                    </a:lnTo>
                    <a:lnTo>
                      <a:pt x="259" y="725"/>
                    </a:lnTo>
                    <a:lnTo>
                      <a:pt x="242" y="736"/>
                    </a:lnTo>
                    <a:lnTo>
                      <a:pt x="204" y="757"/>
                    </a:lnTo>
                    <a:lnTo>
                      <a:pt x="166" y="759"/>
                    </a:lnTo>
                    <a:lnTo>
                      <a:pt x="146" y="752"/>
                    </a:lnTo>
                    <a:lnTo>
                      <a:pt x="128" y="731"/>
                    </a:lnTo>
                    <a:lnTo>
                      <a:pt x="96" y="709"/>
                    </a:lnTo>
                    <a:lnTo>
                      <a:pt x="43" y="690"/>
                    </a:lnTo>
                    <a:lnTo>
                      <a:pt x="25" y="688"/>
                    </a:lnTo>
                    <a:lnTo>
                      <a:pt x="5" y="683"/>
                    </a:lnTo>
                    <a:lnTo>
                      <a:pt x="0" y="667"/>
                    </a:lnTo>
                    <a:lnTo>
                      <a:pt x="0" y="642"/>
                    </a:lnTo>
                    <a:lnTo>
                      <a:pt x="11" y="619"/>
                    </a:lnTo>
                    <a:lnTo>
                      <a:pt x="27" y="594"/>
                    </a:lnTo>
                    <a:lnTo>
                      <a:pt x="33" y="531"/>
                    </a:lnTo>
                    <a:lnTo>
                      <a:pt x="31" y="456"/>
                    </a:lnTo>
                    <a:lnTo>
                      <a:pt x="36" y="402"/>
                    </a:lnTo>
                    <a:lnTo>
                      <a:pt x="43" y="350"/>
                    </a:lnTo>
                    <a:lnTo>
                      <a:pt x="42" y="303"/>
                    </a:lnTo>
                    <a:lnTo>
                      <a:pt x="33" y="237"/>
                    </a:lnTo>
                    <a:lnTo>
                      <a:pt x="25" y="186"/>
                    </a:lnTo>
                    <a:lnTo>
                      <a:pt x="27" y="133"/>
                    </a:lnTo>
                    <a:lnTo>
                      <a:pt x="16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40"/>
              <p:cNvSpPr/>
              <p:nvPr/>
            </p:nvSpPr>
            <p:spPr>
              <a:xfrm>
                <a:off x="717840" y="2040120"/>
                <a:ext cx="326880" cy="726840"/>
              </a:xfrm>
              <a:custGeom>
                <a:avLst/>
                <a:gdLst/>
                <a:ahLst/>
                <a:rect l="l" t="t" r="r" b="b"/>
                <a:pathLst>
                  <a:path w="300" h="666">
                    <a:moveTo>
                      <a:pt x="65" y="0"/>
                    </a:moveTo>
                    <a:lnTo>
                      <a:pt x="108" y="44"/>
                    </a:lnTo>
                    <a:lnTo>
                      <a:pt x="133" y="90"/>
                    </a:lnTo>
                    <a:lnTo>
                      <a:pt x="154" y="143"/>
                    </a:lnTo>
                    <a:lnTo>
                      <a:pt x="171" y="207"/>
                    </a:lnTo>
                    <a:lnTo>
                      <a:pt x="178" y="273"/>
                    </a:lnTo>
                    <a:lnTo>
                      <a:pt x="172" y="335"/>
                    </a:lnTo>
                    <a:lnTo>
                      <a:pt x="165" y="399"/>
                    </a:lnTo>
                    <a:lnTo>
                      <a:pt x="156" y="462"/>
                    </a:lnTo>
                    <a:lnTo>
                      <a:pt x="140" y="523"/>
                    </a:lnTo>
                    <a:lnTo>
                      <a:pt x="138" y="560"/>
                    </a:lnTo>
                    <a:lnTo>
                      <a:pt x="144" y="579"/>
                    </a:lnTo>
                    <a:lnTo>
                      <a:pt x="176" y="586"/>
                    </a:lnTo>
                    <a:lnTo>
                      <a:pt x="225" y="592"/>
                    </a:lnTo>
                    <a:lnTo>
                      <a:pt x="280" y="608"/>
                    </a:lnTo>
                    <a:lnTo>
                      <a:pt x="289" y="622"/>
                    </a:lnTo>
                    <a:lnTo>
                      <a:pt x="300" y="654"/>
                    </a:lnTo>
                    <a:lnTo>
                      <a:pt x="295" y="664"/>
                    </a:lnTo>
                    <a:lnTo>
                      <a:pt x="273" y="666"/>
                    </a:lnTo>
                    <a:lnTo>
                      <a:pt x="226" y="655"/>
                    </a:lnTo>
                    <a:lnTo>
                      <a:pt x="181" y="634"/>
                    </a:lnTo>
                    <a:lnTo>
                      <a:pt x="135" y="629"/>
                    </a:lnTo>
                    <a:lnTo>
                      <a:pt x="108" y="627"/>
                    </a:lnTo>
                    <a:lnTo>
                      <a:pt x="79" y="616"/>
                    </a:lnTo>
                    <a:lnTo>
                      <a:pt x="74" y="597"/>
                    </a:lnTo>
                    <a:lnTo>
                      <a:pt x="79" y="574"/>
                    </a:lnTo>
                    <a:lnTo>
                      <a:pt x="97" y="542"/>
                    </a:lnTo>
                    <a:lnTo>
                      <a:pt x="113" y="505"/>
                    </a:lnTo>
                    <a:lnTo>
                      <a:pt x="122" y="422"/>
                    </a:lnTo>
                    <a:lnTo>
                      <a:pt x="122" y="363"/>
                    </a:lnTo>
                    <a:lnTo>
                      <a:pt x="122" y="319"/>
                    </a:lnTo>
                    <a:lnTo>
                      <a:pt x="119" y="273"/>
                    </a:lnTo>
                    <a:lnTo>
                      <a:pt x="108" y="234"/>
                    </a:lnTo>
                    <a:lnTo>
                      <a:pt x="95" y="188"/>
                    </a:lnTo>
                    <a:lnTo>
                      <a:pt x="65" y="143"/>
                    </a:lnTo>
                    <a:lnTo>
                      <a:pt x="41" y="108"/>
                    </a:lnTo>
                    <a:lnTo>
                      <a:pt x="11" y="64"/>
                    </a:lnTo>
                    <a:lnTo>
                      <a:pt x="0" y="34"/>
                    </a:lnTo>
                    <a:lnTo>
                      <a:pt x="11" y="5"/>
                    </a:lnTo>
                    <a:lnTo>
                      <a:pt x="32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Connettore 1 41"/>
          <p:cNvSpPr/>
          <p:nvPr/>
        </p:nvSpPr>
        <p:spPr>
          <a:xfrm>
            <a:off x="798480" y="3137040"/>
            <a:ext cx="3773520" cy="321768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Connettore 1 43"/>
          <p:cNvSpPr/>
          <p:nvPr/>
        </p:nvSpPr>
        <p:spPr>
          <a:xfrm>
            <a:off x="2847960" y="1216080"/>
            <a:ext cx="6029280" cy="36972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e 44"/>
          <p:cNvSpPr/>
          <p:nvPr/>
        </p:nvSpPr>
        <p:spPr>
          <a:xfrm>
            <a:off x="3992400" y="1967040"/>
            <a:ext cx="2894040" cy="13557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SPETTI ORGANIZZ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e 45"/>
          <p:cNvSpPr/>
          <p:nvPr/>
        </p:nvSpPr>
        <p:spPr>
          <a:xfrm>
            <a:off x="4840200" y="3902040"/>
            <a:ext cx="2894040" cy="135432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TILE MANAGE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CasellaDiTesto 46"/>
          <p:cNvSpPr/>
          <p:nvPr/>
        </p:nvSpPr>
        <p:spPr>
          <a:xfrm rot="18176400">
            <a:off x="1242360" y="2149560"/>
            <a:ext cx="20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NOSTRO</a:t>
            </a:r>
            <a:br>
              <a:rPr sz="1800"/>
            </a:b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 PUNTO DI 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egnaposto numero diapositiva 4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4984-B438-4C7B-833C-FF44710C3DD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leve organizzativ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1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EB3E-8A4E-4980-BD0F-E767ED7F369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CasellaDiTesto 2"/>
          <p:cNvSpPr/>
          <p:nvPr/>
        </p:nvSpPr>
        <p:spPr>
          <a:xfrm>
            <a:off x="638640" y="1424160"/>
            <a:ext cx="837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arezza dell’organizzazione e adeguatezza dei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mbienti e strumenti sicuri e adegu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ircolazione delle inform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stema di valutazione delle pres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stema per legare le ricompense alle pres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iani di formazione e mobilità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menti definiti di comunicazione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3"/>
          <p:cNvSpPr/>
          <p:nvPr/>
        </p:nvSpPr>
        <p:spPr>
          <a:xfrm>
            <a:off x="695160" y="1158840"/>
            <a:ext cx="85251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ouglas McGreg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o stile di direzione di un capo è condizionato dal modo in cui egli considera la natura uman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questo determina due ipotesi sull’uomo in relazione al suo lavoro: “Teoria X” e “Teoria 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673200" y="4135320"/>
            <a:ext cx="854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obert Blake e Jane Mout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nalizzano quanto i capi considerino come fattori rilevanti per il loro successo la produzione o le pers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riglia manageria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Gli stili di dire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23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5D4D-325C-47B7-9ED6-658524CD749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3"/>
          <p:cNvSpPr/>
          <p:nvPr/>
        </p:nvSpPr>
        <p:spPr>
          <a:xfrm>
            <a:off x="695160" y="1014480"/>
            <a:ext cx="8525160" cy="50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4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’essere umano di solito ha una resistenza innata al lavoro e se è possibile lo eviter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4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 causa della resistenza dell’uomo al lavoro, egli deve essere controllato, diretto o minacciato di punizioni per indurlo ad impiegare uno sforzo adeguato verso il raggiungimento degli obiettivi dell’organizz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4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’essere umano di solito preferisce essere diretto, desidera evitare le responsabilità, possiede un’ambizione relativamente limitata e vuole soprattutto la sicurez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Teoria X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2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BBBB-F586-4C5F-8BC7-2B47D54709D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Object 2" descr=""/>
          <p:cNvPicPr/>
          <p:nvPr/>
        </p:nvPicPr>
        <p:blipFill>
          <a:blip r:embed="rId1"/>
          <a:stretch/>
        </p:blipFill>
        <p:spPr>
          <a:xfrm>
            <a:off x="6765840" y="847800"/>
            <a:ext cx="1925640" cy="21668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915480" y="130824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S’interpreta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753480" y="3133800"/>
            <a:ext cx="852912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li attori organizzativi non sono molto diversi da quelli teatra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er essere efficaci entrambi hanno bisogno 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b587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oscenze tecnico-specialis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b587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bilità tecnico-specialis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b587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aratteristiche personali ada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b587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bilità relaz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1b587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ori e motiv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uol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95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8729-AD38-4486-9C6D-50636111F10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3"/>
          <p:cNvSpPr/>
          <p:nvPr/>
        </p:nvSpPr>
        <p:spPr>
          <a:xfrm>
            <a:off x="695160" y="1000080"/>
            <a:ext cx="8525160" cy="52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’impiego di uno sforzo fisico e mentale sul lavoro è naturale quanto il gioco e il rip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controllo esterno e la minaccia di punizioni non sono l’unico mezzo per indurre l’uomo a lavorare verso gli obiettivi dell’organizzazione. Gli uomini si dirigeranno da sé ed eserciteranno un autocontrollo nell’intento di raggiungere gli obiettivi per i quali sono impegn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’impegno a raggiungere gli obiettivi è in funzione della ricompensa associata al loro ottenimento (stima ed autorealizzazione, ad es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Teoria Y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2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52EE-202C-44F4-9DDB-3BFE243674D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3"/>
          <p:cNvSpPr/>
          <p:nvPr/>
        </p:nvSpPr>
        <p:spPr>
          <a:xfrm>
            <a:off x="695160" y="1000080"/>
            <a:ext cx="85251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5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’essere umano in genere impara, in condizioni adatte non solo ad accettare ma anche a cercare le responsabil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5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lte persone sono dotate di un livello d’immaginazione relativamente alto, così come d’ingegnosità e di creatività nel risolvere i problemi organizzati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5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lle condizioni dell’azienda moderna il potenziale intellettuale medio di una persona viene utilizzato solo parzia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Teoria Y (segue)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3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EA89-1D1D-4DC6-BFDD-AF003D7B577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Object 3"/>
          <p:cNvGraphicFramePr/>
          <p:nvPr/>
        </p:nvGraphicFramePr>
        <p:xfrm>
          <a:off x="1476360" y="1128600"/>
          <a:ext cx="7039080" cy="45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28600"/>
                    <a:ext cx="703908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5" name="Group 4"/>
          <p:cNvGrpSpPr/>
          <p:nvPr/>
        </p:nvGrpSpPr>
        <p:grpSpPr>
          <a:xfrm>
            <a:off x="1049040" y="1233360"/>
            <a:ext cx="298800" cy="4350600"/>
            <a:chOff x="1049040" y="1233360"/>
            <a:chExt cx="298800" cy="4350600"/>
          </a:xfrm>
        </p:grpSpPr>
        <p:sp>
          <p:nvSpPr>
            <p:cNvPr id="436" name="Text Box 5"/>
            <p:cNvSpPr/>
            <p:nvPr/>
          </p:nvSpPr>
          <p:spPr>
            <a:xfrm>
              <a:off x="1054080" y="5276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6"/>
            <p:cNvSpPr/>
            <p:nvPr/>
          </p:nvSpPr>
          <p:spPr>
            <a:xfrm>
              <a:off x="1068120" y="3262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7"/>
            <p:cNvSpPr/>
            <p:nvPr/>
          </p:nvSpPr>
          <p:spPr>
            <a:xfrm>
              <a:off x="1068120" y="2757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8"/>
            <p:cNvSpPr/>
            <p:nvPr/>
          </p:nvSpPr>
          <p:spPr>
            <a:xfrm>
              <a:off x="1068120" y="2243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9"/>
            <p:cNvSpPr/>
            <p:nvPr/>
          </p:nvSpPr>
          <p:spPr>
            <a:xfrm>
              <a:off x="1068120" y="1752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0"/>
            <p:cNvSpPr/>
            <p:nvPr/>
          </p:nvSpPr>
          <p:spPr>
            <a:xfrm>
              <a:off x="1068120" y="123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1"/>
            <p:cNvSpPr/>
            <p:nvPr/>
          </p:nvSpPr>
          <p:spPr>
            <a:xfrm>
              <a:off x="1062000" y="4772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2"/>
            <p:cNvSpPr/>
            <p:nvPr/>
          </p:nvSpPr>
          <p:spPr>
            <a:xfrm>
              <a:off x="1049040" y="4267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3"/>
            <p:cNvSpPr/>
            <p:nvPr/>
          </p:nvSpPr>
          <p:spPr>
            <a:xfrm>
              <a:off x="1068120" y="3762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14"/>
          <p:cNvGrpSpPr/>
          <p:nvPr/>
        </p:nvGrpSpPr>
        <p:grpSpPr>
          <a:xfrm>
            <a:off x="1699920" y="5791320"/>
            <a:ext cx="6528240" cy="307080"/>
            <a:chOff x="1699920" y="5791320"/>
            <a:chExt cx="6528240" cy="307080"/>
          </a:xfrm>
        </p:grpSpPr>
        <p:sp>
          <p:nvSpPr>
            <p:cNvPr id="446" name="Text Box 15"/>
            <p:cNvSpPr/>
            <p:nvPr/>
          </p:nvSpPr>
          <p:spPr>
            <a:xfrm>
              <a:off x="169992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6"/>
            <p:cNvSpPr/>
            <p:nvPr/>
          </p:nvSpPr>
          <p:spPr>
            <a:xfrm>
              <a:off x="48020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7"/>
            <p:cNvSpPr/>
            <p:nvPr/>
          </p:nvSpPr>
          <p:spPr>
            <a:xfrm>
              <a:off x="559728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8"/>
            <p:cNvSpPr/>
            <p:nvPr/>
          </p:nvSpPr>
          <p:spPr>
            <a:xfrm>
              <a:off x="63482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19"/>
            <p:cNvSpPr/>
            <p:nvPr/>
          </p:nvSpPr>
          <p:spPr>
            <a:xfrm>
              <a:off x="718632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20"/>
            <p:cNvSpPr/>
            <p:nvPr/>
          </p:nvSpPr>
          <p:spPr>
            <a:xfrm>
              <a:off x="79484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21"/>
            <p:cNvSpPr/>
            <p:nvPr/>
          </p:nvSpPr>
          <p:spPr>
            <a:xfrm>
              <a:off x="24620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2"/>
            <p:cNvSpPr/>
            <p:nvPr/>
          </p:nvSpPr>
          <p:spPr>
            <a:xfrm>
              <a:off x="325260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23"/>
            <p:cNvSpPr/>
            <p:nvPr/>
          </p:nvSpPr>
          <p:spPr>
            <a:xfrm>
              <a:off x="403380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24"/>
          <p:cNvSpPr/>
          <p:nvPr/>
        </p:nvSpPr>
        <p:spPr>
          <a:xfrm rot="16174200">
            <a:off x="-1148400" y="3240720"/>
            <a:ext cx="39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 d’interesse verso gli uo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5"/>
          <p:cNvSpPr/>
          <p:nvPr/>
        </p:nvSpPr>
        <p:spPr>
          <a:xfrm>
            <a:off x="2929680" y="6058080"/>
            <a:ext cx="40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 d’interesse verso la pro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griglia manageri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58" name="Segnaposto numero diapositiva 2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E384-3C08-4205-A09D-C907CFCA88E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adership situaz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E1E1-FD5F-4311-B478-E402351F013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2611440" y="1071720"/>
            <a:ext cx="4684680" cy="49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Oval 3"/>
          <p:cNvSpPr/>
          <p:nvPr/>
        </p:nvSpPr>
        <p:spPr>
          <a:xfrm>
            <a:off x="3854520" y="2687760"/>
            <a:ext cx="2200320" cy="2133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E DIMENSIONI DEL MANAGER DI SU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4"/>
          <p:cNvSpPr/>
          <p:nvPr/>
        </p:nvSpPr>
        <p:spPr>
          <a:xfrm flipV="1">
            <a:off x="4952880" y="1773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5"/>
          <p:cNvSpPr/>
          <p:nvPr/>
        </p:nvSpPr>
        <p:spPr>
          <a:xfrm>
            <a:off x="4952880" y="4821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6"/>
          <p:cNvSpPr/>
          <p:nvPr/>
        </p:nvSpPr>
        <p:spPr>
          <a:xfrm flipH="1">
            <a:off x="2895480" y="3830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7"/>
          <p:cNvSpPr/>
          <p:nvPr/>
        </p:nvSpPr>
        <p:spPr>
          <a:xfrm>
            <a:off x="6019920" y="38307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8"/>
          <p:cNvSpPr/>
          <p:nvPr/>
        </p:nvSpPr>
        <p:spPr>
          <a:xfrm flipV="1">
            <a:off x="5805720" y="2465280"/>
            <a:ext cx="885240" cy="59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9"/>
          <p:cNvSpPr/>
          <p:nvPr/>
        </p:nvSpPr>
        <p:spPr>
          <a:xfrm>
            <a:off x="5777280" y="4462920"/>
            <a:ext cx="789480" cy="71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0"/>
          <p:cNvSpPr/>
          <p:nvPr/>
        </p:nvSpPr>
        <p:spPr>
          <a:xfrm flipH="1">
            <a:off x="3291480" y="4523040"/>
            <a:ext cx="883800" cy="59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1"/>
          <p:cNvSpPr/>
          <p:nvPr/>
        </p:nvSpPr>
        <p:spPr>
          <a:xfrm flipH="1" flipV="1">
            <a:off x="3238200" y="2343240"/>
            <a:ext cx="914400" cy="68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838080" y="48974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E’ ESI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533520" y="3525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A ASCOL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838080" y="18493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SA ESPRIMERE RICONOSCI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6629400" y="203184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SA CRE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PIRITO DI GRUPP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6"/>
          <p:cNvSpPr/>
          <p:nvPr/>
        </p:nvSpPr>
        <p:spPr>
          <a:xfrm>
            <a:off x="7238880" y="352584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DEL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7"/>
          <p:cNvSpPr/>
          <p:nvPr/>
        </p:nvSpPr>
        <p:spPr>
          <a:xfrm>
            <a:off x="6750000" y="4821120"/>
            <a:ext cx="285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ESIGE DAI SUOI UOMINI UN LAVORO 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8"/>
          <p:cNvSpPr/>
          <p:nvPr/>
        </p:nvSpPr>
        <p:spPr>
          <a:xfrm>
            <a:off x="3505320" y="5735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HA STIMA DEI SUOI UO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9"/>
          <p:cNvSpPr/>
          <p:nvPr/>
        </p:nvSpPr>
        <p:spPr>
          <a:xfrm>
            <a:off x="3003840" y="1042920"/>
            <a:ext cx="387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OTTIENE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TTRAVERSO ALTRE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ritratto del manager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0" name="Segnaposto numero diapositiva 19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7E10-A0F0-4332-9D78-B3C2331DD45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3"/>
          <p:cNvSpPr/>
          <p:nvPr/>
        </p:nvSpPr>
        <p:spPr>
          <a:xfrm>
            <a:off x="771480" y="1523880"/>
            <a:ext cx="4038480" cy="44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a riunio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formativ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scambio d’informazio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cision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gozi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tivazion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5334120" y="1523880"/>
            <a:ext cx="41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colloquio individu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perativo/decisiona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biasi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tivaziona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assegnazione degli obiettiv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valutazione dei risulta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sciplin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ituazioni organizzative di gestione dei collaborato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4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5166-E34A-43BB-B3E8-FAC567C2C8D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3"/>
          <p:cNvSpPr/>
          <p:nvPr/>
        </p:nvSpPr>
        <p:spPr>
          <a:xfrm>
            <a:off x="83808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ll’affrontare riunioni e colloqui il responsabile dovr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714240" y="2397240"/>
            <a:ext cx="84582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finire chiaramente i propr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eparare adeguatamente il materiale necess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grammare sempre con anticipo salvo emerg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dicare tutto il tempo necess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imolare la partecipazione e il coinvolgimento de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cludere ogni evento chiarendo a tutti i partecipanti i risultati eme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ituazioni organizzative di gestione dei collaborato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8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A748-D303-4FD6-9A5E-9445A6DC7A2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3"/>
          <p:cNvSpPr/>
          <p:nvPr/>
        </p:nvSpPr>
        <p:spPr>
          <a:xfrm>
            <a:off x="8380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apendo 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714240" y="2397240"/>
            <a:ext cx="84582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 ogni occasione organizzativa gli è richies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trasmettere i valori e la mission dell’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preoccuparsi della crescita e dell’apprendimento dei propri collaboratori in termini di contenuti e di me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captare i segnali inviati dal gruppo o dal sing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non lasciare cadere nessuna sollecitazione rispetto al suo ruolo o al clima organizz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ituazioni organizzative di gestione dei collaborato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92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7F21-58A7-466F-9B1B-1926099C77B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 team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94" name="Segnaposto numero diapositiva 21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5E8F-A067-4970-848B-77E080DC6C9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e 2"/>
          <p:cNvSpPr/>
          <p:nvPr/>
        </p:nvSpPr>
        <p:spPr>
          <a:xfrm>
            <a:off x="660240" y="3865680"/>
            <a:ext cx="4710240" cy="236196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riangolo isoscele 3"/>
          <p:cNvSpPr/>
          <p:nvPr/>
        </p:nvSpPr>
        <p:spPr>
          <a:xfrm>
            <a:off x="1157400" y="1111320"/>
            <a:ext cx="3681360" cy="2419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07f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onnettore 1 5"/>
          <p:cNvSpPr/>
          <p:nvPr/>
        </p:nvSpPr>
        <p:spPr>
          <a:xfrm flipH="1">
            <a:off x="2082960" y="1110600"/>
            <a:ext cx="91440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onnettore 1 7"/>
          <p:cNvSpPr/>
          <p:nvPr/>
        </p:nvSpPr>
        <p:spPr>
          <a:xfrm>
            <a:off x="2997360" y="1111320"/>
            <a:ext cx="40608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onnettore 1 8"/>
          <p:cNvSpPr/>
          <p:nvPr/>
        </p:nvSpPr>
        <p:spPr>
          <a:xfrm flipH="1">
            <a:off x="2743200" y="1110600"/>
            <a:ext cx="25416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onnettore 1 9"/>
          <p:cNvSpPr/>
          <p:nvPr/>
        </p:nvSpPr>
        <p:spPr>
          <a:xfrm>
            <a:off x="2996640" y="1111320"/>
            <a:ext cx="1076040" cy="24192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onnettore 1 18"/>
          <p:cNvSpPr/>
          <p:nvPr/>
        </p:nvSpPr>
        <p:spPr>
          <a:xfrm flipH="1">
            <a:off x="1349280" y="4210920"/>
            <a:ext cx="3330720" cy="16700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onnettore 1 20"/>
          <p:cNvSpPr/>
          <p:nvPr/>
        </p:nvSpPr>
        <p:spPr>
          <a:xfrm>
            <a:off x="1349280" y="4211640"/>
            <a:ext cx="4021200" cy="8352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onnettore 1 22"/>
          <p:cNvSpPr/>
          <p:nvPr/>
        </p:nvSpPr>
        <p:spPr>
          <a:xfrm>
            <a:off x="660240" y="5046840"/>
            <a:ext cx="2354400" cy="11808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nettore 1 24"/>
          <p:cNvSpPr/>
          <p:nvPr/>
        </p:nvSpPr>
        <p:spPr>
          <a:xfrm flipH="1" flipV="1">
            <a:off x="1349280" y="4211640"/>
            <a:ext cx="1665360" cy="2016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onnettore 1 28"/>
          <p:cNvSpPr/>
          <p:nvPr/>
        </p:nvSpPr>
        <p:spPr>
          <a:xfrm flipH="1" flipV="1">
            <a:off x="660240" y="5046480"/>
            <a:ext cx="4019760" cy="8348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e 29"/>
          <p:cNvSpPr/>
          <p:nvPr/>
        </p:nvSpPr>
        <p:spPr>
          <a:xfrm>
            <a:off x="2951280" y="3808440"/>
            <a:ext cx="115920" cy="138240"/>
          </a:xfrm>
          <a:prstGeom prst="ellipse">
            <a:avLst/>
          </a:prstGeom>
          <a:solidFill>
            <a:srgbClr val="b45f07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8600" bIns="48600" anchor="t">
            <a:noAutofit/>
          </a:bodyPr>
          <a:p>
            <a:pPr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Connettore 1 31"/>
          <p:cNvSpPr/>
          <p:nvPr/>
        </p:nvSpPr>
        <p:spPr>
          <a:xfrm>
            <a:off x="4680000" y="4213080"/>
            <a:ext cx="1440" cy="16686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onnettore 1 33"/>
          <p:cNvSpPr/>
          <p:nvPr/>
        </p:nvSpPr>
        <p:spPr>
          <a:xfrm flipH="1">
            <a:off x="3014640" y="5046840"/>
            <a:ext cx="2355840" cy="11808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onnettore 1 35"/>
          <p:cNvSpPr/>
          <p:nvPr/>
        </p:nvSpPr>
        <p:spPr>
          <a:xfrm>
            <a:off x="1349280" y="4211640"/>
            <a:ext cx="3330720" cy="16700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onnettore 1 37"/>
          <p:cNvSpPr/>
          <p:nvPr/>
        </p:nvSpPr>
        <p:spPr>
          <a:xfrm flipH="1">
            <a:off x="660240" y="4211640"/>
            <a:ext cx="4019760" cy="8352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sellaDiTesto 38"/>
          <p:cNvSpPr/>
          <p:nvPr/>
        </p:nvSpPr>
        <p:spPr>
          <a:xfrm>
            <a:off x="5532480" y="1655640"/>
            <a:ext cx="410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Far lavorare i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Valorizzare i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tegrare i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gevolare il lavoro de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rco 43"/>
          <p:cNvSpPr/>
          <p:nvPr/>
        </p:nvSpPr>
        <p:spPr>
          <a:xfrm>
            <a:off x="1724040" y="3727440"/>
            <a:ext cx="2616120" cy="1030320"/>
          </a:xfrm>
          <a:custGeom>
            <a:avLst/>
            <a:gdLst/>
            <a:ahLst/>
            <a:rect l="l" t="t" r="r" b="b"/>
            <a:pathLst>
              <a:path stroke="0" w="2616200" h="1030288">
                <a:moveTo>
                  <a:pt x="1308100" y="0"/>
                </a:moveTo>
                <a:cubicBezTo>
                  <a:pt x="1664125" y="0"/>
                  <a:pt x="2004769" y="57148"/>
                  <a:pt x="2251420" y="158256"/>
                </a:cubicBezTo>
                <a:lnTo>
                  <a:pt x="1308100" y="515144"/>
                </a:lnTo>
                <a:lnTo>
                  <a:pt x="1308100" y="0"/>
                </a:lnTo>
                <a:close/>
              </a:path>
              <a:path fill="none" w="2616200" h="1030288">
                <a:moveTo>
                  <a:pt x="1308100" y="0"/>
                </a:moveTo>
                <a:cubicBezTo>
                  <a:pt x="1664125" y="0"/>
                  <a:pt x="2004769" y="57148"/>
                  <a:pt x="2251420" y="158256"/>
                </a:cubicBezTo>
              </a:path>
            </a:pathLst>
          </a:custGeom>
          <a:noFill/>
          <a:ln w="28440">
            <a:solidFill>
              <a:srgbClr val="f07f0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Arco 44" descr=""/>
          <p:cNvPicPr/>
          <p:nvPr/>
        </p:nvPicPr>
        <p:blipFill>
          <a:blip r:embed="rId1"/>
          <a:stretch/>
        </p:blipFill>
        <p:spPr>
          <a:xfrm>
            <a:off x="2000160" y="3676680"/>
            <a:ext cx="998640" cy="31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3"/>
          <p:cNvSpPr/>
          <p:nvPr/>
        </p:nvSpPr>
        <p:spPr>
          <a:xfrm>
            <a:off x="762120" y="1835280"/>
            <a:ext cx="845820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Aft>
                <a:spcPts val="2401"/>
              </a:spcAft>
              <a:buClr>
                <a:srgbClr val="1b587c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persona che non riesce ad inserirsi positivamente tra i colle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Aft>
                <a:spcPts val="2401"/>
              </a:spcAft>
              <a:buClr>
                <a:srgbClr val="1b587c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persona che non raggiunge i livelli di prestazione richiesti dal Responsab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Aft>
                <a:spcPts val="2401"/>
              </a:spcAft>
              <a:buClr>
                <a:srgbClr val="1b587c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persona che non è d’accordo con il Respons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Aft>
                <a:spcPts val="2401"/>
              </a:spcAft>
              <a:buClr>
                <a:srgbClr val="1b587c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persona antip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Aft>
                <a:spcPts val="2401"/>
              </a:spcAft>
              <a:buClr>
                <a:srgbClr val="1b587c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persona fortemente sindacalizz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hi è il dipendente difficile?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1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C10C-4C85-4171-BDC7-6000E98B2BC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488880" y="3279600"/>
            <a:ext cx="51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…</a:t>
            </a: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in relazione con altri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35040" y="4800600"/>
            <a:ext cx="46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...per raggiungere un obiet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285920" y="1679400"/>
            <a:ext cx="29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b587c"/>
                </a:solidFill>
                <a:latin typeface="Arial"/>
              </a:rPr>
              <a:t>S’interpreta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Object 5" descr=""/>
          <p:cNvPicPr/>
          <p:nvPr/>
        </p:nvPicPr>
        <p:blipFill>
          <a:blip r:embed="rId1"/>
          <a:stretch/>
        </p:blipFill>
        <p:spPr>
          <a:xfrm>
            <a:off x="5479920" y="1198440"/>
            <a:ext cx="4046760" cy="24591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5791320" y="3886200"/>
            <a:ext cx="3809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li obiettivi di ciascuno sono lo strumento per trasformare in realtà la missione dell’organizz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uol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02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5071-16E1-442C-92D9-A0E36BD5DFE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Object 3" descr=""/>
          <p:cNvPicPr/>
          <p:nvPr/>
        </p:nvPicPr>
        <p:blipFill>
          <a:blip r:embed="rId1"/>
          <a:stretch/>
        </p:blipFill>
        <p:spPr>
          <a:xfrm>
            <a:off x="4562640" y="2781360"/>
            <a:ext cx="1604880" cy="157644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4"/>
          <p:cNvSpPr/>
          <p:nvPr/>
        </p:nvSpPr>
        <p:spPr>
          <a:xfrm>
            <a:off x="1081080" y="14320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MINUZIONE DEL REND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6524640" y="142884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CARSA QUALITA’ DEL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7223040" y="2143080"/>
            <a:ext cx="23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CADENZE NON RISPET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7315200" y="299736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CARSO SPIRITO D’INIZI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"/>
          <p:cNvSpPr/>
          <p:nvPr/>
        </p:nvSpPr>
        <p:spPr>
          <a:xfrm>
            <a:off x="7147080" y="383544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FUGA DAI COMPITI PIU’ DIFFIC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4394160" y="5584680"/>
            <a:ext cx="184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UMENTO DI LAMEN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0"/>
          <p:cNvSpPr/>
          <p:nvPr/>
        </p:nvSpPr>
        <p:spPr>
          <a:xfrm>
            <a:off x="952560" y="40006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ENO INTERAZIONE CON I COLLEG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1"/>
          <p:cNvSpPr/>
          <p:nvPr/>
        </p:nvSpPr>
        <p:spPr>
          <a:xfrm>
            <a:off x="738360" y="31845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ANCATO RISPETTO DELLE DIRET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"/>
          <p:cNvSpPr/>
          <p:nvPr/>
        </p:nvSpPr>
        <p:spPr>
          <a:xfrm>
            <a:off x="760320" y="227016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TTEGGIAMENTO IRRITABILE E DIFEN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3"/>
          <p:cNvSpPr/>
          <p:nvPr/>
        </p:nvSpPr>
        <p:spPr>
          <a:xfrm>
            <a:off x="6431040" y="5359320"/>
            <a:ext cx="271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CARSA COLLABORATIV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4038480" y="91440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TTRIBUZIONE DI RESPONSABILITA’ AI COLLEG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6918480" y="4597560"/>
            <a:ext cx="23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TROVABILE QUANDO S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1332000" y="4786200"/>
            <a:ext cx="28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FEEDBACK NEGATIVI IN A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7"/>
          <p:cNvSpPr/>
          <p:nvPr/>
        </p:nvSpPr>
        <p:spPr>
          <a:xfrm>
            <a:off x="2077560" y="55720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ENTE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sintomi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33" name="Segnaposto numero diapositiva 1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54E6-177A-4ECD-9378-74BFD9E0B69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3"/>
          <p:cNvSpPr/>
          <p:nvPr/>
        </p:nvSpPr>
        <p:spPr>
          <a:xfrm>
            <a:off x="685800" y="1000080"/>
            <a:ext cx="8458200" cy="52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3900"/>
              </a:spcBef>
              <a:buClr>
                <a:srgbClr val="1b587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DOTTARE MISURE CORRETTIVE E NON PUNITIVE (quali sono gli obiettivi del Responsabil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3900"/>
              </a:spcBef>
              <a:buClr>
                <a:srgbClr val="1b587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RASFORMARE OGNI EVENTO ORGANIZZATIVO IN OCCASIONE D’APPRENDIMENTO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(coaching e counseling per i propri collaborato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3900"/>
              </a:spcBef>
              <a:buClr>
                <a:srgbClr val="1b587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SSERE RISOLUTI (non ritardare l’intervento), GIUSTI (né lassismo, né accanimento), SINCERAMENTE INTERESSATI (il vostro collaboratore è una per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3900"/>
              </a:spcBef>
              <a:buClr>
                <a:srgbClr val="1b587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ROGARE UN PROVVEDIMENTO DISCIPLINARE SOLO SE TUTTO QUESTO NON FUNZI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lcuni principi fondamental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3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0038-A46F-42F6-8E84-6B5EB02BF1B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55280" y="2739960"/>
            <a:ext cx="8381880" cy="1433520"/>
          </a:xfrm>
          <a:prstGeom prst="rect">
            <a:avLst/>
          </a:prstGeom>
          <a:noFill/>
          <a:ln w="9360">
            <a:solidFill>
              <a:srgbClr val="1b587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IL MESTIERE DI CAPO E LA GESTIONE DEI COLLABORATORI</a:t>
            </a:r>
            <a:endParaRPr b="1" lang="en-US" sz="36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742680" y="4621320"/>
            <a:ext cx="8297640" cy="11779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Indicazioni concrete per i responsabili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Terzo incontro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motiv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40" name="Rettangolo 2"/>
          <p:cNvSpPr/>
          <p:nvPr/>
        </p:nvSpPr>
        <p:spPr>
          <a:xfrm>
            <a:off x="752400" y="1162080"/>
            <a:ext cx="84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vallone definisce la motivazione come un complesso processo di forze che attivano, dirigono e sostengono il comportamento e la motivazione al lavoro come l'insieme delle variabili in grado di dar conto del dispiegamento delle energie psicofisiche nell'attività professionale e dell'intensità e persistenza di questo invest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"/>
          <p:cNvSpPr/>
          <p:nvPr/>
        </p:nvSpPr>
        <p:spPr>
          <a:xfrm>
            <a:off x="776160" y="5639400"/>
            <a:ext cx="8356680" cy="31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VALLONE F. (1994) "Psicologia del lavoro", La Nuova Italia Scientif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685F-18B2-44F9-9B40-6A876B7F790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motivazione (segue)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44" name="Rettangolo 2"/>
          <p:cNvSpPr/>
          <p:nvPr/>
        </p:nvSpPr>
        <p:spPr>
          <a:xfrm>
            <a:off x="752400" y="1162080"/>
            <a:ext cx="84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e si nota, la motiv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intrinseca alla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determinabile dall’es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uò essere aumentata dal contesto organizz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uò, allo stesso modo, essere depr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F5B3-47CD-4241-8F3E-4CA1A791154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Fattori motivanti e fattori igienic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4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C4A3-9FA6-4EE0-ACB6-62F2E87A571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Object 2"/>
          <p:cNvGraphicFramePr/>
          <p:nvPr/>
        </p:nvGraphicFramePr>
        <p:xfrm>
          <a:off x="2103480" y="669960"/>
          <a:ext cx="6276960" cy="57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3480" y="669960"/>
                    <a:ext cx="627696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teorie della motiv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833400" y="1219320"/>
          <a:ext cx="8542440" cy="4570200"/>
        </p:xfrm>
        <a:graphic>
          <a:graphicData uri="http://schemas.openxmlformats.org/drawingml/2006/table">
            <a:tbl>
              <a:tblPr/>
              <a:tblGrid>
                <a:gridCol w="3508560"/>
                <a:gridCol w="2314440"/>
                <a:gridCol w="2719440"/>
              </a:tblGrid>
              <a:tr h="21744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MAS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HERZBE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52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AUTO- REALIZZAZIONE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COMPLET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FATTORI MOTIVAZION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IL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REALIZZ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OPPORTUNITA' DI SVILUP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RESPONSABILIT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TIMA E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PROMOZIO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RICONOSCI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ENSO DI APPARTENENZA E ATTIVITA' SOCI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FATT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IGIEN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RAPPORTI INTERPERSON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UPERVIS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COLLEG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DIPEND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 rowSpan="3"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OPRAVVIVENZA E SICUREZ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UPERVISIONE TEC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POLITICA E GESTIONE AZIEN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ICUREZZA SUL POSTO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BISOGNI FISIOLOG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CONDIZIONI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RETRIBU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ISTEMA DI VITA PERSON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382E-3896-4F64-AC80-C6FDDEF45E8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e rela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54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468B-B870-478C-B43B-BB2C276381E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CasellaDiTesto 3"/>
          <p:cNvSpPr/>
          <p:nvPr/>
        </p:nvSpPr>
        <p:spPr>
          <a:xfrm>
            <a:off x="7014960" y="1122480"/>
            <a:ext cx="2492640" cy="1372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Parlate e ascol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Rispe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Clima positivo in Azien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Tenere al corr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CasellaDiTesto 4"/>
          <p:cNvSpPr/>
          <p:nvPr/>
        </p:nvSpPr>
        <p:spPr>
          <a:xfrm>
            <a:off x="714960" y="2214720"/>
            <a:ext cx="316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PARLATE E ASCOL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CasellaDiTesto 5"/>
          <p:cNvSpPr/>
          <p:nvPr/>
        </p:nvSpPr>
        <p:spPr>
          <a:xfrm>
            <a:off x="1305000" y="2722680"/>
            <a:ext cx="36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HIEDETE COSA VOGLI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MPARATE A CONOSCER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CasellaDiTesto 6"/>
          <p:cNvSpPr/>
          <p:nvPr/>
        </p:nvSpPr>
        <p:spPr>
          <a:xfrm>
            <a:off x="756720" y="3927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RISP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CasellaDiTesto 7"/>
          <p:cNvSpPr/>
          <p:nvPr/>
        </p:nvSpPr>
        <p:spPr>
          <a:xfrm>
            <a:off x="1297800" y="4435560"/>
            <a:ext cx="72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SPETTO SUL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SPETTO PER GLI AMBITI FAMILIARI ED EXTRA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e rela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61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C345-B434-4018-B938-44A2A2DB6A4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asellaDiTesto 3"/>
          <p:cNvSpPr/>
          <p:nvPr/>
        </p:nvSpPr>
        <p:spPr>
          <a:xfrm>
            <a:off x="7014960" y="1122480"/>
            <a:ext cx="2492640" cy="1372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Parlate e ascol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Rispe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Clima positivo in Azien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Tenere al corr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CasellaDiTesto 4"/>
          <p:cNvSpPr/>
          <p:nvPr/>
        </p:nvSpPr>
        <p:spPr>
          <a:xfrm>
            <a:off x="785880" y="2338560"/>
            <a:ext cx="43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MANTENERE UN CLIMA POS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CasellaDiTesto 5"/>
          <p:cNvSpPr/>
          <p:nvPr/>
        </p:nvSpPr>
        <p:spPr>
          <a:xfrm>
            <a:off x="990360" y="2859120"/>
            <a:ext cx="802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EFINIRE E ALLINEARE I VAL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STRUIRE UN AMBIENTE PIACEV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INVOLGERE E LEGARE ALL’ORGANIZZAZIONE E A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CasellaDiTesto 6"/>
          <p:cNvSpPr/>
          <p:nvPr/>
        </p:nvSpPr>
        <p:spPr>
          <a:xfrm>
            <a:off x="776520" y="4456080"/>
            <a:ext cx="30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TENERE AL COR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CasellaDiTesto 7"/>
          <p:cNvSpPr/>
          <p:nvPr/>
        </p:nvSpPr>
        <p:spPr>
          <a:xfrm>
            <a:off x="971280" y="4976640"/>
            <a:ext cx="583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FORMARE CIRCA I RISULTATI E I PROG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FORMARE CIRCA LE DECISIONI PR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a crescita profess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68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F33C-C789-410C-86BB-C6C69F96AD8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"/>
          <p:cNvSpPr/>
          <p:nvPr/>
        </p:nvSpPr>
        <p:spPr>
          <a:xfrm>
            <a:off x="6457680" y="1203480"/>
            <a:ext cx="2683080" cy="1372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Assistere e consigli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Dare opportunità di cresc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Concedere autonom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Arricchire le mans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CasellaDiTesto 3"/>
          <p:cNvSpPr/>
          <p:nvPr/>
        </p:nvSpPr>
        <p:spPr>
          <a:xfrm>
            <a:off x="724680" y="2349360"/>
            <a:ext cx="36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ASSISTERE E CONSIGL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CasellaDiTesto 4"/>
          <p:cNvSpPr/>
          <p:nvPr/>
        </p:nvSpPr>
        <p:spPr>
          <a:xfrm>
            <a:off x="908280" y="2859120"/>
            <a:ext cx="597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SSERE D’ESEM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CORAGG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NDURRE ATTRAVERSO L’ORGAN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CasellaDiTesto 5"/>
          <p:cNvSpPr/>
          <p:nvPr/>
        </p:nvSpPr>
        <p:spPr>
          <a:xfrm>
            <a:off x="694800" y="4376880"/>
            <a:ext cx="45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DARE OPPORTUNITA’ DI CRESC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CasellaDiTesto 6"/>
          <p:cNvSpPr/>
          <p:nvPr/>
        </p:nvSpPr>
        <p:spPr>
          <a:xfrm>
            <a:off x="920880" y="4886280"/>
            <a:ext cx="738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DIRIZZARE LA CARRIERA IN VERTI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RE E SPIEGARE LA MOBILITA’ INTERFUN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REARE E OFFRIRE OPPORTUNITA’ DI SVIL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Oval 2"/>
          <p:cNvSpPr/>
          <p:nvPr/>
        </p:nvSpPr>
        <p:spPr>
          <a:xfrm>
            <a:off x="6400800" y="1449000"/>
            <a:ext cx="3200400" cy="142632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Quali sono le fasi del processo produttiv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"/>
          <p:cNvSpPr/>
          <p:nvPr/>
        </p:nvSpPr>
        <p:spPr>
          <a:xfrm>
            <a:off x="3681360" y="900000"/>
            <a:ext cx="3090960" cy="9954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Di chi è la responsabilit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6200640" y="4286160"/>
            <a:ext cx="3276720" cy="9954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Cosa succede se lavoro be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6381720" y="3200400"/>
            <a:ext cx="3371760" cy="9954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Cosa vi aspettate da 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2692440" y="4872600"/>
            <a:ext cx="4282920" cy="142632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Ho tutte le informazioni che mi servono, quando mi servo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685800" y="909720"/>
            <a:ext cx="2819520" cy="106668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Chi fa che cos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Object 8" descr=""/>
          <p:cNvPicPr/>
          <p:nvPr/>
        </p:nvPicPr>
        <p:blipFill>
          <a:blip r:embed="rId1"/>
          <a:stretch/>
        </p:blipFill>
        <p:spPr>
          <a:xfrm>
            <a:off x="4524480" y="2209680"/>
            <a:ext cx="1116000" cy="2400480"/>
          </a:xfrm>
          <a:prstGeom prst="rect">
            <a:avLst/>
          </a:prstGeom>
          <a:ln w="0">
            <a:noFill/>
          </a:ln>
        </p:spPr>
      </p:pic>
      <p:sp>
        <p:nvSpPr>
          <p:cNvPr id="210" name="Oval 9"/>
          <p:cNvSpPr/>
          <p:nvPr/>
        </p:nvSpPr>
        <p:spPr>
          <a:xfrm>
            <a:off x="125280" y="3823920"/>
            <a:ext cx="3589560" cy="142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Abbiamo tutte le conoscenze che occorro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0"/>
          <p:cNvSpPr/>
          <p:nvPr/>
        </p:nvSpPr>
        <p:spPr>
          <a:xfrm>
            <a:off x="326880" y="2251800"/>
            <a:ext cx="3689640" cy="1426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  <a:ea typeface="Arial"/>
              </a:rPr>
              <a:t>Quali sono i livelli qualitativi che devo rispett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87440" y="293760"/>
            <a:ext cx="832464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a finestra sul tema dell’organizz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3" name="Segnaposto numero diapositiva 11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5DD5-83C3-4257-9D63-EB64B8E5677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a crescita profess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5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00AC-4F8E-4875-8B65-6B4B414600C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"/>
          <p:cNvSpPr/>
          <p:nvPr/>
        </p:nvSpPr>
        <p:spPr>
          <a:xfrm>
            <a:off x="6529320" y="1071720"/>
            <a:ext cx="2683080" cy="1372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Assistere e consigli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Dare opportunità di cresc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Concedere autonom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Arricchire le mans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CasellaDiTesto 3"/>
          <p:cNvSpPr/>
          <p:nvPr/>
        </p:nvSpPr>
        <p:spPr>
          <a:xfrm>
            <a:off x="718560" y="234936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CONCEDERE AUTON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CasellaDiTesto 4"/>
          <p:cNvSpPr/>
          <p:nvPr/>
        </p:nvSpPr>
        <p:spPr>
          <a:xfrm>
            <a:off x="929160" y="2859120"/>
            <a:ext cx="865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ELL’ORGANIZZAZIONE DEL PROPRIO LAVORO E DEI PROPRI SP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ELLA MESSA IN DISCUSSIONE DELLE REG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ELLA DEFINIZIONE DEL PROPRIO STILE NEL RU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CasellaDiTesto 5"/>
          <p:cNvSpPr/>
          <p:nvPr/>
        </p:nvSpPr>
        <p:spPr>
          <a:xfrm>
            <a:off x="729720" y="4376880"/>
            <a:ext cx="34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ARRICCHIRE LE MANS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CasellaDiTesto 6"/>
          <p:cNvSpPr/>
          <p:nvPr/>
        </p:nvSpPr>
        <p:spPr>
          <a:xfrm>
            <a:off x="947520" y="4886280"/>
            <a:ext cx="717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A QUANTO TEMPO FA LO STESSO LAVO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 QUALE DIREZIONE POTREBBE ESSERE ARRICCHI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SA GLI PIACEREBBE F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8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140E-FB0B-4E23-A772-B0FB962F427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744480" y="928800"/>
            <a:ext cx="847584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COSA DELEGA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cisioni che prendete con maggior freq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iti tecnico specialis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iti per cui siete meno qualific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unzioni che non vi piacci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iti che procurano esperienza o crescita professionale a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iti che aggiungono varietà alla routine lavo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ività che completerebbero una pos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3"/>
          <p:cNvSpPr/>
          <p:nvPr/>
        </p:nvSpPr>
        <p:spPr>
          <a:xfrm>
            <a:off x="0" y="737244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ei livelli di autorità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86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59A3-7B84-470A-B804-92AD4DF4DAA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457200" y="952560"/>
          <a:ext cx="9067680" cy="5411880"/>
        </p:xfrm>
        <a:graphic>
          <a:graphicData uri="http://schemas.openxmlformats.org/drawingml/2006/table">
            <a:tbl>
              <a:tblPr/>
              <a:tblGrid>
                <a:gridCol w="1154160"/>
                <a:gridCol w="3792600"/>
                <a:gridCol w="4120920"/>
              </a:tblGrid>
              <a:tr h="78876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Livello di autorità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NCAR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MOTIV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Analizza la situazione. Trova tutti i dati possibili e fammi un rapporto. Deciderò io il da fars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Lavoratore inesperto. Il capo vuole mantenere il controllo sui risultat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dentifica il problema. Stabilisci soluzioni alternative con pro e contro e sottoponine una alla mia approvazion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l collaboratore è in fase di sviluppo ed il capo vuole vedere come affronta i problemi e come prende le decision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Esamina i problemi. Fammi sapere cosa intendi fare ma non agire senza avermi consultato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l capo ha fiducia ma non vuole che si agisca senza la sua approvazione. Può dipendere da vincoli aziendali o con partner estern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Risolvi il problema. Fammi sapere come intendi procedere e vai a meno che io non mi opponga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l superiore rispetta l’abilità ed il giudizio del dipendente. Si riserva solo un controllo finale prima delle operazion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Fai qualcosa in proposito ed informami su come è andat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l superiore ha piena fiducia. Desidera solo essere informato degli esit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Agisci. Non hai bisogno di altri contatti con m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Fiducia totale con completa autorità per il collaborato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8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510E-9BB9-41D9-9F70-1D127DC3CB7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595440" y="857160"/>
            <a:ext cx="8366040" cy="56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DALITA’ DI DELE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OQUIO DI DELEGA PER</a:t>
            </a: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arire, mettere in comune obiettivi, autonomie, autorità, controlli, criteri di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ttenere responsabilizzazione e coinvolgimento sugl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VITARE INCARICHI GENER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stringono il collaboratore a chiedere chiarimenti in itin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asciano pericolose zone d’ombra per la fase di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ogiche di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92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39FE-B8D3-4881-A863-B31BF82B357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"/>
          <p:cNvSpPr/>
          <p:nvPr/>
        </p:nvSpPr>
        <p:spPr>
          <a:xfrm>
            <a:off x="750960" y="844560"/>
            <a:ext cx="89154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1b587c"/>
                </a:solidFill>
                <a:latin typeface="Arial"/>
              </a:rPr>
              <a:t>IL TUO TEMPO E’ A MIA DISPOSI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1138320" y="3000240"/>
            <a:ext cx="805644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1b587c"/>
                </a:solidFill>
                <a:latin typeface="Arial"/>
              </a:rPr>
              <a:t>IL TUO TEMPO E’ UNA TUA RISORSA PER IL LAVORO CHE TI HO ASSEGN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806400" y="1706400"/>
            <a:ext cx="8861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VANTAGGI: evito i miei ritardi, posso seguire le mie urg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VANTAGGI: causo perdite di tempo ai miei collabor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663480" y="4294080"/>
            <a:ext cx="8861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VANTAGGI: evito perdite di tempo ai collaboratori, li costringo ad organizzare il loro tempo e a finalizzarne l’utiliz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VANTAGGI: rischio ritardi su urgenze emergenti, ho meno margini di recupero sulle mie effici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9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F929-3D31-4868-A471-342A7AC946C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809640" y="1147680"/>
            <a:ext cx="792468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ENUTI DELLA DELE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SULTATI VOL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ITERI DI MI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SORSE DISPONIBILI E VINC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SCREZIONALITA’, AUTOR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EMPIS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DALITA’ DI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3"/>
          <p:cNvSpPr/>
          <p:nvPr/>
        </p:nvSpPr>
        <p:spPr>
          <a:xfrm>
            <a:off x="880920" y="1162080"/>
            <a:ext cx="77724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applic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iti esecu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caratterizza p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icinanza temporale al momento d’assegnazione del comp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empestività d’intervento del respons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bligo di reportistica immediato da parte del subordinato in caso d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ntrollo o verifica dei risultati?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0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B20C-0DA5-4231-AF40-769B3523296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3"/>
          <p:cNvSpPr/>
          <p:nvPr/>
        </p:nvSpPr>
        <p:spPr>
          <a:xfrm>
            <a:off x="1066680" y="1200240"/>
            <a:ext cx="77724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A VERIFICA DE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applic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 o funzioni dele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caratterizza p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slocazione temporale concordata e distante dal momento d’assegn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spetto del margine di discrezionalità affidato al collaboratore salvo gravi situ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port concordati a scadenza periodica salvo situazioni di cr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ntrollo o verifica dei risultati?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0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3763-9C78-4293-80CB-07560BE35DD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equenze dell’apprendimen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07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EE78-41D9-48E3-91B9-7B225EB4E41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CasellaDiTesto 2"/>
          <p:cNvSpPr/>
          <p:nvPr/>
        </p:nvSpPr>
        <p:spPr>
          <a:xfrm>
            <a:off x="857160" y="1019160"/>
            <a:ext cx="3308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AR 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AR SPERIM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CasellaDiTesto 3"/>
          <p:cNvSpPr/>
          <p:nvPr/>
        </p:nvSpPr>
        <p:spPr>
          <a:xfrm>
            <a:off x="5627520" y="1309680"/>
            <a:ext cx="3759480" cy="4483080"/>
          </a:xfrm>
          <a:prstGeom prst="rect">
            <a:avLst/>
          </a:prstGeom>
          <a:noFill/>
          <a:ln w="9360">
            <a:solidFill>
              <a:srgbClr val="b45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CONDO KOLB ESISTONO 4 STILI DI APPRENDIMENTO CHE SI CARATTERIZZANO PER LA SEQUENZA IN CUI GRADISCONO SIANO DISPOSTE LE FA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55280" y="2739960"/>
            <a:ext cx="8381880" cy="1433520"/>
          </a:xfrm>
          <a:prstGeom prst="rect">
            <a:avLst/>
          </a:prstGeom>
          <a:noFill/>
          <a:ln w="9360">
            <a:solidFill>
              <a:srgbClr val="1b587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IL MESTIERE DI CAPO E LA GESTIONE DEI COLLABORATORI</a:t>
            </a:r>
            <a:endParaRPr b="1" lang="en-US" sz="36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742680" y="4621320"/>
            <a:ext cx="8297640" cy="11779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Indicazioni concrete per i responsabili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Quarto incontro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685800" y="928800"/>
            <a:ext cx="853452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 L’ORGANIZZAZIONE AZIENDALE NON E’ DEFINITA NON POSSO ASPETTARMI CHE LE PERSONE SEGUANO UN COPIONE PRESTABIL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IASCUNO RECITERA’ A SOGGETTO, SECONDO LA PROPRIA SENSIBILITA’ INDIPENDENTEMENTE DALL’EFFICIACIA E DALL’EFFICIENZA DEI COMPORTAMENTI, RISPETTO AL RAGGIUNGIMENTO DEGLI OBIETTI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indi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F584-F4E4-4A5F-A184-FC13507F9FE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a valutazione e al feedback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13" name="Segnaposto numero diapositiva 8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1C2A-F46F-4D0B-AE19-DF340F1F02F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"/>
          <p:cNvSpPr/>
          <p:nvPr/>
        </p:nvSpPr>
        <p:spPr>
          <a:xfrm>
            <a:off x="6696000" y="1203480"/>
            <a:ext cx="3071880" cy="10530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Valutare corrett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Riconoscere i meri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Dare feedback positivi e negativ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CasellaDiTesto 4"/>
          <p:cNvSpPr/>
          <p:nvPr/>
        </p:nvSpPr>
        <p:spPr>
          <a:xfrm>
            <a:off x="911520" y="2068560"/>
            <a:ext cx="38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VALUTARE CORRET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CasellaDiTesto 5"/>
          <p:cNvSpPr/>
          <p:nvPr/>
        </p:nvSpPr>
        <p:spPr>
          <a:xfrm>
            <a:off x="1145880" y="2577960"/>
            <a:ext cx="50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NCENTRARSI SULLA PRES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REDISPORRE STRUMENTI AFFIDA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SSERE EQ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CasellaDiTesto 6"/>
          <p:cNvSpPr/>
          <p:nvPr/>
        </p:nvSpPr>
        <p:spPr>
          <a:xfrm>
            <a:off x="936000" y="409572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RICONOSCERE I MER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CasellaDiTesto 7"/>
          <p:cNvSpPr/>
          <p:nvPr/>
        </p:nvSpPr>
        <p:spPr>
          <a:xfrm>
            <a:off x="1131840" y="4605480"/>
            <a:ext cx="803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E IL DIPENDENTE SE LO ASPETTA NON E’ PIU’ UN COMPEN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 RICONOSCIMENTI DEVONO SODDISFARE I BISOGNI</a:t>
            </a:r>
            <a:br>
              <a:rPr sz="2000"/>
            </a:b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A ANCHE I DESIDERI DEI DIPEN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UMENTARE LE MODALITA’ DI RICONOS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a valutazione e al feedback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2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FF49-52CF-44F0-9FA6-9BAD56AD367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CasellaDiTesto 4"/>
          <p:cNvSpPr/>
          <p:nvPr/>
        </p:nvSpPr>
        <p:spPr>
          <a:xfrm>
            <a:off x="692640" y="10764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1b587c"/>
                </a:solidFill>
                <a:uFillTx/>
                <a:latin typeface="Arial"/>
              </a:rPr>
              <a:t>DARE FEEDBAC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3"/>
          <p:cNvSpPr/>
          <p:nvPr/>
        </p:nvSpPr>
        <p:spPr>
          <a:xfrm>
            <a:off x="465840" y="2286000"/>
            <a:ext cx="89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EEDBACK: informazioni o dati di ritorno forniti dall’altra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896400" y="3809880"/>
            <a:ext cx="80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ITICA: giudizio sfavorevole nei confronti di una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1022760" y="5334120"/>
            <a:ext cx="78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LOGIO: giudizio favorevole nei confronti di una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s’è un feedback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26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6EE4-29E5-4080-AA7D-E8CBBF39D4B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Object 2" descr=""/>
          <p:cNvPicPr/>
          <p:nvPr/>
        </p:nvPicPr>
        <p:blipFill>
          <a:blip r:embed="rId1"/>
          <a:stretch/>
        </p:blipFill>
        <p:spPr>
          <a:xfrm>
            <a:off x="1209600" y="888840"/>
            <a:ext cx="7477200" cy="574056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dentità e lavor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2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46D0-B16A-48BE-B637-412B4E8BC79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3"/>
          <p:cNvSpPr/>
          <p:nvPr/>
        </p:nvSpPr>
        <p:spPr>
          <a:xfrm>
            <a:off x="1402200" y="141120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D.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4"/>
          <p:cNvSpPr/>
          <p:nvPr/>
        </p:nvSpPr>
        <p:spPr>
          <a:xfrm>
            <a:off x="7120080" y="4267080"/>
            <a:ext cx="761760" cy="838440"/>
          </a:xfrm>
          <a:prstGeom prst="downArrow">
            <a:avLst>
              <a:gd name="adj1" fmla="val 50000"/>
              <a:gd name="adj2" fmla="val 275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5885640" y="14112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D. PROFESS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1127160" y="308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749880" y="339264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GNO DELL’OPIN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8"/>
          <p:cNvSpPr/>
          <p:nvPr/>
        </p:nvSpPr>
        <p:spPr>
          <a:xfrm>
            <a:off x="2278080" y="2209680"/>
            <a:ext cx="762120" cy="838440"/>
          </a:xfrm>
          <a:prstGeom prst="downArrow">
            <a:avLst>
              <a:gd name="adj1" fmla="val 50000"/>
              <a:gd name="adj2" fmla="val 27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9"/>
          <p:cNvSpPr/>
          <p:nvPr/>
        </p:nvSpPr>
        <p:spPr>
          <a:xfrm>
            <a:off x="858600" y="548640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CHIAMA IL GIUDI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D IL SENSO DI CO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10"/>
          <p:cNvSpPr/>
          <p:nvPr/>
        </p:nvSpPr>
        <p:spPr>
          <a:xfrm>
            <a:off x="7120080" y="2209680"/>
            <a:ext cx="761760" cy="838440"/>
          </a:xfrm>
          <a:prstGeom prst="downArrow">
            <a:avLst>
              <a:gd name="adj1" fmla="val 50000"/>
              <a:gd name="adj2" fmla="val 275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1"/>
          <p:cNvSpPr/>
          <p:nvPr/>
        </p:nvSpPr>
        <p:spPr>
          <a:xfrm>
            <a:off x="6090120" y="339264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GNO DEI F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2"/>
          <p:cNvSpPr/>
          <p:nvPr/>
        </p:nvSpPr>
        <p:spPr>
          <a:xfrm>
            <a:off x="2278080" y="4267080"/>
            <a:ext cx="762120" cy="838440"/>
          </a:xfrm>
          <a:prstGeom prst="downArrow">
            <a:avLst>
              <a:gd name="adj1" fmla="val 50000"/>
              <a:gd name="adj2" fmla="val 27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3"/>
          <p:cNvSpPr/>
          <p:nvPr/>
        </p:nvSpPr>
        <p:spPr>
          <a:xfrm>
            <a:off x="5318280" y="5486400"/>
            <a:ext cx="43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CHIAMA LA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D IL FEED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dentità personale e identità profess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42" name="Segnaposto numero diapositiva 1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3426-8D3D-4EF8-930B-4A49460FD94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3"/>
          <p:cNvSpPr/>
          <p:nvPr/>
        </p:nvSpPr>
        <p:spPr>
          <a:xfrm>
            <a:off x="528480" y="928800"/>
            <a:ext cx="9068040" cy="53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IATE SPECIFICI  E FOCALIZZATI SULLA PRES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FORNITE FATTI O ESEMPI A SOSTEGNO DELLA VOSTRA T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ESPRIMETE APPREZZAMENTO QUANDO FORNITE UN FEED BACK SULLE SITUAZIONI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MANIFESTATE PREOCCUPAZIONE QUANDO FORNITE FEED BACK SULLE SITUAZIONI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IATE DIRETTI E SINC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FORNITE IL FEED BACK PERSON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FORNITE IL FEED BACK TEMPESTIV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NTERVENITE EQUAMENTE SIA PER I FATTI POSITIVI CHE PER QUELLI NEG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Per fornire un feedback costruttiv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4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188D-AE66-44A9-AAD9-88781357490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3"/>
          <p:cNvSpPr/>
          <p:nvPr/>
        </p:nvSpPr>
        <p:spPr>
          <a:xfrm>
            <a:off x="528480" y="928800"/>
            <a:ext cx="906804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NON SIATE GENERICI MA ANALIZZATE LA SITUAZIONE POSITIVA METTENDONE A FUOCO I COMPORTAMENTI ECCELL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RICONOSCETE LO SFORZO COMPIUTO SE LA SITUAZIONE POSITIVA E’ A VALLE DI UNA CRITICA RICEV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VALORIZZATE E RINFORZATE LE PRESTAZIONI SOPRA LA MEDIA CON GLI STRUMENTI CHE AVETE A DISPOSI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MOTIVATE LA RISORSA A PROSEGUIRE NEGLI SFORZI PROSPETTANDO I POSSIBILI SVILUPPI ORGANIZZ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E CONFERITE UN AUMENTO RETRIBUTIVO O UN PREMIO METTETELO IN RELAZIONE IL PIU’ POSSIBILE AD EVENTI PRECISI E NON AD UN GENERICO MIGLIOR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ando date un feedback positiv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4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7D00-D92E-4ED0-A7D6-0096B2D2C4F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1395360" y="4238640"/>
            <a:ext cx="215892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EN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val 3"/>
          <p:cNvSpPr/>
          <p:nvPr/>
        </p:nvSpPr>
        <p:spPr>
          <a:xfrm>
            <a:off x="6705720" y="2514600"/>
            <a:ext cx="2536560" cy="260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4"/>
          <p:cNvSpPr/>
          <p:nvPr/>
        </p:nvSpPr>
        <p:spPr>
          <a:xfrm>
            <a:off x="822240" y="1000080"/>
            <a:ext cx="3305160" cy="2048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OQU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"/>
          <p:cNvSpPr/>
          <p:nvPr/>
        </p:nvSpPr>
        <p:spPr>
          <a:xfrm flipV="1">
            <a:off x="4114800" y="4495320"/>
            <a:ext cx="23623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"/>
          <p:cNvSpPr/>
          <p:nvPr/>
        </p:nvSpPr>
        <p:spPr>
          <a:xfrm>
            <a:off x="4495680" y="2209680"/>
            <a:ext cx="205740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7"/>
          <p:cNvSpPr/>
          <p:nvPr/>
        </p:nvSpPr>
        <p:spPr>
          <a:xfrm>
            <a:off x="2400480" y="3286080"/>
            <a:ext cx="0" cy="704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municare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56" name="Segnaposto numero diapositiva 8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8F94-B177-4DC7-A670-7167A982749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624960" y="1182600"/>
            <a:ext cx="1145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609480" y="2021040"/>
            <a:ext cx="868680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spcBef>
                <a:spcPts val="2401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RGANIZZATE LA DOCUMENTAZIONE PERTINENTE DA MOSTRARE AL COLLAB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401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ISSATE DATA E ORA DELLA RIUNIONE MANTENENDO LA RISERVATEZZA CON ALTRI NON INTERESS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401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ULTATE IN ANTICIPO ALTRE PARTI IN CAUSA A SECONDA DELLA VOSTRA REALTA’ AZIEND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401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ERCATE DI PREVEDERE LE POSSIBILI REAZIONI DEL DIPENDENTE E LE CRITICITA’ INSITE NEL COLLOQU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l cop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60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7AFE-55B5-4775-8867-4B02E9C3A85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1074240" y="1166760"/>
            <a:ext cx="78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MAPPA PER GESTIRE LE SITUAZIONI CRI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3"/>
          <p:cNvSpPr/>
          <p:nvPr/>
        </p:nvSpPr>
        <p:spPr>
          <a:xfrm>
            <a:off x="952560" y="2243160"/>
            <a:ext cx="3200400" cy="182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SCORD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’OPIN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4"/>
          <p:cNvSpPr/>
          <p:nvPr/>
        </p:nvSpPr>
        <p:spPr>
          <a:xfrm>
            <a:off x="914400" y="4343400"/>
            <a:ext cx="3200400" cy="182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APP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FLIT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5"/>
          <p:cNvSpPr/>
          <p:nvPr/>
        </p:nvSpPr>
        <p:spPr>
          <a:xfrm>
            <a:off x="6019920" y="2243160"/>
            <a:ext cx="3200400" cy="182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ASSIVITA’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AB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6"/>
          <p:cNvSpPr/>
          <p:nvPr/>
        </p:nvSpPr>
        <p:spPr>
          <a:xfrm>
            <a:off x="6019920" y="4343400"/>
            <a:ext cx="3200400" cy="182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COER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stru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67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6FD7-6BF2-4911-8437-B5F18F59D23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Esercitazione: l’uso del tem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741240" y="868320"/>
          <a:ext cx="8379000" cy="55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240" y="868320"/>
                    <a:ext cx="8379000" cy="55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DDD2-434C-4821-9DE5-E30FBF1A590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Oval 3"/>
          <p:cNvSpPr/>
          <p:nvPr/>
        </p:nvSpPr>
        <p:spPr>
          <a:xfrm>
            <a:off x="304920" y="1409760"/>
            <a:ext cx="2743200" cy="13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SCORD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’OPIN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3676680" y="1019160"/>
            <a:ext cx="6019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VVERTENZ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MOSTRARE INTERESSE PER L’OPINIONE DEL COLLABORATORE E DISPONIBILITA’ ALL’ASCO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VIDENZIARE LE AREE DI DISCORD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CERCARNE INSIEME I MOTIVI PORTANDO DATI DI REALTA’, STIMOLANDO LA RICE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OPO IL CONFRONTO CHIARIRE GLI ASPETTI SU CUI SI CONCORDA E QUELLI CHE RIMANGONO DA CHIAR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528480" y="4357800"/>
            <a:ext cx="9068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A EVITAR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RRIGIDIRSI SULLE PROPRIE POSI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MPORRE LA PROPRIA OPINIONE ATTRAVERSO IL 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UMERE ATTEGGIAMENTI ACCUS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UMERE ATTEGGIAMENTI MANIPOLAT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stru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72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DCC8-1265-4471-B310-9537CED8B8D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Oval 3"/>
          <p:cNvSpPr/>
          <p:nvPr/>
        </p:nvSpPr>
        <p:spPr>
          <a:xfrm>
            <a:off x="457200" y="4514760"/>
            <a:ext cx="2514600" cy="182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APP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FLIT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457200" y="1033560"/>
            <a:ext cx="9067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VVERTENZ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MPRENDERNE LE 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IRCOSCRIVERE LA CONFLITTUALITA’ SU TEMI SPECIFICI UTILIZZANDO SIA STRUMENTI PROFESSIONALI CHE GERARCH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VIDENZIARE GLI ASPETTI POSITIVI PRES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RIENTARE IL CONFRONTO SU DATI DI REALTA’, FATTI E COMPORTA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CCOGLIERE, ANCHE SE ENTRO LIMITI DEFINITI, L’AGGRESSIVITA’ ESPR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3267000" y="4403880"/>
            <a:ext cx="6019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A EVITAR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UMERE COMPORTAMENTI SIMMETR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ACCOGLIERE LA SF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LLARGARE I TEMPI DEL CONFLI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UMERE VALUTAZIONI SULL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stru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77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A671-8362-4F2C-95DB-A2D02AF41D7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Oval 3"/>
          <p:cNvSpPr/>
          <p:nvPr/>
        </p:nvSpPr>
        <p:spPr>
          <a:xfrm>
            <a:off x="6781680" y="1428840"/>
            <a:ext cx="2819520" cy="1752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ASSIVITA’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AB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485640" y="1071720"/>
            <a:ext cx="632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VVERTENZ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HIEDERE DATI, INFORMAZIONI, OPIN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TIMOLARE CON DOM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VIDENZIARE LA DIFFICOLTA’ DI OFFRIRE UN FEED BACK DI SUPPORTO SE MANCA LO S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VIDENZIARE LE OPPOERTUNITA’ OFFERTE DAL COLLOQUIO E DAL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523800" y="407196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A EVITAR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BANALIZZARE LA SITUAZIONE CHIUDENDO IL COLLOQUIO SENZA AFFRONTARE LA QUEST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UMERE ATTEGGIAMENTI ESORTATIVI O DI COLPEVOL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TRASFORMARE IL COLLOQUIO IN UN MONO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stru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82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CCB6-60D8-4301-9D7B-F9D275E8838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Oval 3"/>
          <p:cNvSpPr/>
          <p:nvPr/>
        </p:nvSpPr>
        <p:spPr>
          <a:xfrm>
            <a:off x="1417680" y="1171440"/>
            <a:ext cx="2666880" cy="13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COER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5881680" y="1171440"/>
            <a:ext cx="28954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89808" dir="483908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ITICITA’ 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APO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AB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659880" y="2892600"/>
            <a:ext cx="434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O PUN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(del valutat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1112040" y="3929040"/>
            <a:ext cx="346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RODIP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(del valuta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508320" y="5415120"/>
            <a:ext cx="465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O COLLU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(di entram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8"/>
          <p:cNvSpPr/>
          <p:nvPr/>
        </p:nvSpPr>
        <p:spPr>
          <a:xfrm>
            <a:off x="5181480" y="2876400"/>
            <a:ext cx="76320" cy="3657600"/>
          </a:xfrm>
          <a:custGeom>
            <a:avLst/>
            <a:gdLst>
              <a:gd name="textAreaLeft" fmla="*/ 48960 w 76320"/>
              <a:gd name="textAreaRight" fmla="*/ 76320 w 763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9"/>
          <p:cNvSpPr/>
          <p:nvPr/>
        </p:nvSpPr>
        <p:spPr>
          <a:xfrm>
            <a:off x="5879160" y="2800440"/>
            <a:ext cx="31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bloccare lo s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hiudere la rel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emotivare il collabora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0"/>
          <p:cNvSpPr/>
          <p:nvPr/>
        </p:nvSpPr>
        <p:spPr>
          <a:xfrm>
            <a:off x="5568840" y="3867120"/>
            <a:ext cx="397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ntrapposizione fro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corso al 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sposta sul piano pers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llargamento del confli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1"/>
          <p:cNvSpPr/>
          <p:nvPr/>
        </p:nvSpPr>
        <p:spPr>
          <a:xfrm>
            <a:off x="5383080" y="5322960"/>
            <a:ext cx="40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liminare dati non conferm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egare il proprio ru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untare sulla relazione affe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stru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93" name="Segnaposto numero diapositiva 11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CBF2-B236-459C-85BC-B99179261F4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Object 3" descr=""/>
          <p:cNvPicPr/>
          <p:nvPr/>
        </p:nvPicPr>
        <p:blipFill>
          <a:blip r:embed="rId1"/>
          <a:stretch/>
        </p:blipFill>
        <p:spPr>
          <a:xfrm>
            <a:off x="3997440" y="2554200"/>
            <a:ext cx="1882800" cy="1758960"/>
          </a:xfrm>
          <a:prstGeom prst="rect">
            <a:avLst/>
          </a:prstGeom>
          <a:ln w="0">
            <a:noFill/>
          </a:ln>
        </p:spPr>
      </p:pic>
      <p:sp>
        <p:nvSpPr>
          <p:cNvPr id="695" name="Oval 4"/>
          <p:cNvSpPr/>
          <p:nvPr/>
        </p:nvSpPr>
        <p:spPr>
          <a:xfrm>
            <a:off x="3746520" y="865080"/>
            <a:ext cx="2184480" cy="1179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l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6"/>
          <p:cNvSpPr/>
          <p:nvPr/>
        </p:nvSpPr>
        <p:spPr>
          <a:xfrm>
            <a:off x="3529080" y="4809960"/>
            <a:ext cx="2624040" cy="1417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utazione delle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es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7"/>
          <p:cNvSpPr/>
          <p:nvPr/>
        </p:nvSpPr>
        <p:spPr>
          <a:xfrm>
            <a:off x="6262560" y="4770360"/>
            <a:ext cx="2590920" cy="1408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segnamento/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ddest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8"/>
          <p:cNvSpPr/>
          <p:nvPr/>
        </p:nvSpPr>
        <p:spPr>
          <a:xfrm>
            <a:off x="6089760" y="800280"/>
            <a:ext cx="2392200" cy="1179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itica costrut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9"/>
          <p:cNvSpPr/>
          <p:nvPr/>
        </p:nvSpPr>
        <p:spPr>
          <a:xfrm>
            <a:off x="7394400" y="2023920"/>
            <a:ext cx="2184480" cy="1179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lo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10"/>
          <p:cNvSpPr/>
          <p:nvPr/>
        </p:nvSpPr>
        <p:spPr>
          <a:xfrm>
            <a:off x="243000" y="1330200"/>
            <a:ext cx="3429000" cy="1371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rganizzazione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11"/>
          <p:cNvSpPr/>
          <p:nvPr/>
        </p:nvSpPr>
        <p:spPr>
          <a:xfrm>
            <a:off x="6632640" y="3252960"/>
            <a:ext cx="3149640" cy="1371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tivazione/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involg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iassumendo 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03" name="Oval 4"/>
          <p:cNvSpPr/>
          <p:nvPr/>
        </p:nvSpPr>
        <p:spPr>
          <a:xfrm>
            <a:off x="378000" y="2986200"/>
            <a:ext cx="2568240" cy="1387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unicazione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ffic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6"/>
          <p:cNvSpPr/>
          <p:nvPr/>
        </p:nvSpPr>
        <p:spPr>
          <a:xfrm>
            <a:off x="800280" y="4557600"/>
            <a:ext cx="2624040" cy="1417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 delle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com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egnaposto numero diapositiva 1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3A4A-261B-4BB5-8FAE-F6A3A0F3681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3"/>
          <p:cNvSpPr/>
          <p:nvPr/>
        </p:nvSpPr>
        <p:spPr>
          <a:xfrm>
            <a:off x="974880" y="1419120"/>
            <a:ext cx="794052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in grado di assumere decisioni anche diffic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vverte la necessità di motivarle al suo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imola il gruppo a prendere decisioni collet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acilita il lavoro del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sente il dovere di trovare in prima persona la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oluzione a tutti 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osce l’importanza di deleg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esponsabile deciso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0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BB88-769D-47A3-B485-0450583268A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3"/>
          <p:cNvSpPr/>
          <p:nvPr/>
        </p:nvSpPr>
        <p:spPr>
          <a:xfrm>
            <a:off x="838080" y="1447920"/>
            <a:ext cx="824544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Consapevole di essere un punto di riferimento per i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uo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rasmette in ogni circostanza i Valori dell’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coordina con le altre figure chiave dell’organizzazione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er mantenere la coerenza con quei Va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lle fasi di cambiamento stimola i collaboratori a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flettere sulle nuove sfide e sulle scelte compi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mai acritico ma è fedele alla linea stabilita dal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ertice dell’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esponsabile diffuso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1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5AFC-DAD4-43C6-B372-A20CAE0BDE0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3"/>
          <p:cNvSpPr/>
          <p:nvPr/>
        </p:nvSpPr>
        <p:spPr>
          <a:xfrm>
            <a:off x="838080" y="1447920"/>
            <a:ext cx="824544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autorevole presso i suo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a gestire i conflitti tra e con 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glie i “segnali debol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dica tempo a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a erogare premi e punizioni utilizzando criteri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raspar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Ha chiaro cosa si aspetta dai suoi collaboratori ed è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apace di comunicarlo in modo effic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esponsabile gesto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14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07C7-F765-430C-BB87-94882B495B9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3"/>
          <p:cNvSpPr/>
          <p:nvPr/>
        </p:nvSpPr>
        <p:spPr>
          <a:xfrm>
            <a:off x="838080" y="1447920"/>
            <a:ext cx="82454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a insegnare ai propri collaboratori e pensa sia suo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overe fa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in grado di fornire feedback costruttivi sia positivi che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g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a essere mentore e consigliere dei propri collaboratori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tivamente al percorso di carr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uta i propri collaboratori sforzandosi di restare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ncorato ai fatti e non alle sens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osce i pericoli insiti nel non valutare e nel valutare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orret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esponsabile coach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1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49A4-0576-47A0-B783-F600BFAD98B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400320" y="1030320"/>
            <a:ext cx="906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ACCIA UN ELENCO DELLE ATTIVITA’ CHE PUO’/POTREBBE 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VOLGERE SOLO LEI ALL’INTERNO DELLA SUA AZIENDA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DICANDO QUANTO TEMPO RIESCE A DEDICAR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98400" y="2554200"/>
            <a:ext cx="611208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IV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7086600" y="2554200"/>
            <a:ext cx="228600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Esercitazione: attività non delegabil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25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2AF8-5A62-4181-92C6-557DB6F1CC6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6:34:11Z</dcterms:created>
  <dc:creator>Gianmarco Falzi</dc:creator>
  <dc:description/>
  <dc:language>en-US</dc:language>
  <cp:lastModifiedBy>Gianmarco Falzi</cp:lastModifiedBy>
  <dcterms:modified xsi:type="dcterms:W3CDTF">2013-10-07T15:24:41Z</dcterms:modified>
  <cp:revision>93</cp:revision>
  <dc:subject/>
  <dc:title>Diapositiva 1</dc:title>
</cp:coreProperties>
</file>