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wmf" ContentType="image/x-wmf"/>
  <Override PartName="/ppt/media/image14.wmf" ContentType="image/x-wmf"/>
  <Override PartName="/ppt/media/image9.wmf" ContentType="image/x-wmf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8.wmf" ContentType="image/x-wmf"/>
  <Override PartName="/ppt/media/image13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move the slid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7B29-F190-4939-A0A4-3B66210CED0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1708-238C-46E6-AC8D-73B3D77399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D388-A777-49E8-B9D1-629E1369B9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2F4B-3FEA-40F1-ADE8-8144500365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5122-ED4A-4822-8FB7-31BD805CAF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359A-AF43-40F7-932C-CCA79421C1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4974-E684-48C5-B11A-854AF1051A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F171-1055-4583-8D06-41102040FF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E6FB-DABE-44A1-831B-A411261DCE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94B8-C361-48A5-A3EB-5AF9BEB254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FD12-523C-446F-B439-249A7607EF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9C3E-5CC4-4D17-9FAE-208661E271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D83F-9DF8-47FD-91B8-2AB65F435B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1742-B81F-4A4E-9673-5C1644D473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09E9-5571-41BD-957C-8212F60EC07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5911-B1B6-41EC-9C7A-83D4C4F23D0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46D0-0FF1-431E-8894-B91CAE5C519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3463-723A-43F1-853E-717EC947179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9595-41FF-45A3-95F9-EEA0CFD317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2123-CA4E-4F84-A020-1641B70C39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77FE-B698-403D-9752-DD53ACA020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60AF-D8F1-438F-85E0-FA8B87CEF0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34E5-81B1-43E6-B797-6437C58481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D04C-CE4E-45EC-B6B4-5058286FF12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7AEE-E4DA-4E74-8A2F-129B70CE40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45B3-D750-44D2-A1F5-0207F56F89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5937-5CED-42AC-B2BB-047EC70D9E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09F4-B815-4FBC-B65A-BCBADE841E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BBC7-0CF7-4D6B-B694-4B73D1462B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AF0C-DC96-4E2F-916F-CC09DD4BBF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C117-8D04-4F56-AD97-DA6D3D57B4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0E44-E2ED-41DF-AB94-08D26D2590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7096-02E1-4923-ABD1-5551F5DEF1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4A1D-A98E-4377-B544-2F9445410C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4FF4-7D95-46C3-ADC4-8F43804EA7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BD73-1C9C-467C-945B-389F015418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FF5A-74FB-4994-AA24-D76DF13308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18C8-CDD1-47F4-ACFE-BC95B93C2FD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1145-AE48-4F36-8F81-265B6AED87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64B3-2EA3-4902-85A3-D0686E668E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5E0E-1139-4E46-8BA3-67FDD0DF07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9841-6D6C-4668-A764-9123D70F0F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005B-6290-4873-A619-67BA8E3B56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8A65-F255-4D1A-9284-89EBA15D0F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D3C3-5A55-4B01-BA32-4CAEF094AC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3507-755A-4CED-9C38-F3D1EB2396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CE0E-A05A-4E3B-8220-1528B58930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7051-982F-4FAD-B9A0-DA35E3C337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A6F7-A41B-4B9B-A76F-49CEFEAC4F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8B41-CFA5-43E2-A94F-959CCAEBE1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712F-704C-414F-9746-F29939EF62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33DE-5180-415E-AC59-E9207B0BB2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F4D6-3DFE-41F9-B2D2-6D74F30819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304A-C8B0-4653-A4D4-0FD04EC74E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A39B-E792-4056-9703-54BAA82B1B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0328-0597-42E7-AECE-0F36B83085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9FE1-A36E-49C9-91DD-AE1C7E1B71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1564-41D0-458A-BCA3-248A587310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9F52-A8DA-4F6B-B2A0-18BC919B96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09E2-243E-4935-91FA-456AA7938C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0ED2-E1DC-440D-9E55-5B707EE703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3840-E65A-4959-A3D7-DDBB201EC8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3159-5C5F-41D4-B7AB-9E184380D9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D863-9501-43AA-B1FE-D167E6BEEF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0D83-6C68-4CDA-AE54-04BEC5B158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F874-B4DF-4895-B3FE-A3F4D1B588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FE53-57FE-430B-9772-1C6E5EE809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8E31-B723-42A7-B903-2779E2F393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0783-F40E-4277-80B9-DB1352379F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6D2E-16E9-4E39-B08D-8C59F57C3F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25CE-0884-43DC-BC12-728882AB79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1BF4-871A-4F26-9A4F-D9DB08DDE4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8DA4-2F20-4405-B0C7-23AC94C4EC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89E9-9D51-4D50-9F6F-D7FFDB8FD2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E020-7744-46CE-B070-2085D0E85A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15AE-4490-4CA0-BDA6-B608DAD174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B604-2C36-43FB-BD21-F9197BF213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B2A3-942C-4805-9C18-F0D574F98C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6592-2440-4B0C-A551-5D3F49A796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A1E5-E8BD-49B0-B949-75793645F6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7428-9D28-4E5C-8364-18DC236F3C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E88D-9123-410B-8996-D4FD26D876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7055-24F2-4CE9-AB44-5CB2058228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31C0-887A-418F-9DD9-7B5E937673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9387-399D-4061-8885-313049BEC4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7623-2D72-4815-92F3-EA12D7E3EA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AC33-5A2E-4701-9C03-CFC890A520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8A7D-F52C-4D16-B8B7-617B781C23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594E-E498-4A13-B1B6-014105C3ED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A30F9-E2DD-449F-8A16-886CF05AA4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E1B4B-BEE0-479D-B656-83E725989E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0678A-09FF-4361-932C-3E42A05053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09F85-D7A6-49BC-9586-FF6FDC1CE3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9B573-7C10-43E8-AE36-11ACF56B8E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7B9CD-E2EB-48D2-9D1B-F57EE9BDB33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485B9-369A-44CB-8F28-6B79E4FA461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6CE5F-F94E-4ECD-AF6C-FF87F8825A9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E0A92-B6BE-413D-915D-C1742B51F8C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92469-5F03-4D2F-BE48-8B8F347644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749A3-983E-41CE-8A22-4E9BFCB1E31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796CB-2C61-4579-918D-C157AC3D852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128BA-59B3-4929-8FDB-927BA836203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30C16-C88E-44E0-AB5E-A009A035DB1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5EADF-FBC0-4CE1-BF0E-0F6FD461F9C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100AE-5F0C-4D20-9BA4-51F710F9483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A6959-2BCA-4A2F-A311-91806FD177C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F9A03-2DDC-42E4-B41C-FC839B0D42D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B143-6344-4654-9DBC-3E4BB1F04A5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2190-7B06-48E7-9C8E-AF924FD3308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6D53-B5ED-4E19-8438-C0B51568D6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D9CEA-5E16-4707-B925-C4501A5A2EC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9FED-69A2-4BC6-9DE2-C4A742E85E4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F33B-E7AF-4939-8ED2-D5005537118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7300-7AA0-47EA-834A-E19B7715A44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C826-2E9F-4EC1-BC28-BFA82764B40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51E9-4634-4632-9CD4-6538DB53771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0147-9A9C-46AD-A9A5-351CD59BC05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9F9D-D024-4164-9230-32D82951DAD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829A-BCEB-4C1B-8653-72CFCF753B5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7950-77AA-4403-AC86-AE759C0901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1D2B5-1893-4F93-BD0E-074D8FE43D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1E670-033D-44A4-AA21-2FDC82A261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5E7BE-3F1F-42B7-B769-4B54C60FA6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062F2-A950-49D5-8026-7DB19554C7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51329-A387-4D42-842D-699475AA73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1b58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3" marL="1619280" indent="-247680">
              <a:spcBef>
                <a:spcPts val="601"/>
              </a:spcBef>
              <a:buClr>
                <a:srgbClr val="1b587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1b58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9102600" y="6350040"/>
            <a:ext cx="5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9f293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715A-F746-466A-B844-24B5E5F7186B}" type="slidenum">
              <a:rPr b="0" lang="it-IT" sz="1400" spc="-1" strike="noStrike">
                <a:solidFill>
                  <a:srgbClr val="9f293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Immagine 4" descr="banner sopra.jpg"/>
          <p:cNvPicPr/>
          <p:nvPr/>
        </p:nvPicPr>
        <p:blipFill>
          <a:blip r:embed="rId2"/>
          <a:stretch/>
        </p:blipFill>
        <p:spPr>
          <a:xfrm>
            <a:off x="365040" y="369720"/>
            <a:ext cx="9221760" cy="1525680"/>
          </a:xfrm>
          <a:prstGeom prst="rect">
            <a:avLst/>
          </a:prstGeom>
          <a:ln w="0">
            <a:noFill/>
          </a:ln>
        </p:spPr>
      </p:pic>
      <p:sp>
        <p:nvSpPr>
          <p:cNvPr id="40" name="Rettangolo 6"/>
          <p:cNvSpPr/>
          <p:nvPr/>
        </p:nvSpPr>
        <p:spPr>
          <a:xfrm>
            <a:off x="309600" y="357120"/>
            <a:ext cx="9286920" cy="6143760"/>
          </a:xfrm>
          <a:prstGeom prst="rect">
            <a:avLst/>
          </a:prstGeom>
          <a:noFill/>
          <a:ln w="19080">
            <a:solidFill>
              <a:srgbClr val="84ac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Connettore 1 7"/>
          <p:cNvSpPr/>
          <p:nvPr/>
        </p:nvSpPr>
        <p:spPr>
          <a:xfrm>
            <a:off x="8382240" y="213480"/>
            <a:ext cx="1362600" cy="13651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Connettore 1 8"/>
          <p:cNvSpPr/>
          <p:nvPr/>
        </p:nvSpPr>
        <p:spPr>
          <a:xfrm>
            <a:off x="167040" y="5285520"/>
            <a:ext cx="1362960" cy="13651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asellaDiTesto 9"/>
          <p:cNvSpPr/>
          <p:nvPr/>
        </p:nvSpPr>
        <p:spPr>
          <a:xfrm>
            <a:off x="309600" y="6224760"/>
            <a:ext cx="357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1b587c"/>
                </a:solidFill>
                <a:latin typeface="Century Gothic"/>
              </a:rPr>
              <a:t>Consulente: Gianmarco Fal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asellaDiTesto 10"/>
          <p:cNvSpPr/>
          <p:nvPr/>
        </p:nvSpPr>
        <p:spPr>
          <a:xfrm>
            <a:off x="7167600" y="6215040"/>
            <a:ext cx="242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1b587c"/>
                </a:solidFill>
                <a:latin typeface="Century Gothic"/>
              </a:rPr>
              <a:t>www.personeorganizzazioni.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1b58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3" marL="1619280" indent="-247680">
              <a:spcBef>
                <a:spcPts val="601"/>
              </a:spcBef>
              <a:buClr>
                <a:srgbClr val="1b587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1b58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ngolo ripiegato 4"/>
          <p:cNvSpPr/>
          <p:nvPr/>
        </p:nvSpPr>
        <p:spPr>
          <a:xfrm>
            <a:off x="9028080" y="6162840"/>
            <a:ext cx="577800" cy="577800"/>
          </a:xfrm>
          <a:prstGeom prst="foldedCorner">
            <a:avLst>
              <a:gd name="adj" fmla="val 42495"/>
            </a:avLst>
          </a:prstGeom>
          <a:solidFill>
            <a:srgbClr val="e3ded1"/>
          </a:solidFill>
          <a:ln w="1260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Immagine 4" descr="banner sopra.jpg"/>
          <p:cNvPicPr/>
          <p:nvPr/>
        </p:nvPicPr>
        <p:blipFill>
          <a:blip r:embed="rId2"/>
          <a:stretch/>
        </p:blipFill>
        <p:spPr>
          <a:xfrm>
            <a:off x="365040" y="369720"/>
            <a:ext cx="9221760" cy="1525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1b58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3" marL="1619280" indent="-247680">
              <a:spcBef>
                <a:spcPts val="601"/>
              </a:spcBef>
              <a:buClr>
                <a:srgbClr val="1b587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1b58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9f293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C256-EA6A-4B14-8B2B-AF00A4207312}" type="slidenum">
              <a:rPr b="0" lang="it-IT" sz="1400" spc="-1" strike="noStrike">
                <a:solidFill>
                  <a:srgbClr val="9f293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ngolo ripiegato 4"/>
          <p:cNvSpPr/>
          <p:nvPr/>
        </p:nvSpPr>
        <p:spPr>
          <a:xfrm>
            <a:off x="9028080" y="6162840"/>
            <a:ext cx="577800" cy="577800"/>
          </a:xfrm>
          <a:prstGeom prst="foldedCorner">
            <a:avLst>
              <a:gd name="adj" fmla="val 42495"/>
            </a:avLst>
          </a:prstGeom>
          <a:solidFill>
            <a:srgbClr val="e3ded1"/>
          </a:solidFill>
          <a:ln w="1260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onnettore 1 6"/>
          <p:cNvSpPr/>
          <p:nvPr/>
        </p:nvSpPr>
        <p:spPr>
          <a:xfrm>
            <a:off x="166680" y="785880"/>
            <a:ext cx="9286920" cy="1440"/>
          </a:xfrm>
          <a:prstGeom prst="line">
            <a:avLst/>
          </a:prstGeom>
          <a:ln w="9360">
            <a:solidFill>
              <a:srgbClr val="1b58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onnettore 1 7"/>
          <p:cNvSpPr/>
          <p:nvPr/>
        </p:nvSpPr>
        <p:spPr>
          <a:xfrm>
            <a:off x="496800" y="285840"/>
            <a:ext cx="28800" cy="621504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uppo 10"/>
          <p:cNvGrpSpPr/>
          <p:nvPr/>
        </p:nvGrpSpPr>
        <p:grpSpPr>
          <a:xfrm>
            <a:off x="3916080" y="6357960"/>
            <a:ext cx="2394360" cy="450720"/>
            <a:chOff x="3916080" y="6357960"/>
            <a:chExt cx="2394360" cy="450720"/>
          </a:xfrm>
        </p:grpSpPr>
        <p:pic>
          <p:nvPicPr>
            <p:cNvPr id="128" name="Immagine 9" descr="solo logo sopra stretto.jpg"/>
            <p:cNvPicPr/>
            <p:nvPr/>
          </p:nvPicPr>
          <p:blipFill>
            <a:blip r:embed="rId2"/>
            <a:stretch/>
          </p:blipFill>
          <p:spPr>
            <a:xfrm>
              <a:off x="4800600" y="6357960"/>
              <a:ext cx="150984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CasellaDiTesto 10"/>
            <p:cNvSpPr/>
            <p:nvPr/>
          </p:nvSpPr>
          <p:spPr>
            <a:xfrm>
              <a:off x="3916080" y="6402240"/>
              <a:ext cx="112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1b587c"/>
                  </a:solidFill>
                  <a:latin typeface="Century Gothic"/>
                </a:rPr>
                <a:t>Realizzato 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1b58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3" marL="1619280" indent="-247680">
              <a:spcBef>
                <a:spcPts val="601"/>
              </a:spcBef>
              <a:buClr>
                <a:srgbClr val="1b587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1b58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3"/>
          </p:nvPr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9f293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38BA-BF84-417D-8319-F31000E178E8}" type="slidenum">
              <a:rPr b="0" lang="it-IT" sz="1400" spc="-1" strike="noStrike">
                <a:solidFill>
                  <a:srgbClr val="9f293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5280" y="2781360"/>
            <a:ext cx="8381880" cy="1433520"/>
          </a:xfrm>
          <a:prstGeom prst="rect">
            <a:avLst/>
          </a:prstGeom>
          <a:noFill/>
          <a:ln w="9360">
            <a:solidFill>
              <a:srgbClr val="1b587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f2936"/>
                </a:solidFill>
                <a:latin typeface="Century Gothic"/>
              </a:rPr>
              <a:t>IL MESTIERE DI CAPO E LA GESTIONE DEI COLLABORATORI</a:t>
            </a:r>
            <a:endParaRPr b="1" lang="en-US" sz="36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742680" y="4621320"/>
            <a:ext cx="8297640" cy="11779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1b587c"/>
                </a:solidFill>
                <a:latin typeface="Century Gothic"/>
              </a:rPr>
              <a:t>Indicazioni concrete per i responsabili</a:t>
            </a:r>
            <a:endParaRPr b="0" lang="en-US" sz="2800" spc="-1" strike="noStrike">
              <a:solidFill>
                <a:srgbClr val="1b587c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1b587c"/>
                </a:solidFill>
                <a:latin typeface="Century Gothic"/>
              </a:rPr>
              <a:t>Primo incontro</a:t>
            </a:r>
            <a:endParaRPr b="0" lang="en-US" sz="28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801720" y="1886040"/>
            <a:ext cx="8305920" cy="30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b587c"/>
                </a:solidFill>
                <a:latin typeface="Arial"/>
              </a:rPr>
              <a:t>80% del tempo per il 20% di attività e problemi importanti,strategici,che danno l’80% dei risulta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b587c"/>
                </a:solidFill>
                <a:latin typeface="Arial"/>
              </a:rPr>
              <a:t>20% del tempo per l’80% di attività e problemi non importanti,operativi che danno il 20% dei risulta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Pareto sostiene che: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28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7DCD-880A-488D-892F-6792AE60CC0A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3668400" y="1371600"/>
            <a:ext cx="2601000" cy="459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IANIFIC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900000" y="2376360"/>
            <a:ext cx="38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DENTIFICAZIONE DEI FINI DEL REPARTO/UFF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5257800" y="237636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ROGETTAZIONE DI PIANI DI 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595440" y="3718080"/>
            <a:ext cx="4495680" cy="2239560"/>
          </a:xfrm>
          <a:prstGeom prst="rect">
            <a:avLst/>
          </a:prstGeom>
          <a:solidFill>
            <a:srgbClr val="ffffff"/>
          </a:solidFill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QUAL’E’ LA MISSION DEL MIO REPARTO/UFFICI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QUALI SONO GLI OBIETTIVI CHE MI PONGO O CHE MI HANNO ASSEGNATO (FATTURATO, REDDITIVITA’, PRESTAZIONE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5595840" y="3718080"/>
            <a:ext cx="3853080" cy="242460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OBIET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AZIONI CONC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SCAD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SISTEMA DI MONITORAGG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MISURA DEI RISUL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quattro macro attività del Responsabi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35" name="Segnaposto numero diapositiva 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44F5-2347-4A12-BEB5-EADDDA10F0F3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3668400" y="1233360"/>
            <a:ext cx="2601000" cy="459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IANIFIC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320760" y="2176560"/>
            <a:ext cx="459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ACCOLTA DI INFORMAZIONI/ ELABORAZIONE DI SCEN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5257800" y="217656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ROGRAMMAZIONE SVILUPPO SERVIZ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76120" y="3632040"/>
            <a:ext cx="4649760" cy="249156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QUAL’E’ L’ANDAMENTO DEL MERCA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OME SONO POSIZIONATI I CONCORRENT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QUALI SONO LE VARIABILI ESTERNE CHE INCIDERANNO SULLA PERFORMANCE AZIENDA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5173560" y="3632040"/>
            <a:ext cx="4537080" cy="233280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QUALI E QUANTE RISORSE DEDICA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QUALI PARTNERSHIP ATTIV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BENCH MARK CON I CONCORR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STRUMENTI PER CALCOLARE LA REDDITIVITA’ DEI PROGE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quattro macro attività del Responsabi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42" name="Segnaposto numero diapositiva 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45DA-C270-4D15-80BE-EED0D6C54DDB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3528360" y="1114560"/>
            <a:ext cx="2889000" cy="459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RGAN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976320" y="2133720"/>
            <a:ext cx="38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VALUTAZIONE DELLE RISORSE NECESSARIE E DISPONIB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5400720" y="231444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ROGRAMMAZIONE DEI TEMPI DI LAV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671400" y="3718080"/>
            <a:ext cx="4496040" cy="208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DI COSA HO BISOGNO PER OTTENERE GLI OBIETTIV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DOVE POSSO REPERIRE CIO’ CHE MI SER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PIANO DI REPERIMENTO RISO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5477040" y="3517920"/>
            <a:ext cx="4190760" cy="242460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QUANTO POSSO PRODUR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QUANTO VOGLIO PRODUR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OSA PRODUC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N QUALI TEMP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ON QUANTE RISOR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quattro macro attività del Responsabi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49" name="Segnaposto numero diapositiva 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169A-A65B-49F4-9436-927048286552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3509280" y="993600"/>
            <a:ext cx="2889000" cy="459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RGAN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612720" y="1895400"/>
            <a:ext cx="455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UDDIVISIONE DEI COMPITI E ATTRIBUZIONE DELLE RESPONSABIL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811080" y="3411360"/>
            <a:ext cx="4175280" cy="277740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OME FACCIO A PRODUR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QUALI SONO I MIEI PROCESS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HI FA CHE COS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QUALI SONO LE RESPONSABILITA’ DEI RUOL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OME DEVE CIRCOLARE L’INFORMAZIO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quattro macro attività del Responsabi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5130720" y="2098800"/>
            <a:ext cx="455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MIGLIORAMENTO DEI PROCE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5405400" y="3429000"/>
            <a:ext cx="4329000" cy="21898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282600" indent="-28260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QUALI SONO LE FASI CRITICHE NEL PROCESS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QUANTO POSSO RIDURRE I COST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OME MIGLIORARE COSTANTEMENTE LA QUALITA’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egnaposto numero diapositiva 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89AA-97D6-4379-8785-14AE75097DE3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4076280" y="1197000"/>
            <a:ext cx="1755000" cy="459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GEST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947880" y="1847880"/>
            <a:ext cx="38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LE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5257800" y="18478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VILUP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600120" y="2617920"/>
            <a:ext cx="4495680" cy="339804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VENGONO DEFINITI ED ASSEGNATI OBIETTIV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AVVIENE UNA VALUTAZIONE DELLE COMPETENZE NECESSARIE E DISPONIBIL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OME CI SI MUOVE PER RICERCARE E SELEZIONARE LE RISORSE PROFESSIONALI NECESSARI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5391000" y="2617920"/>
            <a:ext cx="4114800" cy="306900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QUANTO CRESCONO PROFESSIONALMENTE LE MIE RISOR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’AZIENDA ED I CAPI FAVORISCONO LA CRESCITA MANGERIALE DI ALTRE FIGU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 RESPONSABILI INSEGNANO AI COLLABORATOR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quattro macro attività del Responsabi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63" name="Segnaposto numero diapositiva 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7754-B229-4341-A77C-00C6B18E93A8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4065120" y="1219320"/>
            <a:ext cx="1755000" cy="459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GEST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905040" y="2011320"/>
            <a:ext cx="38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ICOMP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5400720" y="182880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ENZIONE AL CLIMA IN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600120" y="2703600"/>
            <a:ext cx="4495680" cy="339804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A GESTIONE DEL SISTEMA DI RETRIBUZIONE FISSO E VARIABILE E’ EFFICA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ESISTE E VIENE CORRENTEMENTE UTILIZZATO UN SISTEMA DI RETRIBUZIONI NON MONETARI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OME SONO COINVOLTI I CAPI DI LINEA NELL’ASSEGNAZIONE DELLE RICOMPEN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5324400" y="2703600"/>
            <a:ext cx="4267440" cy="32950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spcBef>
                <a:spcPts val="9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SONO CAPACE DI PREMIARE E DI BIASIM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9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SONO ATTENTO AI SEGNALI DEBOL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9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OMUNICO IN MODO EFFICACE CON I COLLABORATOR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9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MI PREOCCUPO DEL BENESSERE DEL GRUPP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9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AZIENDA: CASERMA, FAMIGLIA O SQUADR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quattro macro attività del Responsabi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70" name="Segnaposto numero diapositiva 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2FBE-C0E4-465E-BA6F-905427F91B10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3920400" y="1144440"/>
            <a:ext cx="2076480" cy="459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T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590400" y="194472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FINIZIONE DI STANDARD DI PRESTAZIONE E MOMENTI DI VALUT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5257800" y="212580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MONITORAGGIO DEI FLUSSI DI LAV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666720" y="3403440"/>
            <a:ext cx="4495680" cy="223956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HO CHIARO E SO SPIEGARE QUANDO E COME UNA PRESTAZIONE MI SODDISF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FISSO MOMENTI DI VALUTAZIONE FORMALI CON I MIEI COLLABORATOR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5334120" y="3429000"/>
            <a:ext cx="4190760" cy="273996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HO SOTTO CONTROLLO I FLUSSI PRODUTTIV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UTILIZZO STRUMENTI PER IL CONTROLLO DELLA QUALITA’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ABBIAMO UN SISTEMA DI RACCOLTA DI DATI STATISTICI DI PRESTAZIONE A TUTTI I LIVELL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quattro macro attività del Responsabi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77" name="Segnaposto numero diapositiva 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D7D0-FF63-4B60-A72A-8E101DDC1863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3920400" y="1219320"/>
            <a:ext cx="2076480" cy="459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T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1143000" y="20574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ACCOLTA DATI SU ANDAMENTI E PREST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1498680" y="2790720"/>
            <a:ext cx="6933960" cy="335700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I SIAMO DATI STRUMENTI PER SAPERE COME STIAMO ANDANDO IN TERMINI D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-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LIMA ALL’INTERNO DELL’AZI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-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RISULTATI QUANTITATIVI DELLE PRESTAZIONI DEI 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SINGOLI E AZIEND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-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QUALITA’ DEL SERVIZIO/PRODOTTO EROG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-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ONTROLLO DEI COST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quattro macro attività del Responsabi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82" name="Segnaposto numero diapositiva 5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D5FD-0975-4333-8E22-6923A6304C7D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1347120" y="122868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IANIFIC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1204200" y="371484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RGAN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6565320" y="121428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GEST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6630120" y="371484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T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781200" y="1752480"/>
            <a:ext cx="373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b587c"/>
                </a:solidFill>
                <a:latin typeface="Arial"/>
              </a:rPr>
              <a:t>Determinazione dei fini della strut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b587c"/>
                </a:solidFill>
                <a:latin typeface="Arial"/>
              </a:rPr>
              <a:t>Progettazione di piani di 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819000" y="4305240"/>
            <a:ext cx="3848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b587c"/>
                </a:solidFill>
                <a:latin typeface="Arial"/>
              </a:rPr>
              <a:t>Valutazione delle risorse necessarie e disponibi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b587c"/>
                </a:solidFill>
                <a:latin typeface="Arial"/>
              </a:rPr>
              <a:t>Programmazione dei tempi di lavo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b587c"/>
                </a:solidFill>
                <a:latin typeface="Arial"/>
              </a:rPr>
              <a:t>Suddivisione dei compiti e attribuzione delle responsabilit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b587c"/>
                </a:solidFill>
                <a:latin typeface="Arial"/>
              </a:rPr>
              <a:t>Miglioramento dei proces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8"/>
          <p:cNvSpPr/>
          <p:nvPr/>
        </p:nvSpPr>
        <p:spPr>
          <a:xfrm>
            <a:off x="5932440" y="4305240"/>
            <a:ext cx="3473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b587c"/>
                </a:solidFill>
                <a:latin typeface="Arial"/>
              </a:rPr>
              <a:t>Definizione di standard di prestazione e momenti di valut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b587c"/>
                </a:solidFill>
                <a:latin typeface="Arial"/>
              </a:rPr>
              <a:t>Monitoraggio dei flussi di lavo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9"/>
          <p:cNvSpPr/>
          <p:nvPr/>
        </p:nvSpPr>
        <p:spPr>
          <a:xfrm>
            <a:off x="5977080" y="1824120"/>
            <a:ext cx="2933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b587c"/>
                </a:solidFill>
                <a:latin typeface="Arial"/>
              </a:rPr>
              <a:t>Dele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b587c"/>
                </a:solidFill>
                <a:latin typeface="Arial"/>
              </a:rPr>
              <a:t>Sviluppo dei collaborat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b587c"/>
                </a:solidFill>
                <a:latin typeface="Arial"/>
              </a:rPr>
              <a:t>Gestione delle ricomp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b587c"/>
                </a:solidFill>
                <a:latin typeface="Arial"/>
              </a:rPr>
              <a:t>Attenzione al clima int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quattro macro attività del Responsabi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92" name="Segnaposto numero diapositiva 10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2833-717B-40CE-B96A-6DB4D80F4E22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685800" y="1295280"/>
            <a:ext cx="853452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UN’ORGANIZZAZIONE PUO’ ESSERE DEFINITA COME UN INSIEME DI ASPETTATIVE RISPETTO AI COMPORTAMENTI DI CIASCUNO DEI MEMB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685800" y="4038480"/>
            <a:ext cx="853452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GNI PERSONA SI ASPETTA CHE I COLLEGHI O IL RESPONSABILE ASSUMANO DEI COMPORTAMENTI DETERMINATI DAL RUOLO RICOPER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’organizzazion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81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851A-9714-4CA4-B77D-BAD54E9261FE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1611360" y="1746360"/>
            <a:ext cx="6686640" cy="34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I SONO ATTIVITA’ CHE POSSONO ESSERE SVOLTE SOLO DA VO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 QUESTE VA DATA PRIORITA’ DELEGANDO IN MODO ADEGU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n conclusione: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95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DE04-F65D-47D8-B2BE-67C3C7FBB2D2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Stabilire le priorità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97" name="Segnaposto numero diapositiva 5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58B2-4A70-4A23-8C90-D24D5B31B6CF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47800" y="1214280"/>
            <a:ext cx="8283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1b587c"/>
                </a:solidFill>
                <a:uFillTx/>
                <a:latin typeface="Arial"/>
              </a:rPr>
              <a:t>L’IMPORTANZA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: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ncidenza di una attività sugli obiettivi fondamentali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738360" y="3112920"/>
            <a:ext cx="8393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30000"/>
              </a:lnSpc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1b587c"/>
                </a:solidFill>
                <a:uFillTx/>
                <a:latin typeface="Arial"/>
              </a:rPr>
              <a:t>L’URGENZA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 :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é determinata dalla scadenza entro cui il problema va gestito con successo e senza danni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738360" y="4786200"/>
            <a:ext cx="82548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5000" indent="-765000" algn="ctr">
              <a:spcBef>
                <a:spcPts val="2001"/>
              </a:spcBef>
              <a:buClr>
                <a:srgbClr val="1b587c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entrambe alte/ba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5000" indent="-765000" algn="ctr">
              <a:spcBef>
                <a:spcPts val="2001"/>
              </a:spcBef>
              <a:buClr>
                <a:srgbClr val="1b587c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una alta/l’altra ba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’urgenz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02" name="Segnaposto numero diapositiva 5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B5A2-48EB-43E1-9956-61A3881A488D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1046160" y="1285920"/>
            <a:ext cx="781380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L’80% delle urgenze nascono su attività e problemi che incidono al 20% sui risultati fina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825480" y="2687760"/>
            <a:ext cx="8310600" cy="137376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1b587c"/>
                </a:solidFill>
                <a:uFillTx/>
                <a:latin typeface="Arial"/>
              </a:rPr>
              <a:t>attività e problemi a dinamicità nulla o positiva</a:t>
            </a:r>
            <a:r>
              <a:rPr b="0" lang="it-IT" sz="2800" spc="-1" strike="noStrike">
                <a:solidFill>
                  <a:srgbClr val="1b587c"/>
                </a:solidFill>
                <a:latin typeface="Arial"/>
              </a:rPr>
              <a:t>:</a:t>
            </a:r>
            <a:br>
              <a:rPr sz="2800"/>
            </a:br>
            <a:r>
              <a:rPr b="0" lang="it-IT" sz="2800" spc="-1" strike="noStrike">
                <a:solidFill>
                  <a:srgbClr val="1b587c"/>
                </a:solidFill>
                <a:latin typeface="Arial"/>
              </a:rPr>
              <a:t>col passare del tempo rimangono inalterati,diventano più facili o si risolvono da so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770040" y="4538520"/>
            <a:ext cx="8366040" cy="137376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1b587c"/>
                </a:solidFill>
                <a:uFillTx/>
                <a:latin typeface="Arial"/>
              </a:rPr>
              <a:t>attività e problemi a dinamicità negativa</a:t>
            </a:r>
            <a:r>
              <a:rPr b="0" lang="it-IT" sz="2800" spc="-1" strike="noStrike">
                <a:solidFill>
                  <a:srgbClr val="1b587c"/>
                </a:solidFill>
                <a:latin typeface="Arial"/>
              </a:rPr>
              <a:t>:</a:t>
            </a:r>
            <a:br>
              <a:rPr sz="2800"/>
            </a:br>
            <a:r>
              <a:rPr b="0" lang="it-IT" sz="2800" spc="-1" strike="noStrike">
                <a:solidFill>
                  <a:srgbClr val="1b587c"/>
                </a:solidFill>
                <a:latin typeface="Arial"/>
              </a:rPr>
              <a:t>col passare del tempo diventano più difficili da gestire e producono effetti negativi crescen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l sistema A-B-C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07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B656-C9AA-4EFE-B900-204A18D6F94E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38000" y="1230480"/>
            <a:ext cx="858492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i compiti A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: devono essere svolti subito; 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 risultati che si possono conseguire sono rilevanti, se tralasciati comportano serie conseguenze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i compiti B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: dovrebbero essere svolti subito;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possono essere rimandati a lungo altrimenti si trasformano in compiti A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i compiti C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: possono essere rimandati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l sistema A-B-C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10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4156-9689-4041-840D-C0B1B238D345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66720" y="1171440"/>
            <a:ext cx="850104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… </a:t>
            </a: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e poi i compiti D : in teoria non dovrebbero essere fatti perché non vincolati da scadenze, ma sono piacevoli!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Possiamo anche dare delle sottocategorie come A1, A2, A3, ecc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COME : segnare in agenda, schedari, cartelline, ecc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NO post it e biglietti volanti!!!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55280" y="2739960"/>
            <a:ext cx="8381880" cy="1433520"/>
          </a:xfrm>
          <a:prstGeom prst="rect">
            <a:avLst/>
          </a:prstGeom>
          <a:noFill/>
          <a:ln w="9360">
            <a:solidFill>
              <a:srgbClr val="1b587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f2936"/>
                </a:solidFill>
                <a:latin typeface="Century Gothic"/>
              </a:rPr>
              <a:t>IL MESTIERE DI CAPO E LA GESTIONE DEI COLLABORATORI</a:t>
            </a:r>
            <a:endParaRPr b="1" lang="en-US" sz="36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742680" y="4621320"/>
            <a:ext cx="8297640" cy="11779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1b587c"/>
                </a:solidFill>
                <a:latin typeface="Century Gothic"/>
              </a:rPr>
              <a:t>Indicazioni concrete per i responsabili</a:t>
            </a:r>
            <a:endParaRPr b="0" lang="en-US" sz="2800" spc="-1" strike="noStrike">
              <a:solidFill>
                <a:srgbClr val="1b587c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1b587c"/>
                </a:solidFill>
                <a:latin typeface="Century Gothic"/>
              </a:rPr>
              <a:t>Secondo incontro</a:t>
            </a:r>
            <a:endParaRPr b="0" lang="en-US" sz="28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a mappa delle “grane” del ca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15" name="Segnaposto numero diapositiva 16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792F-A798-4B93-B7DB-3B5DAF8AD168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3"/>
          <p:cNvSpPr/>
          <p:nvPr/>
        </p:nvSpPr>
        <p:spPr>
          <a:xfrm>
            <a:off x="738360" y="928800"/>
            <a:ext cx="8665920" cy="4135320"/>
          </a:xfrm>
          <a:custGeom>
            <a:avLst/>
            <a:gdLst>
              <a:gd name="textAreaLeft" fmla="*/ 0 w 8665920"/>
              <a:gd name="textAreaRight" fmla="*/ 8666280 w 8665920"/>
              <a:gd name="textAreaTop" fmla="*/ 0 h 4135320"/>
              <a:gd name="textAreaBottom" fmla="*/ 1485360 h 4135320"/>
            </a:gdLst>
            <a:ahLst/>
            <a:rect l="textAreaLeft" t="textAreaTop" r="textAreaRight" b="textAreaBottom"/>
            <a:pathLst>
              <a:path w="21600" h="21600">
                <a:moveTo>
                  <a:pt x="7751" y="10812"/>
                </a:moveTo>
                <a:cubicBezTo>
                  <a:pt x="7751" y="10808"/>
                  <a:pt x="7751" y="10804"/>
                  <a:pt x="7751" y="10800"/>
                </a:cubicBezTo>
                <a:cubicBezTo>
                  <a:pt x="7751" y="9116"/>
                  <a:pt x="9116" y="7751"/>
                  <a:pt x="10800" y="7751"/>
                </a:cubicBezTo>
                <a:cubicBezTo>
                  <a:pt x="12483" y="7751"/>
                  <a:pt x="13849" y="9116"/>
                  <a:pt x="13849" y="10800"/>
                </a:cubicBezTo>
                <a:cubicBezTo>
                  <a:pt x="13849" y="10804"/>
                  <a:pt x="13848" y="10808"/>
                  <a:pt x="13848" y="10812"/>
                </a:cubicBezTo>
                <a:lnTo>
                  <a:pt x="21599" y="10842"/>
                </a:lnTo>
                <a:cubicBezTo>
                  <a:pt x="21599" y="10828"/>
                  <a:pt x="21600" y="10814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14"/>
                  <a:pt x="0" y="10828"/>
                  <a:pt x="0" y="10842"/>
                </a:cubicBezTo>
                <a:lnTo>
                  <a:pt x="7751" y="10812"/>
                </a:lnTo>
                <a:close/>
              </a:path>
            </a:pathLst>
          </a:cu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9320" bIns="49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"/>
          <p:cNvSpPr/>
          <p:nvPr/>
        </p:nvSpPr>
        <p:spPr>
          <a:xfrm rot="10800000">
            <a:off x="736200" y="2209320"/>
            <a:ext cx="8666280" cy="4135680"/>
          </a:xfrm>
          <a:custGeom>
            <a:avLst/>
            <a:gdLst>
              <a:gd name="textAreaLeft" fmla="*/ 0 w 8666280"/>
              <a:gd name="textAreaRight" fmla="*/ 8666640 w 8666280"/>
              <a:gd name="textAreaTop" fmla="*/ 0 h 4135680"/>
              <a:gd name="textAreaBottom" fmla="*/ 1485360 h 4135680"/>
            </a:gdLst>
            <a:ahLst/>
            <a:rect l="textAreaLeft" t="textAreaTop" r="textAreaRight" b="textAreaBottom"/>
            <a:pathLst>
              <a:path w="21600" h="21600">
                <a:moveTo>
                  <a:pt x="7751" y="10812"/>
                </a:moveTo>
                <a:cubicBezTo>
                  <a:pt x="7751" y="10808"/>
                  <a:pt x="7751" y="10804"/>
                  <a:pt x="7751" y="10800"/>
                </a:cubicBezTo>
                <a:cubicBezTo>
                  <a:pt x="7751" y="9116"/>
                  <a:pt x="9116" y="7751"/>
                  <a:pt x="10800" y="7751"/>
                </a:cubicBezTo>
                <a:cubicBezTo>
                  <a:pt x="12483" y="7751"/>
                  <a:pt x="13849" y="9116"/>
                  <a:pt x="13849" y="10800"/>
                </a:cubicBezTo>
                <a:cubicBezTo>
                  <a:pt x="13849" y="10804"/>
                  <a:pt x="13848" y="10808"/>
                  <a:pt x="13848" y="10812"/>
                </a:cubicBezTo>
                <a:lnTo>
                  <a:pt x="21599" y="10842"/>
                </a:lnTo>
                <a:cubicBezTo>
                  <a:pt x="21599" y="10828"/>
                  <a:pt x="21600" y="10814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14"/>
                  <a:pt x="0" y="10828"/>
                  <a:pt x="0" y="10842"/>
                </a:cubicBezTo>
                <a:lnTo>
                  <a:pt x="7751" y="10812"/>
                </a:lnTo>
                <a:close/>
              </a:path>
            </a:pathLst>
          </a:cu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9320" bIns="49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4344840" y="2638440"/>
            <a:ext cx="14482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9320" bIns="493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b587c"/>
                </a:solidFill>
                <a:latin typeface="Arial"/>
              </a:rPr>
              <a:t>IL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4186080" y="4219560"/>
            <a:ext cx="1791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9320" bIns="493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b587c"/>
                </a:solidFill>
                <a:latin typeface="Arial"/>
              </a:rPr>
              <a:t>LE REL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7"/>
          <p:cNvSpPr/>
          <p:nvPr/>
        </p:nvSpPr>
        <p:spPr>
          <a:xfrm>
            <a:off x="1273320" y="2041560"/>
            <a:ext cx="1814400" cy="857160"/>
          </a:xfrm>
          <a:prstGeom prst="ellipse">
            <a:avLst/>
          </a:prstGeom>
          <a:noFill/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9320" bIns="49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ORGANIZZARE</a:t>
            </a:r>
            <a:br>
              <a:rPr sz="1600"/>
            </a:b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IL LAVO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8"/>
          <p:cNvSpPr/>
          <p:nvPr/>
        </p:nvSpPr>
        <p:spPr>
          <a:xfrm>
            <a:off x="2416320" y="1309680"/>
            <a:ext cx="1814400" cy="857160"/>
          </a:xfrm>
          <a:prstGeom prst="ellipse">
            <a:avLst/>
          </a:prstGeom>
          <a:noFill/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9320" bIns="49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CONTROLL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9"/>
          <p:cNvSpPr/>
          <p:nvPr/>
        </p:nvSpPr>
        <p:spPr>
          <a:xfrm>
            <a:off x="4309920" y="1041480"/>
            <a:ext cx="1814760" cy="857160"/>
          </a:xfrm>
          <a:prstGeom prst="ellipse">
            <a:avLst/>
          </a:prstGeom>
          <a:noFill/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9320" bIns="49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RAGGIUNGERE</a:t>
            </a:r>
            <a:br>
              <a:rPr sz="1600"/>
            </a:b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GLI OBIETTI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10"/>
          <p:cNvSpPr/>
          <p:nvPr/>
        </p:nvSpPr>
        <p:spPr>
          <a:xfrm>
            <a:off x="6066000" y="1295280"/>
            <a:ext cx="1814400" cy="857520"/>
          </a:xfrm>
          <a:prstGeom prst="ellipse">
            <a:avLst/>
          </a:prstGeom>
          <a:noFill/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9320" bIns="49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RISOLVERE</a:t>
            </a:r>
            <a:br>
              <a:rPr sz="1600"/>
            </a:b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PROBLE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11"/>
          <p:cNvSpPr/>
          <p:nvPr/>
        </p:nvSpPr>
        <p:spPr>
          <a:xfrm>
            <a:off x="7159680" y="2041560"/>
            <a:ext cx="1814400" cy="857160"/>
          </a:xfrm>
          <a:prstGeom prst="ellipse">
            <a:avLst/>
          </a:prstGeom>
          <a:noFill/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9320" bIns="49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GESTIRE LE</a:t>
            </a:r>
            <a:br>
              <a:rPr sz="1600"/>
            </a:b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EMERGEN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12"/>
          <p:cNvSpPr/>
          <p:nvPr/>
        </p:nvSpPr>
        <p:spPr>
          <a:xfrm>
            <a:off x="1060560" y="4341960"/>
            <a:ext cx="1814400" cy="857160"/>
          </a:xfrm>
          <a:prstGeom prst="ellipse">
            <a:avLst/>
          </a:prstGeom>
          <a:noFill/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9320" bIns="49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“</a:t>
            </a: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GESTIRE” I</a:t>
            </a:r>
            <a:br>
              <a:rPr sz="1600"/>
            </a:b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SUPERI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3"/>
          <p:cNvSpPr/>
          <p:nvPr/>
        </p:nvSpPr>
        <p:spPr>
          <a:xfrm>
            <a:off x="2155680" y="5079960"/>
            <a:ext cx="1989360" cy="857160"/>
          </a:xfrm>
          <a:prstGeom prst="ellipse">
            <a:avLst/>
          </a:prstGeom>
          <a:noFill/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9320" bIns="49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GESTIRE I</a:t>
            </a:r>
            <a:br>
              <a:rPr sz="1600"/>
            </a:b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COLLABORAT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4"/>
          <p:cNvSpPr/>
          <p:nvPr/>
        </p:nvSpPr>
        <p:spPr>
          <a:xfrm>
            <a:off x="6070680" y="5094360"/>
            <a:ext cx="1974600" cy="857160"/>
          </a:xfrm>
          <a:prstGeom prst="ellipse">
            <a:avLst/>
          </a:prstGeom>
          <a:noFill/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9320" bIns="49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MOTIVARE I</a:t>
            </a:r>
            <a:br>
              <a:rPr sz="1600"/>
            </a:b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COLLABORAT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5"/>
          <p:cNvSpPr/>
          <p:nvPr/>
        </p:nvSpPr>
        <p:spPr>
          <a:xfrm>
            <a:off x="7186680" y="4335480"/>
            <a:ext cx="1974960" cy="857160"/>
          </a:xfrm>
          <a:prstGeom prst="ellipse">
            <a:avLst/>
          </a:prstGeom>
          <a:noFill/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9320" bIns="49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ALLENARE I</a:t>
            </a:r>
            <a:br>
              <a:rPr sz="1600"/>
            </a:b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COLLABORAT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6"/>
          <p:cNvSpPr/>
          <p:nvPr/>
        </p:nvSpPr>
        <p:spPr>
          <a:xfrm>
            <a:off x="4135320" y="5405400"/>
            <a:ext cx="1989360" cy="857160"/>
          </a:xfrm>
          <a:prstGeom prst="ellipse">
            <a:avLst/>
          </a:prstGeom>
          <a:noFill/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9320" bIns="49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GUIDARE I</a:t>
            </a:r>
            <a:br>
              <a:rPr sz="1600"/>
            </a:b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COLLABORAT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Object 2" descr=""/>
          <p:cNvPicPr/>
          <p:nvPr/>
        </p:nvPicPr>
        <p:blipFill>
          <a:blip r:embed="rId1"/>
          <a:stretch/>
        </p:blipFill>
        <p:spPr>
          <a:xfrm>
            <a:off x="7585200" y="1246320"/>
            <a:ext cx="1882800" cy="1758960"/>
          </a:xfrm>
          <a:prstGeom prst="rect">
            <a:avLst/>
          </a:prstGeom>
          <a:ln w="0">
            <a:noFill/>
          </a:ln>
        </p:spPr>
      </p:pic>
      <p:sp>
        <p:nvSpPr>
          <p:cNvPr id="331" name="Oval 4"/>
          <p:cNvSpPr/>
          <p:nvPr/>
        </p:nvSpPr>
        <p:spPr>
          <a:xfrm>
            <a:off x="3284640" y="942840"/>
            <a:ext cx="3200400" cy="1562400"/>
          </a:xfrm>
          <a:prstGeom prst="ellipse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enzione alle leve organizz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8"/>
          <p:cNvSpPr/>
          <p:nvPr/>
        </p:nvSpPr>
        <p:spPr>
          <a:xfrm>
            <a:off x="6067440" y="3632040"/>
            <a:ext cx="3386160" cy="1828800"/>
          </a:xfrm>
          <a:prstGeom prst="ellipse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enzione alla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rescita profess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9"/>
          <p:cNvSpPr/>
          <p:nvPr/>
        </p:nvSpPr>
        <p:spPr>
          <a:xfrm>
            <a:off x="880920" y="3772080"/>
            <a:ext cx="3429000" cy="1371600"/>
          </a:xfrm>
          <a:prstGeom prst="ellipse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enzione alla valutazione e al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 “driver” del responsabi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35" name="Segnaposto numero diapositiva 9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A8D8-9365-4C9A-9903-590186462220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9"/>
          <p:cNvSpPr/>
          <p:nvPr/>
        </p:nvSpPr>
        <p:spPr>
          <a:xfrm>
            <a:off x="3166920" y="4865760"/>
            <a:ext cx="3429000" cy="1371600"/>
          </a:xfrm>
          <a:prstGeom prst="ellipse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enzione alla rel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e 12"/>
          <p:cNvSpPr/>
          <p:nvPr/>
        </p:nvSpPr>
        <p:spPr>
          <a:xfrm>
            <a:off x="738360" y="2697120"/>
            <a:ext cx="8804160" cy="3662280"/>
          </a:xfrm>
          <a:prstGeom prst="ellipse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49320" bIns="493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CasellaDiTesto 13"/>
          <p:cNvSpPr/>
          <p:nvPr/>
        </p:nvSpPr>
        <p:spPr>
          <a:xfrm>
            <a:off x="2714760" y="3056040"/>
            <a:ext cx="46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enzione allo stile manager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a gestione del persona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17480" y="1266840"/>
            <a:ext cx="8912160" cy="34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a gestione del personale non è un’attività astratta o generica ma è fortemente condizionata: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Dalla cultura aziendale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Dal contesto organizzativo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Dalla situazione di mercato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41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97DD-E7AA-4687-A2AA-5759522AEC41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AutoShape 2"/>
          <p:cNvSpPr/>
          <p:nvPr/>
        </p:nvSpPr>
        <p:spPr>
          <a:xfrm rot="10800000">
            <a:off x="3234960" y="1856520"/>
            <a:ext cx="3608280" cy="180036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sei variabili del modello FABER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3235320" y="3686040"/>
            <a:ext cx="3608280" cy="180036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5">
            <a:hlinkClick r:id="rId1" action="ppaction://hlinksldjump"/>
          </p:cNvPr>
          <p:cNvSpPr/>
          <p:nvPr/>
        </p:nvSpPr>
        <p:spPr>
          <a:xfrm>
            <a:off x="3483000" y="3305160"/>
            <a:ext cx="3219480" cy="6012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118800" bIns="118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tile di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6"/>
          <p:cNvSpPr/>
          <p:nvPr/>
        </p:nvSpPr>
        <p:spPr>
          <a:xfrm rot="5400000">
            <a:off x="4860360" y="-101520"/>
            <a:ext cx="381240" cy="3632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b9f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7"/>
          <p:cNvSpPr/>
          <p:nvPr/>
        </p:nvSpPr>
        <p:spPr>
          <a:xfrm>
            <a:off x="1336680" y="1371600"/>
            <a:ext cx="2219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est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8"/>
          <p:cNvSpPr/>
          <p:nvPr/>
        </p:nvSpPr>
        <p:spPr>
          <a:xfrm>
            <a:off x="6289560" y="1371600"/>
            <a:ext cx="23940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munic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9"/>
          <p:cNvSpPr/>
          <p:nvPr/>
        </p:nvSpPr>
        <p:spPr>
          <a:xfrm>
            <a:off x="3835440" y="914400"/>
            <a:ext cx="2454120" cy="838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rganizz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0"/>
          <p:cNvSpPr/>
          <p:nvPr/>
        </p:nvSpPr>
        <p:spPr>
          <a:xfrm rot="16200000">
            <a:off x="4860720" y="3784320"/>
            <a:ext cx="381240" cy="3632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b9f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11"/>
          <p:cNvSpPr/>
          <p:nvPr/>
        </p:nvSpPr>
        <p:spPr>
          <a:xfrm>
            <a:off x="6454800" y="4952880"/>
            <a:ext cx="2476440" cy="9144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alità delle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l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12"/>
          <p:cNvSpPr/>
          <p:nvPr/>
        </p:nvSpPr>
        <p:spPr>
          <a:xfrm>
            <a:off x="1006560" y="4952880"/>
            <a:ext cx="2641680" cy="9144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alità del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13"/>
          <p:cNvSpPr/>
          <p:nvPr/>
        </p:nvSpPr>
        <p:spPr>
          <a:xfrm>
            <a:off x="3813120" y="5410080"/>
            <a:ext cx="247644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alità delle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st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egnaposto numero diapositiva 1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3568-F34A-4711-BEED-07AC9EB689A7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18864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o schema di Mintzberg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83" name="Segnaposto numero diapositiva 2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63D6-CADB-4849-9704-EA621F8F3677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Immagine 7" descr=""/>
          <p:cNvPicPr/>
          <p:nvPr/>
        </p:nvPicPr>
        <p:blipFill>
          <a:blip r:embed="rId1"/>
          <a:srcRect l="10829" t="26032" r="34611" b="44975"/>
          <a:stretch/>
        </p:blipFill>
        <p:spPr>
          <a:xfrm>
            <a:off x="2000160" y="1413000"/>
            <a:ext cx="6121440" cy="4484520"/>
          </a:xfrm>
          <a:prstGeom prst="rect">
            <a:avLst/>
          </a:prstGeom>
          <a:ln w="0">
            <a:noFill/>
          </a:ln>
        </p:spPr>
      </p:pic>
      <p:sp>
        <p:nvSpPr>
          <p:cNvPr id="185" name="Connettore 1 9"/>
          <p:cNvSpPr/>
          <p:nvPr/>
        </p:nvSpPr>
        <p:spPr>
          <a:xfrm flipH="1">
            <a:off x="2504880" y="3284640"/>
            <a:ext cx="2555640" cy="252072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onnettore 1 11"/>
          <p:cNvSpPr/>
          <p:nvPr/>
        </p:nvSpPr>
        <p:spPr>
          <a:xfrm>
            <a:off x="5060880" y="3284640"/>
            <a:ext cx="3060720" cy="252072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onnettore 1 14"/>
          <p:cNvSpPr/>
          <p:nvPr/>
        </p:nvSpPr>
        <p:spPr>
          <a:xfrm flipV="1">
            <a:off x="5060880" y="907920"/>
            <a:ext cx="0" cy="237672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sellaDiTesto 15"/>
          <p:cNvSpPr/>
          <p:nvPr/>
        </p:nvSpPr>
        <p:spPr>
          <a:xfrm>
            <a:off x="4313520" y="590868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b587c"/>
                </a:solidFill>
                <a:latin typeface="Arial"/>
              </a:rPr>
              <a:t>collabora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sellaDiTesto 16"/>
          <p:cNvSpPr/>
          <p:nvPr/>
        </p:nvSpPr>
        <p:spPr>
          <a:xfrm>
            <a:off x="7195320" y="1547640"/>
            <a:ext cx="227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b587c"/>
                </a:solidFill>
                <a:latin typeface="Arial"/>
              </a:rPr>
              <a:t>superiori e colleg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CasellaDiTesto 17"/>
          <p:cNvSpPr/>
          <p:nvPr/>
        </p:nvSpPr>
        <p:spPr>
          <a:xfrm>
            <a:off x="760680" y="1125360"/>
            <a:ext cx="33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b587c"/>
                </a:solidFill>
                <a:latin typeface="Arial"/>
              </a:rPr>
              <a:t>clienti, fornitori, stakeh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Organizzazion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17480" y="1266840"/>
            <a:ext cx="8912160" cy="34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a chiarezza e l’efficacia della suddivisione del lavoro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58920" indent="-35892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a chiarezza e l’efficacia dei flussi operativi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58920" indent="-35892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a capacità di attivare programmi di innovazione dei prodotti/servizi e dei processi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58920" indent="-35892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Il livello delle tecnologie e degli strumenti disponibili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58920" indent="-35892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a qualità dei layout e degli ambienti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57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E5F2-7F93-42F7-9957-FE8AA7704191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541080" y="249120"/>
            <a:ext cx="88232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Gestion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728280" y="1216080"/>
            <a:ext cx="859788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’esistenza e la conoscenza delle modalità di crescita verticale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58920" indent="-35892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’esistenza e la conoscenza delle opportunità di sviluppo professionale (formazione, mobilità interfuzionale)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58920" indent="-35892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’esistenza ed il funzionamento di un sistema di riconoscimenti (indirizzo e ricompensa delle prestazioni)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60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CA9A-E302-4671-8814-298409CAC196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Comunicazione Intern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71400" y="1252080"/>
            <a:ext cx="87393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’esistenza di attività di comunicazione interna top-down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289080" indent="-28908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’attivazione di canali per ricevere osservazioni e proposte di miglioramento da parte dei dipendenti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289080" indent="-28908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’esistenza di modalità strutturate o meno per diffondere e consolidare la cultura aziendale ed il senso di appartenenza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63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D28D-59B5-460C-A037-93B5840B9697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Stile di Managemen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93360" y="1266840"/>
            <a:ext cx="870444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a presenza di comportamenti orientati alla “guida”: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decidere, definire obiettivi e standard, attribuire compiti, fissare regole, essere portavoce. 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80880" indent="-38088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a presenza di comportamenti orientati allo “stimolo”: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addestrare, incoraggiare, stressare le competenze e superare gli standard, delegare e dare autonomia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80880" indent="-38088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a presenza di comportamenti di “regolazione”: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supervisionare attività, mediare i conflitti, valutare le performance, fornire feedback sulle competenze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66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D609-E240-4FBC-BC79-D762ADF599FF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541080" y="249120"/>
            <a:ext cx="88232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Qualità del Lavor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625320" y="1241280"/>
            <a:ext cx="9001440" cy="45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a “qualità intrinseca” del lavoro svolto in termini di valore organizzativo del ruolo, rilevanza del contributo alla mission d’impresa; margini di autonomia e discrezionalità, possibilità di dimostrare capacità personali, opportunità di apprendimento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80880" indent="-38088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Il livello del “feedback” in termini di gamma ed esplicitazione dei riconoscimenti ottenibili, criteri e processo di valutazione, equità della distribuzione dei riconoscimenti. 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69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F92F-7A88-428A-AFB2-E6ABD9A179FA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Qualità delle Relazion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25480" y="1636200"/>
            <a:ext cx="8655120" cy="31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Il livello di identificazione e di senso di appartenenza verso l’organizzazione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80880" indent="-38088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e modalità e la qualità delle relazioni tra le figure professionali presenti nell’organizzazione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80880" indent="-38088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e modalità e la qualità delle relazioni tra le diverse strutture in cui si articola l’organizzazione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72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8EAA-DFA5-4474-8C68-CF7824C80A09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Una premess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grpSp>
        <p:nvGrpSpPr>
          <p:cNvPr id="374" name="Group 6"/>
          <p:cNvGrpSpPr/>
          <p:nvPr/>
        </p:nvGrpSpPr>
        <p:grpSpPr>
          <a:xfrm>
            <a:off x="474840" y="1174680"/>
            <a:ext cx="1861200" cy="1683720"/>
            <a:chOff x="474840" y="1174680"/>
            <a:chExt cx="1861200" cy="1683720"/>
          </a:xfrm>
        </p:grpSpPr>
        <p:sp>
          <p:nvSpPr>
            <p:cNvPr id="375" name="AutoShape 5"/>
            <p:cNvSpPr/>
            <p:nvPr/>
          </p:nvSpPr>
          <p:spPr>
            <a:xfrm>
              <a:off x="477000" y="1174680"/>
              <a:ext cx="1857240" cy="16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Group 34"/>
            <p:cNvGrpSpPr/>
            <p:nvPr/>
          </p:nvGrpSpPr>
          <p:grpSpPr>
            <a:xfrm>
              <a:off x="715680" y="1175760"/>
              <a:ext cx="1620360" cy="382680"/>
              <a:chOff x="715680" y="1175760"/>
              <a:chExt cx="1620360" cy="382680"/>
            </a:xfrm>
          </p:grpSpPr>
          <p:grpSp>
            <p:nvGrpSpPr>
              <p:cNvPr id="377" name="Group 14"/>
              <p:cNvGrpSpPr/>
              <p:nvPr/>
            </p:nvGrpSpPr>
            <p:grpSpPr>
              <a:xfrm>
                <a:off x="726480" y="1198440"/>
                <a:ext cx="1596600" cy="342360"/>
                <a:chOff x="726480" y="1198440"/>
                <a:chExt cx="1596600" cy="342360"/>
              </a:xfrm>
            </p:grpSpPr>
            <p:sp>
              <p:nvSpPr>
                <p:cNvPr id="378" name="Freeform 7"/>
                <p:cNvSpPr/>
                <p:nvPr/>
              </p:nvSpPr>
              <p:spPr>
                <a:xfrm>
                  <a:off x="726480" y="1302840"/>
                  <a:ext cx="68400" cy="15264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52640"/>
                    <a:gd name="textAreaBottom" fmla="*/ 153000 h 152640"/>
                  </a:gdLst>
                  <a:ahLst/>
                  <a:rect l="textAreaLeft" t="textAreaTop" r="textAreaRight" b="textAreaBottom"/>
                  <a:pathLst>
                    <a:path w="63" h="140">
                      <a:moveTo>
                        <a:pt x="0" y="22"/>
                      </a:moveTo>
                      <a:lnTo>
                        <a:pt x="20" y="0"/>
                      </a:lnTo>
                      <a:lnTo>
                        <a:pt x="55" y="0"/>
                      </a:lnTo>
                      <a:lnTo>
                        <a:pt x="63" y="32"/>
                      </a:lnTo>
                      <a:lnTo>
                        <a:pt x="61" y="127"/>
                      </a:lnTo>
                      <a:lnTo>
                        <a:pt x="37" y="140"/>
                      </a:lnTo>
                      <a:lnTo>
                        <a:pt x="2" y="121"/>
                      </a:lnTo>
                      <a:lnTo>
                        <a:pt x="0" y="56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f9c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Freeform 8"/>
                <p:cNvSpPr/>
                <p:nvPr/>
              </p:nvSpPr>
              <p:spPr>
                <a:xfrm>
                  <a:off x="1152360" y="1257120"/>
                  <a:ext cx="99360" cy="219240"/>
                </a:xfrm>
                <a:custGeom>
                  <a:avLst/>
                  <a:gdLst>
                    <a:gd name="textAreaLeft" fmla="*/ 0 w 99360"/>
                    <a:gd name="textAreaRight" fmla="*/ 99720 w 9936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91" h="201">
                      <a:moveTo>
                        <a:pt x="10" y="55"/>
                      </a:moveTo>
                      <a:lnTo>
                        <a:pt x="12" y="16"/>
                      </a:lnTo>
                      <a:lnTo>
                        <a:pt x="35" y="0"/>
                      </a:lnTo>
                      <a:lnTo>
                        <a:pt x="70" y="5"/>
                      </a:lnTo>
                      <a:lnTo>
                        <a:pt x="91" y="26"/>
                      </a:lnTo>
                      <a:lnTo>
                        <a:pt x="81" y="186"/>
                      </a:lnTo>
                      <a:lnTo>
                        <a:pt x="41" y="201"/>
                      </a:lnTo>
                      <a:lnTo>
                        <a:pt x="0" y="181"/>
                      </a:lnTo>
                      <a:lnTo>
                        <a:pt x="10" y="55"/>
                      </a:lnTo>
                      <a:close/>
                    </a:path>
                  </a:pathLst>
                </a:custGeom>
                <a:solidFill>
                  <a:srgbClr val="f9c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Freeform 9"/>
                <p:cNvSpPr/>
                <p:nvPr/>
              </p:nvSpPr>
              <p:spPr>
                <a:xfrm>
                  <a:off x="1596240" y="1249560"/>
                  <a:ext cx="90360" cy="23760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237600"/>
                    <a:gd name="textAreaBottom" fmla="*/ 237960 h 237600"/>
                  </a:gdLst>
                  <a:ahLst/>
                  <a:rect l="textAreaLeft" t="textAreaTop" r="textAreaRight" b="textAreaBottom"/>
                  <a:pathLst>
                    <a:path w="83" h="218">
                      <a:moveTo>
                        <a:pt x="2" y="22"/>
                      </a:moveTo>
                      <a:lnTo>
                        <a:pt x="23" y="0"/>
                      </a:lnTo>
                      <a:lnTo>
                        <a:pt x="64" y="0"/>
                      </a:lnTo>
                      <a:lnTo>
                        <a:pt x="83" y="24"/>
                      </a:lnTo>
                      <a:lnTo>
                        <a:pt x="81" y="203"/>
                      </a:lnTo>
                      <a:lnTo>
                        <a:pt x="35" y="218"/>
                      </a:lnTo>
                      <a:lnTo>
                        <a:pt x="0" y="198"/>
                      </a:lnTo>
                      <a:lnTo>
                        <a:pt x="2" y="22"/>
                      </a:lnTo>
                      <a:close/>
                    </a:path>
                  </a:pathLst>
                </a:custGeom>
                <a:solidFill>
                  <a:srgbClr val="f9c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Freeform 10"/>
                <p:cNvSpPr/>
                <p:nvPr/>
              </p:nvSpPr>
              <p:spPr>
                <a:xfrm>
                  <a:off x="2231640" y="1198440"/>
                  <a:ext cx="91440" cy="342360"/>
                </a:xfrm>
                <a:custGeom>
                  <a:avLst/>
                  <a:gdLst>
                    <a:gd name="textAreaLeft" fmla="*/ 0 w 91440"/>
                    <a:gd name="textAreaRight" fmla="*/ 91800 w 91440"/>
                    <a:gd name="textAreaTop" fmla="*/ 0 h 342360"/>
                    <a:gd name="textAreaBottom" fmla="*/ 342720 h 342360"/>
                  </a:gdLst>
                  <a:ahLst/>
                  <a:rect l="textAreaLeft" t="textAreaTop" r="textAreaRight" b="textAreaBottom"/>
                  <a:pathLst>
                    <a:path w="84" h="314">
                      <a:moveTo>
                        <a:pt x="6" y="23"/>
                      </a:moveTo>
                      <a:lnTo>
                        <a:pt x="29" y="0"/>
                      </a:lnTo>
                      <a:lnTo>
                        <a:pt x="70" y="0"/>
                      </a:lnTo>
                      <a:lnTo>
                        <a:pt x="84" y="39"/>
                      </a:lnTo>
                      <a:lnTo>
                        <a:pt x="76" y="285"/>
                      </a:lnTo>
                      <a:lnTo>
                        <a:pt x="43" y="314"/>
                      </a:lnTo>
                      <a:lnTo>
                        <a:pt x="0" y="280"/>
                      </a:lnTo>
                      <a:lnTo>
                        <a:pt x="6" y="23"/>
                      </a:lnTo>
                      <a:close/>
                    </a:path>
                  </a:pathLst>
                </a:custGeom>
                <a:solidFill>
                  <a:srgbClr val="f9c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Freeform 11"/>
                <p:cNvSpPr/>
                <p:nvPr/>
              </p:nvSpPr>
              <p:spPr>
                <a:xfrm>
                  <a:off x="789480" y="1309680"/>
                  <a:ext cx="375840" cy="131760"/>
                </a:xfrm>
                <a:custGeom>
                  <a:avLst/>
                  <a:gdLst>
                    <a:gd name="textAreaLeft" fmla="*/ 0 w 375840"/>
                    <a:gd name="textAreaRight" fmla="*/ 376200 w 375840"/>
                    <a:gd name="textAreaTop" fmla="*/ 0 h 131760"/>
                    <a:gd name="textAreaBottom" fmla="*/ 132120 h 131760"/>
                  </a:gdLst>
                  <a:ahLst/>
                  <a:rect l="textAreaLeft" t="textAreaTop" r="textAreaRight" b="textAreaBottom"/>
                  <a:pathLst>
                    <a:path w="345" h="121">
                      <a:moveTo>
                        <a:pt x="0" y="17"/>
                      </a:moveTo>
                      <a:lnTo>
                        <a:pt x="345" y="0"/>
                      </a:lnTo>
                      <a:lnTo>
                        <a:pt x="340" y="121"/>
                      </a:lnTo>
                      <a:lnTo>
                        <a:pt x="0" y="121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Freeform 12"/>
                <p:cNvSpPr/>
                <p:nvPr/>
              </p:nvSpPr>
              <p:spPr>
                <a:xfrm>
                  <a:off x="1238760" y="1280160"/>
                  <a:ext cx="365760" cy="180720"/>
                </a:xfrm>
                <a:custGeom>
                  <a:avLst/>
                  <a:gdLst>
                    <a:gd name="textAreaLeft" fmla="*/ 0 w 365760"/>
                    <a:gd name="textAreaRight" fmla="*/ 366120 w 365760"/>
                    <a:gd name="textAreaTop" fmla="*/ 0 h 180720"/>
                    <a:gd name="textAreaBottom" fmla="*/ 181080 h 180720"/>
                  </a:gdLst>
                  <a:ahLst/>
                  <a:rect l="textAreaLeft" t="textAreaTop" r="textAreaRight" b="textAreaBottom"/>
                  <a:pathLst>
                    <a:path w="336" h="166">
                      <a:moveTo>
                        <a:pt x="14" y="15"/>
                      </a:moveTo>
                      <a:lnTo>
                        <a:pt x="336" y="0"/>
                      </a:lnTo>
                      <a:lnTo>
                        <a:pt x="331" y="166"/>
                      </a:lnTo>
                      <a:lnTo>
                        <a:pt x="0" y="160"/>
                      </a:lnTo>
                      <a:lnTo>
                        <a:pt x="14" y="15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13"/>
                <p:cNvSpPr/>
                <p:nvPr/>
              </p:nvSpPr>
              <p:spPr>
                <a:xfrm>
                  <a:off x="1682280" y="1226520"/>
                  <a:ext cx="558000" cy="289800"/>
                </a:xfrm>
                <a:custGeom>
                  <a:avLst/>
                  <a:gdLst>
                    <a:gd name="textAreaLeft" fmla="*/ 0 w 558000"/>
                    <a:gd name="textAreaRight" fmla="*/ 558360 w 558000"/>
                    <a:gd name="textAreaTop" fmla="*/ 0 h 289800"/>
                    <a:gd name="textAreaBottom" fmla="*/ 290160 h 289800"/>
                  </a:gdLst>
                  <a:ahLst/>
                  <a:rect l="textAreaLeft" t="textAreaTop" r="textAreaRight" b="textAreaBottom"/>
                  <a:pathLst>
                    <a:path w="512" h="266">
                      <a:moveTo>
                        <a:pt x="7" y="40"/>
                      </a:moveTo>
                      <a:lnTo>
                        <a:pt x="512" y="0"/>
                      </a:lnTo>
                      <a:lnTo>
                        <a:pt x="503" y="266"/>
                      </a:lnTo>
                      <a:lnTo>
                        <a:pt x="0" y="219"/>
                      </a:lnTo>
                      <a:lnTo>
                        <a:pt x="7" y="40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5" name="Group 33"/>
              <p:cNvGrpSpPr/>
              <p:nvPr/>
            </p:nvGrpSpPr>
            <p:grpSpPr>
              <a:xfrm>
                <a:off x="715680" y="1175760"/>
                <a:ext cx="1620360" cy="382680"/>
                <a:chOff x="715680" y="1175760"/>
                <a:chExt cx="1620360" cy="382680"/>
              </a:xfrm>
            </p:grpSpPr>
            <p:grpSp>
              <p:nvGrpSpPr>
                <p:cNvPr id="386" name="Group 17"/>
                <p:cNvGrpSpPr/>
                <p:nvPr/>
              </p:nvGrpSpPr>
              <p:grpSpPr>
                <a:xfrm>
                  <a:off x="715680" y="1292040"/>
                  <a:ext cx="94320" cy="172440"/>
                  <a:chOff x="715680" y="1292040"/>
                  <a:chExt cx="94320" cy="172440"/>
                </a:xfrm>
              </p:grpSpPr>
              <p:sp>
                <p:nvSpPr>
                  <p:cNvPr id="387" name="Freeform 15"/>
                  <p:cNvSpPr/>
                  <p:nvPr/>
                </p:nvSpPr>
                <p:spPr>
                  <a:xfrm>
                    <a:off x="734040" y="1292040"/>
                    <a:ext cx="75960" cy="17244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70" h="158">
                        <a:moveTo>
                          <a:pt x="12" y="44"/>
                        </a:moveTo>
                        <a:lnTo>
                          <a:pt x="6" y="28"/>
                        </a:lnTo>
                        <a:lnTo>
                          <a:pt x="24" y="20"/>
                        </a:lnTo>
                        <a:lnTo>
                          <a:pt x="36" y="26"/>
                        </a:lnTo>
                        <a:lnTo>
                          <a:pt x="42" y="37"/>
                        </a:lnTo>
                        <a:lnTo>
                          <a:pt x="42" y="121"/>
                        </a:lnTo>
                        <a:lnTo>
                          <a:pt x="34" y="136"/>
                        </a:lnTo>
                        <a:lnTo>
                          <a:pt x="12" y="132"/>
                        </a:lnTo>
                        <a:lnTo>
                          <a:pt x="4" y="121"/>
                        </a:lnTo>
                        <a:lnTo>
                          <a:pt x="4" y="141"/>
                        </a:lnTo>
                        <a:lnTo>
                          <a:pt x="16" y="152"/>
                        </a:lnTo>
                        <a:lnTo>
                          <a:pt x="34" y="158"/>
                        </a:lnTo>
                        <a:lnTo>
                          <a:pt x="54" y="152"/>
                        </a:lnTo>
                        <a:lnTo>
                          <a:pt x="64" y="132"/>
                        </a:lnTo>
                        <a:lnTo>
                          <a:pt x="70" y="114"/>
                        </a:lnTo>
                        <a:lnTo>
                          <a:pt x="66" y="33"/>
                        </a:lnTo>
                        <a:lnTo>
                          <a:pt x="60" y="17"/>
                        </a:lnTo>
                        <a:lnTo>
                          <a:pt x="46" y="0"/>
                        </a:lnTo>
                        <a:lnTo>
                          <a:pt x="28" y="0"/>
                        </a:lnTo>
                        <a:lnTo>
                          <a:pt x="10" y="4"/>
                        </a:lnTo>
                        <a:lnTo>
                          <a:pt x="0" y="17"/>
                        </a:lnTo>
                        <a:lnTo>
                          <a:pt x="12" y="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Freeform 16"/>
                  <p:cNvSpPr/>
                  <p:nvPr/>
                </p:nvSpPr>
                <p:spPr>
                  <a:xfrm>
                    <a:off x="715680" y="1297440"/>
                    <a:ext cx="61920" cy="158400"/>
                  </a:xfrm>
                  <a:custGeom>
                    <a:avLst/>
                    <a:gdLst>
                      <a:gd name="textAreaLeft" fmla="*/ 0 w 61920"/>
                      <a:gd name="textAreaRight" fmla="*/ 62280 w 61920"/>
                      <a:gd name="textAreaTop" fmla="*/ 0 h 158400"/>
                      <a:gd name="textAreaBottom" fmla="*/ 158760 h 158400"/>
                    </a:gdLst>
                    <a:ahLst/>
                    <a:rect l="textAreaLeft" t="textAreaTop" r="textAreaRight" b="textAreaBottom"/>
                    <a:pathLst>
                      <a:path w="57" h="145">
                        <a:moveTo>
                          <a:pt x="31" y="0"/>
                        </a:moveTo>
                        <a:lnTo>
                          <a:pt x="8" y="11"/>
                        </a:lnTo>
                        <a:lnTo>
                          <a:pt x="0" y="33"/>
                        </a:lnTo>
                        <a:lnTo>
                          <a:pt x="6" y="95"/>
                        </a:lnTo>
                        <a:lnTo>
                          <a:pt x="8" y="128"/>
                        </a:lnTo>
                        <a:lnTo>
                          <a:pt x="18" y="139"/>
                        </a:lnTo>
                        <a:lnTo>
                          <a:pt x="37" y="145"/>
                        </a:lnTo>
                        <a:lnTo>
                          <a:pt x="57" y="145"/>
                        </a:lnTo>
                        <a:lnTo>
                          <a:pt x="31" y="126"/>
                        </a:lnTo>
                        <a:lnTo>
                          <a:pt x="24" y="100"/>
                        </a:lnTo>
                        <a:lnTo>
                          <a:pt x="26" y="33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9" name="Group 20"/>
                <p:cNvGrpSpPr/>
                <p:nvPr/>
              </p:nvGrpSpPr>
              <p:grpSpPr>
                <a:xfrm>
                  <a:off x="1146960" y="1249560"/>
                  <a:ext cx="115560" cy="240120"/>
                  <a:chOff x="1146960" y="1249560"/>
                  <a:chExt cx="115560" cy="240120"/>
                </a:xfrm>
              </p:grpSpPr>
              <p:sp>
                <p:nvSpPr>
                  <p:cNvPr id="390" name="Freeform 18"/>
                  <p:cNvSpPr/>
                  <p:nvPr/>
                </p:nvSpPr>
                <p:spPr>
                  <a:xfrm>
                    <a:off x="1146960" y="1249560"/>
                    <a:ext cx="115560" cy="240120"/>
                  </a:xfrm>
                  <a:custGeom>
                    <a:avLst/>
                    <a:gdLst>
                      <a:gd name="textAreaLeft" fmla="*/ 0 w 115560"/>
                      <a:gd name="textAreaRight" fmla="*/ 115920 w 115560"/>
                      <a:gd name="textAreaTop" fmla="*/ 0 h 240120"/>
                      <a:gd name="textAreaBottom" fmla="*/ 240480 h 240120"/>
                    </a:gdLst>
                    <a:ahLst/>
                    <a:rect l="textAreaLeft" t="textAreaTop" r="textAreaRight" b="textAreaBottom"/>
                    <a:pathLst>
                      <a:path w="106" h="220">
                        <a:moveTo>
                          <a:pt x="23" y="18"/>
                        </a:moveTo>
                        <a:lnTo>
                          <a:pt x="32" y="5"/>
                        </a:lnTo>
                        <a:lnTo>
                          <a:pt x="55" y="0"/>
                        </a:lnTo>
                        <a:lnTo>
                          <a:pt x="78" y="5"/>
                        </a:lnTo>
                        <a:lnTo>
                          <a:pt x="100" y="16"/>
                        </a:lnTo>
                        <a:lnTo>
                          <a:pt x="106" y="40"/>
                        </a:lnTo>
                        <a:lnTo>
                          <a:pt x="102" y="176"/>
                        </a:lnTo>
                        <a:lnTo>
                          <a:pt x="95" y="209"/>
                        </a:lnTo>
                        <a:lnTo>
                          <a:pt x="68" y="220"/>
                        </a:lnTo>
                        <a:lnTo>
                          <a:pt x="38" y="220"/>
                        </a:lnTo>
                        <a:lnTo>
                          <a:pt x="17" y="209"/>
                        </a:lnTo>
                        <a:lnTo>
                          <a:pt x="0" y="191"/>
                        </a:lnTo>
                        <a:lnTo>
                          <a:pt x="0" y="176"/>
                        </a:lnTo>
                        <a:lnTo>
                          <a:pt x="21" y="187"/>
                        </a:lnTo>
                        <a:lnTo>
                          <a:pt x="44" y="196"/>
                        </a:lnTo>
                        <a:lnTo>
                          <a:pt x="62" y="187"/>
                        </a:lnTo>
                        <a:lnTo>
                          <a:pt x="78" y="176"/>
                        </a:lnTo>
                        <a:lnTo>
                          <a:pt x="80" y="142"/>
                        </a:lnTo>
                        <a:lnTo>
                          <a:pt x="80" y="33"/>
                        </a:lnTo>
                        <a:lnTo>
                          <a:pt x="66" y="22"/>
                        </a:lnTo>
                        <a:lnTo>
                          <a:pt x="45" y="24"/>
                        </a:lnTo>
                        <a:lnTo>
                          <a:pt x="23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Freeform 19"/>
                  <p:cNvSpPr/>
                  <p:nvPr/>
                </p:nvSpPr>
                <p:spPr>
                  <a:xfrm>
                    <a:off x="1146960" y="1251720"/>
                    <a:ext cx="69480" cy="220320"/>
                  </a:xfrm>
                  <a:custGeom>
                    <a:avLst/>
                    <a:gdLst>
                      <a:gd name="textAreaLeft" fmla="*/ 0 w 69480"/>
                      <a:gd name="textAreaRight" fmla="*/ 69840 w 69480"/>
                      <a:gd name="textAreaTop" fmla="*/ 0 h 220320"/>
                      <a:gd name="textAreaBottom" fmla="*/ 220680 h 220320"/>
                    </a:gdLst>
                    <a:ahLst/>
                    <a:rect l="textAreaLeft" t="textAreaTop" r="textAreaRight" b="textAreaBottom"/>
                    <a:pathLst>
                      <a:path w="64" h="202">
                        <a:moveTo>
                          <a:pt x="6" y="27"/>
                        </a:moveTo>
                        <a:lnTo>
                          <a:pt x="18" y="11"/>
                        </a:lnTo>
                        <a:lnTo>
                          <a:pt x="42" y="0"/>
                        </a:lnTo>
                        <a:lnTo>
                          <a:pt x="64" y="9"/>
                        </a:lnTo>
                        <a:lnTo>
                          <a:pt x="34" y="27"/>
                        </a:lnTo>
                        <a:lnTo>
                          <a:pt x="28" y="44"/>
                        </a:lnTo>
                        <a:lnTo>
                          <a:pt x="24" y="173"/>
                        </a:lnTo>
                        <a:lnTo>
                          <a:pt x="30" y="189"/>
                        </a:lnTo>
                        <a:lnTo>
                          <a:pt x="52" y="202"/>
                        </a:lnTo>
                        <a:lnTo>
                          <a:pt x="10" y="195"/>
                        </a:lnTo>
                        <a:lnTo>
                          <a:pt x="0" y="178"/>
                        </a:lnTo>
                        <a:lnTo>
                          <a:pt x="6" y="2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Group 23"/>
                <p:cNvGrpSpPr/>
                <p:nvPr/>
              </p:nvGrpSpPr>
              <p:grpSpPr>
                <a:xfrm>
                  <a:off x="1584360" y="1233360"/>
                  <a:ext cx="115200" cy="269280"/>
                  <a:chOff x="1584360" y="1233360"/>
                  <a:chExt cx="115200" cy="269280"/>
                </a:xfrm>
              </p:grpSpPr>
              <p:sp>
                <p:nvSpPr>
                  <p:cNvPr id="393" name="Freeform 21"/>
                  <p:cNvSpPr/>
                  <p:nvPr/>
                </p:nvSpPr>
                <p:spPr>
                  <a:xfrm>
                    <a:off x="1584360" y="1233360"/>
                    <a:ext cx="115200" cy="26928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269280"/>
                      <a:gd name="textAreaBottom" fmla="*/ 269640 h 269280"/>
                    </a:gdLst>
                    <a:ahLst/>
                    <a:rect l="textAreaLeft" t="textAreaTop" r="textAreaRight" b="textAreaBottom"/>
                    <a:pathLst>
                      <a:path w="106" h="247">
                        <a:moveTo>
                          <a:pt x="23" y="20"/>
                        </a:moveTo>
                        <a:lnTo>
                          <a:pt x="32" y="6"/>
                        </a:lnTo>
                        <a:lnTo>
                          <a:pt x="55" y="0"/>
                        </a:lnTo>
                        <a:lnTo>
                          <a:pt x="78" y="6"/>
                        </a:lnTo>
                        <a:lnTo>
                          <a:pt x="100" y="18"/>
                        </a:lnTo>
                        <a:lnTo>
                          <a:pt x="106" y="45"/>
                        </a:lnTo>
                        <a:lnTo>
                          <a:pt x="102" y="198"/>
                        </a:lnTo>
                        <a:lnTo>
                          <a:pt x="95" y="235"/>
                        </a:lnTo>
                        <a:lnTo>
                          <a:pt x="68" y="247"/>
                        </a:lnTo>
                        <a:lnTo>
                          <a:pt x="38" y="247"/>
                        </a:lnTo>
                        <a:lnTo>
                          <a:pt x="17" y="235"/>
                        </a:lnTo>
                        <a:lnTo>
                          <a:pt x="0" y="214"/>
                        </a:lnTo>
                        <a:lnTo>
                          <a:pt x="0" y="198"/>
                        </a:lnTo>
                        <a:lnTo>
                          <a:pt x="21" y="210"/>
                        </a:lnTo>
                        <a:lnTo>
                          <a:pt x="44" y="220"/>
                        </a:lnTo>
                        <a:lnTo>
                          <a:pt x="62" y="210"/>
                        </a:lnTo>
                        <a:lnTo>
                          <a:pt x="78" y="198"/>
                        </a:lnTo>
                        <a:lnTo>
                          <a:pt x="80" y="159"/>
                        </a:lnTo>
                        <a:lnTo>
                          <a:pt x="80" y="37"/>
                        </a:lnTo>
                        <a:lnTo>
                          <a:pt x="66" y="24"/>
                        </a:lnTo>
                        <a:lnTo>
                          <a:pt x="45" y="27"/>
                        </a:lnTo>
                        <a:lnTo>
                          <a:pt x="23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Freeform 22"/>
                  <p:cNvSpPr/>
                  <p:nvPr/>
                </p:nvSpPr>
                <p:spPr>
                  <a:xfrm>
                    <a:off x="1584360" y="1234440"/>
                    <a:ext cx="69480" cy="249480"/>
                  </a:xfrm>
                  <a:custGeom>
                    <a:avLst/>
                    <a:gdLst>
                      <a:gd name="textAreaLeft" fmla="*/ 0 w 69480"/>
                      <a:gd name="textAreaRight" fmla="*/ 69840 w 69480"/>
                      <a:gd name="textAreaTop" fmla="*/ 0 h 249480"/>
                      <a:gd name="textAreaBottom" fmla="*/ 249840 h 249480"/>
                    </a:gdLst>
                    <a:ahLst/>
                    <a:rect l="textAreaLeft" t="textAreaTop" r="textAreaRight" b="textAreaBottom"/>
                    <a:pathLst>
                      <a:path w="64" h="229">
                        <a:moveTo>
                          <a:pt x="6" y="31"/>
                        </a:moveTo>
                        <a:lnTo>
                          <a:pt x="18" y="12"/>
                        </a:lnTo>
                        <a:lnTo>
                          <a:pt x="42" y="0"/>
                        </a:lnTo>
                        <a:lnTo>
                          <a:pt x="64" y="10"/>
                        </a:lnTo>
                        <a:lnTo>
                          <a:pt x="34" y="31"/>
                        </a:lnTo>
                        <a:lnTo>
                          <a:pt x="28" y="50"/>
                        </a:lnTo>
                        <a:lnTo>
                          <a:pt x="24" y="196"/>
                        </a:lnTo>
                        <a:lnTo>
                          <a:pt x="30" y="215"/>
                        </a:lnTo>
                        <a:lnTo>
                          <a:pt x="52" y="229"/>
                        </a:lnTo>
                        <a:lnTo>
                          <a:pt x="10" y="221"/>
                        </a:lnTo>
                        <a:lnTo>
                          <a:pt x="0" y="202"/>
                        </a:lnTo>
                        <a:lnTo>
                          <a:pt x="6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5" name="Group 26"/>
                <p:cNvGrpSpPr/>
                <p:nvPr/>
              </p:nvGrpSpPr>
              <p:grpSpPr>
                <a:xfrm>
                  <a:off x="2220840" y="1175760"/>
                  <a:ext cx="115200" cy="382680"/>
                  <a:chOff x="2220840" y="1175760"/>
                  <a:chExt cx="115200" cy="382680"/>
                </a:xfrm>
              </p:grpSpPr>
              <p:sp>
                <p:nvSpPr>
                  <p:cNvPr id="396" name="Freeform 24"/>
                  <p:cNvSpPr/>
                  <p:nvPr/>
                </p:nvSpPr>
                <p:spPr>
                  <a:xfrm>
                    <a:off x="2220840" y="1175760"/>
                    <a:ext cx="115200" cy="38268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382680"/>
                      <a:gd name="textAreaBottom" fmla="*/ 383040 h 382680"/>
                    </a:gdLst>
                    <a:ahLst/>
                    <a:rect l="textAreaLeft" t="textAreaTop" r="textAreaRight" b="textAreaBottom"/>
                    <a:pathLst>
                      <a:path w="106" h="351">
                        <a:moveTo>
                          <a:pt x="23" y="29"/>
                        </a:moveTo>
                        <a:lnTo>
                          <a:pt x="32" y="9"/>
                        </a:lnTo>
                        <a:lnTo>
                          <a:pt x="55" y="0"/>
                        </a:lnTo>
                        <a:lnTo>
                          <a:pt x="78" y="9"/>
                        </a:lnTo>
                        <a:lnTo>
                          <a:pt x="100" y="26"/>
                        </a:lnTo>
                        <a:lnTo>
                          <a:pt x="106" y="64"/>
                        </a:lnTo>
                        <a:lnTo>
                          <a:pt x="102" y="281"/>
                        </a:lnTo>
                        <a:lnTo>
                          <a:pt x="95" y="334"/>
                        </a:lnTo>
                        <a:lnTo>
                          <a:pt x="68" y="351"/>
                        </a:lnTo>
                        <a:lnTo>
                          <a:pt x="38" y="351"/>
                        </a:lnTo>
                        <a:lnTo>
                          <a:pt x="17" y="334"/>
                        </a:lnTo>
                        <a:lnTo>
                          <a:pt x="0" y="305"/>
                        </a:lnTo>
                        <a:lnTo>
                          <a:pt x="0" y="281"/>
                        </a:lnTo>
                        <a:lnTo>
                          <a:pt x="21" y="299"/>
                        </a:lnTo>
                        <a:lnTo>
                          <a:pt x="44" y="313"/>
                        </a:lnTo>
                        <a:lnTo>
                          <a:pt x="62" y="299"/>
                        </a:lnTo>
                        <a:lnTo>
                          <a:pt x="78" y="281"/>
                        </a:lnTo>
                        <a:lnTo>
                          <a:pt x="80" y="226"/>
                        </a:lnTo>
                        <a:lnTo>
                          <a:pt x="80" y="52"/>
                        </a:lnTo>
                        <a:lnTo>
                          <a:pt x="66" y="35"/>
                        </a:lnTo>
                        <a:lnTo>
                          <a:pt x="45" y="38"/>
                        </a:lnTo>
                        <a:lnTo>
                          <a:pt x="23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Freeform 25"/>
                  <p:cNvSpPr/>
                  <p:nvPr/>
                </p:nvSpPr>
                <p:spPr>
                  <a:xfrm>
                    <a:off x="2220840" y="1177560"/>
                    <a:ext cx="69480" cy="354240"/>
                  </a:xfrm>
                  <a:custGeom>
                    <a:avLst/>
                    <a:gdLst>
                      <a:gd name="textAreaLeft" fmla="*/ 0 w 69480"/>
                      <a:gd name="textAreaRight" fmla="*/ 69840 w 69480"/>
                      <a:gd name="textAreaTop" fmla="*/ 0 h 354240"/>
                      <a:gd name="textAreaBottom" fmla="*/ 354600 h 354240"/>
                    </a:gdLst>
                    <a:ahLst/>
                    <a:rect l="textAreaLeft" t="textAreaTop" r="textAreaRight" b="textAreaBottom"/>
                    <a:pathLst>
                      <a:path w="64" h="325">
                        <a:moveTo>
                          <a:pt x="6" y="44"/>
                        </a:moveTo>
                        <a:lnTo>
                          <a:pt x="18" y="18"/>
                        </a:lnTo>
                        <a:lnTo>
                          <a:pt x="42" y="0"/>
                        </a:lnTo>
                        <a:lnTo>
                          <a:pt x="64" y="15"/>
                        </a:lnTo>
                        <a:lnTo>
                          <a:pt x="34" y="44"/>
                        </a:lnTo>
                        <a:lnTo>
                          <a:pt x="28" y="70"/>
                        </a:lnTo>
                        <a:lnTo>
                          <a:pt x="24" y="278"/>
                        </a:lnTo>
                        <a:lnTo>
                          <a:pt x="30" y="305"/>
                        </a:lnTo>
                        <a:lnTo>
                          <a:pt x="52" y="325"/>
                        </a:lnTo>
                        <a:lnTo>
                          <a:pt x="10" y="313"/>
                        </a:lnTo>
                        <a:lnTo>
                          <a:pt x="0" y="287"/>
                        </a:lnTo>
                        <a:lnTo>
                          <a:pt x="6" y="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8" name="Freeform 27"/>
                <p:cNvSpPr/>
                <p:nvPr/>
              </p:nvSpPr>
              <p:spPr>
                <a:xfrm>
                  <a:off x="1672560" y="1206000"/>
                  <a:ext cx="579600" cy="81720"/>
                </a:xfrm>
                <a:custGeom>
                  <a:avLst/>
                  <a:gdLst>
                    <a:gd name="textAreaLeft" fmla="*/ 0 w 579600"/>
                    <a:gd name="textAreaRight" fmla="*/ 579960 w 579600"/>
                    <a:gd name="textAreaTop" fmla="*/ 0 h 81720"/>
                    <a:gd name="textAreaBottom" fmla="*/ 82080 h 81720"/>
                  </a:gdLst>
                  <a:ahLst/>
                  <a:rect l="textAreaLeft" t="textAreaTop" r="textAreaRight" b="textAreaBottom"/>
                  <a:pathLst>
                    <a:path w="532" h="75">
                      <a:moveTo>
                        <a:pt x="0" y="51"/>
                      </a:moveTo>
                      <a:lnTo>
                        <a:pt x="532" y="0"/>
                      </a:lnTo>
                      <a:lnTo>
                        <a:pt x="521" y="34"/>
                      </a:lnTo>
                      <a:lnTo>
                        <a:pt x="9" y="75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Freeform 28"/>
                <p:cNvSpPr/>
                <p:nvPr/>
              </p:nvSpPr>
              <p:spPr>
                <a:xfrm>
                  <a:off x="1675800" y="1450440"/>
                  <a:ext cx="578880" cy="77400"/>
                </a:xfrm>
                <a:custGeom>
                  <a:avLst/>
                  <a:gdLst>
                    <a:gd name="textAreaLeft" fmla="*/ 0 w 578880"/>
                    <a:gd name="textAreaRight" fmla="*/ 579240 w 578880"/>
                    <a:gd name="textAreaTop" fmla="*/ 0 h 77400"/>
                    <a:gd name="textAreaBottom" fmla="*/ 77760 h 77400"/>
                  </a:gdLst>
                  <a:ahLst/>
                  <a:rect l="textAreaLeft" t="textAreaTop" r="textAreaRight" b="textAreaBottom"/>
                  <a:pathLst>
                    <a:path w="531" h="71">
                      <a:moveTo>
                        <a:pt x="0" y="0"/>
                      </a:moveTo>
                      <a:lnTo>
                        <a:pt x="520" y="41"/>
                      </a:lnTo>
                      <a:lnTo>
                        <a:pt x="531" y="71"/>
                      </a:lnTo>
                      <a:lnTo>
                        <a:pt x="0" y="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29"/>
                <p:cNvSpPr/>
                <p:nvPr/>
              </p:nvSpPr>
              <p:spPr>
                <a:xfrm>
                  <a:off x="1243080" y="1263960"/>
                  <a:ext cx="367200" cy="47880"/>
                </a:xfrm>
                <a:custGeom>
                  <a:avLst/>
                  <a:gdLst>
                    <a:gd name="textAreaLeft" fmla="*/ 0 w 367200"/>
                    <a:gd name="textAreaRight" fmla="*/ 367560 w 367200"/>
                    <a:gd name="textAreaTop" fmla="*/ 0 h 47880"/>
                    <a:gd name="textAreaBottom" fmla="*/ 48240 h 47880"/>
                  </a:gdLst>
                  <a:ahLst/>
                  <a:rect l="textAreaLeft" t="textAreaTop" r="textAreaRight" b="textAreaBottom"/>
                  <a:pathLst>
                    <a:path w="337" h="44">
                      <a:moveTo>
                        <a:pt x="7" y="19"/>
                      </a:moveTo>
                      <a:lnTo>
                        <a:pt x="333" y="0"/>
                      </a:lnTo>
                      <a:lnTo>
                        <a:pt x="337" y="36"/>
                      </a:lnTo>
                      <a:lnTo>
                        <a:pt x="0" y="44"/>
                      </a:lnTo>
                      <a:lnTo>
                        <a:pt x="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30"/>
                <p:cNvSpPr/>
                <p:nvPr/>
              </p:nvSpPr>
              <p:spPr>
                <a:xfrm>
                  <a:off x="1233360" y="1435320"/>
                  <a:ext cx="371520" cy="41400"/>
                </a:xfrm>
                <a:custGeom>
                  <a:avLst/>
                  <a:gdLst>
                    <a:gd name="textAreaLeft" fmla="*/ 0 w 371520"/>
                    <a:gd name="textAreaRight" fmla="*/ 371880 w 37152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341" h="38">
                      <a:moveTo>
                        <a:pt x="9" y="0"/>
                      </a:moveTo>
                      <a:lnTo>
                        <a:pt x="336" y="7"/>
                      </a:lnTo>
                      <a:lnTo>
                        <a:pt x="341" y="38"/>
                      </a:lnTo>
                      <a:lnTo>
                        <a:pt x="0" y="3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31"/>
                <p:cNvSpPr/>
                <p:nvPr/>
              </p:nvSpPr>
              <p:spPr>
                <a:xfrm>
                  <a:off x="792000" y="1297440"/>
                  <a:ext cx="379080" cy="46800"/>
                </a:xfrm>
                <a:custGeom>
                  <a:avLst/>
                  <a:gdLst>
                    <a:gd name="textAreaLeft" fmla="*/ 0 w 379080"/>
                    <a:gd name="textAreaRight" fmla="*/ 379440 w 379080"/>
                    <a:gd name="textAreaTop" fmla="*/ 0 h 46800"/>
                    <a:gd name="textAreaBottom" fmla="*/ 47160 h 46800"/>
                  </a:gdLst>
                  <a:ahLst/>
                  <a:rect l="textAreaLeft" t="textAreaTop" r="textAreaRight" b="textAreaBottom"/>
                  <a:pathLst>
                    <a:path w="348" h="43">
                      <a:moveTo>
                        <a:pt x="5" y="19"/>
                      </a:moveTo>
                      <a:lnTo>
                        <a:pt x="348" y="0"/>
                      </a:lnTo>
                      <a:lnTo>
                        <a:pt x="339" y="30"/>
                      </a:lnTo>
                      <a:lnTo>
                        <a:pt x="0" y="43"/>
                      </a:lnTo>
                      <a:lnTo>
                        <a:pt x="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32"/>
                <p:cNvSpPr/>
                <p:nvPr/>
              </p:nvSpPr>
              <p:spPr>
                <a:xfrm>
                  <a:off x="774360" y="1417680"/>
                  <a:ext cx="392400" cy="36000"/>
                </a:xfrm>
                <a:custGeom>
                  <a:avLst/>
                  <a:gdLst>
                    <a:gd name="textAreaLeft" fmla="*/ 0 w 392400"/>
                    <a:gd name="textAreaRight" fmla="*/ 392760 w 392400"/>
                    <a:gd name="textAreaTop" fmla="*/ 0 h 36000"/>
                    <a:gd name="textAreaBottom" fmla="*/ 36360 h 36000"/>
                  </a:gdLst>
                  <a:ahLst/>
                  <a:rect l="textAreaLeft" t="textAreaTop" r="textAreaRight" b="textAreaBottom"/>
                  <a:pathLst>
                    <a:path w="360" h="33">
                      <a:moveTo>
                        <a:pt x="16" y="5"/>
                      </a:moveTo>
                      <a:lnTo>
                        <a:pt x="358" y="0"/>
                      </a:lnTo>
                      <a:lnTo>
                        <a:pt x="360" y="33"/>
                      </a:lnTo>
                      <a:lnTo>
                        <a:pt x="0" y="28"/>
                      </a:lnTo>
                      <a:lnTo>
                        <a:pt x="1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4" name="Group 41"/>
            <p:cNvGrpSpPr/>
            <p:nvPr/>
          </p:nvGrpSpPr>
          <p:grpSpPr>
            <a:xfrm>
              <a:off x="474840" y="1210680"/>
              <a:ext cx="952920" cy="1647720"/>
              <a:chOff x="474840" y="1210680"/>
              <a:chExt cx="952920" cy="1647720"/>
            </a:xfrm>
          </p:grpSpPr>
          <p:sp>
            <p:nvSpPr>
              <p:cNvPr id="405" name="Freeform 35"/>
              <p:cNvSpPr/>
              <p:nvPr/>
            </p:nvSpPr>
            <p:spPr>
              <a:xfrm>
                <a:off x="474840" y="1210680"/>
                <a:ext cx="371520" cy="342360"/>
              </a:xfrm>
              <a:custGeom>
                <a:avLst/>
                <a:gdLst>
                  <a:gd name="textAreaLeft" fmla="*/ 0 w 371520"/>
                  <a:gd name="textAreaRight" fmla="*/ 371880 w 371520"/>
                  <a:gd name="textAreaTop" fmla="*/ 0 h 342360"/>
                  <a:gd name="textAreaBottom" fmla="*/ 342720 h 342360"/>
                </a:gdLst>
                <a:ahLst/>
                <a:rect l="textAreaLeft" t="textAreaTop" r="textAreaRight" b="textAreaBottom"/>
                <a:pathLst>
                  <a:path w="341" h="314">
                    <a:moveTo>
                      <a:pt x="232" y="158"/>
                    </a:moveTo>
                    <a:lnTo>
                      <a:pt x="217" y="120"/>
                    </a:lnTo>
                    <a:lnTo>
                      <a:pt x="201" y="83"/>
                    </a:lnTo>
                    <a:lnTo>
                      <a:pt x="179" y="43"/>
                    </a:lnTo>
                    <a:lnTo>
                      <a:pt x="158" y="18"/>
                    </a:lnTo>
                    <a:lnTo>
                      <a:pt x="136" y="5"/>
                    </a:lnTo>
                    <a:lnTo>
                      <a:pt x="108" y="0"/>
                    </a:lnTo>
                    <a:lnTo>
                      <a:pt x="77" y="0"/>
                    </a:lnTo>
                    <a:lnTo>
                      <a:pt x="50" y="7"/>
                    </a:lnTo>
                    <a:lnTo>
                      <a:pt x="27" y="29"/>
                    </a:lnTo>
                    <a:lnTo>
                      <a:pt x="11" y="59"/>
                    </a:lnTo>
                    <a:lnTo>
                      <a:pt x="0" y="92"/>
                    </a:lnTo>
                    <a:lnTo>
                      <a:pt x="0" y="129"/>
                    </a:lnTo>
                    <a:lnTo>
                      <a:pt x="11" y="179"/>
                    </a:lnTo>
                    <a:lnTo>
                      <a:pt x="32" y="226"/>
                    </a:lnTo>
                    <a:lnTo>
                      <a:pt x="54" y="258"/>
                    </a:lnTo>
                    <a:lnTo>
                      <a:pt x="83" y="285"/>
                    </a:lnTo>
                    <a:lnTo>
                      <a:pt x="120" y="309"/>
                    </a:lnTo>
                    <a:lnTo>
                      <a:pt x="156" y="314"/>
                    </a:lnTo>
                    <a:lnTo>
                      <a:pt x="183" y="314"/>
                    </a:lnTo>
                    <a:lnTo>
                      <a:pt x="205" y="307"/>
                    </a:lnTo>
                    <a:lnTo>
                      <a:pt x="217" y="291"/>
                    </a:lnTo>
                    <a:lnTo>
                      <a:pt x="233" y="269"/>
                    </a:lnTo>
                    <a:lnTo>
                      <a:pt x="239" y="231"/>
                    </a:lnTo>
                    <a:lnTo>
                      <a:pt x="242" y="201"/>
                    </a:lnTo>
                    <a:lnTo>
                      <a:pt x="280" y="221"/>
                    </a:lnTo>
                    <a:lnTo>
                      <a:pt x="328" y="231"/>
                    </a:lnTo>
                    <a:lnTo>
                      <a:pt x="341" y="215"/>
                    </a:lnTo>
                    <a:lnTo>
                      <a:pt x="339" y="194"/>
                    </a:lnTo>
                    <a:lnTo>
                      <a:pt x="298" y="179"/>
                    </a:lnTo>
                    <a:lnTo>
                      <a:pt x="255" y="172"/>
                    </a:lnTo>
                    <a:lnTo>
                      <a:pt x="232" y="1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36"/>
              <p:cNvSpPr/>
              <p:nvPr/>
            </p:nvSpPr>
            <p:spPr>
              <a:xfrm>
                <a:off x="578160" y="1595520"/>
                <a:ext cx="325800" cy="575280"/>
              </a:xfrm>
              <a:custGeom>
                <a:avLst/>
                <a:gdLst>
                  <a:gd name="textAreaLeft" fmla="*/ 0 w 325800"/>
                  <a:gd name="textAreaRight" fmla="*/ 326160 w 325800"/>
                  <a:gd name="textAreaTop" fmla="*/ 0 h 575280"/>
                  <a:gd name="textAreaBottom" fmla="*/ 575640 h 575280"/>
                </a:gdLst>
                <a:ahLst/>
                <a:rect l="textAreaLeft" t="textAreaTop" r="textAreaRight" b="textAreaBottom"/>
                <a:pathLst>
                  <a:path w="299" h="527">
                    <a:moveTo>
                      <a:pt x="61" y="11"/>
                    </a:moveTo>
                    <a:lnTo>
                      <a:pt x="110" y="0"/>
                    </a:lnTo>
                    <a:lnTo>
                      <a:pt x="148" y="4"/>
                    </a:lnTo>
                    <a:lnTo>
                      <a:pt x="169" y="14"/>
                    </a:lnTo>
                    <a:lnTo>
                      <a:pt x="207" y="46"/>
                    </a:lnTo>
                    <a:lnTo>
                      <a:pt x="232" y="84"/>
                    </a:lnTo>
                    <a:lnTo>
                      <a:pt x="250" y="121"/>
                    </a:lnTo>
                    <a:lnTo>
                      <a:pt x="270" y="171"/>
                    </a:lnTo>
                    <a:lnTo>
                      <a:pt x="288" y="224"/>
                    </a:lnTo>
                    <a:lnTo>
                      <a:pt x="299" y="292"/>
                    </a:lnTo>
                    <a:lnTo>
                      <a:pt x="297" y="340"/>
                    </a:lnTo>
                    <a:lnTo>
                      <a:pt x="292" y="390"/>
                    </a:lnTo>
                    <a:lnTo>
                      <a:pt x="277" y="431"/>
                    </a:lnTo>
                    <a:lnTo>
                      <a:pt x="261" y="463"/>
                    </a:lnTo>
                    <a:lnTo>
                      <a:pt x="232" y="493"/>
                    </a:lnTo>
                    <a:lnTo>
                      <a:pt x="195" y="515"/>
                    </a:lnTo>
                    <a:lnTo>
                      <a:pt x="153" y="525"/>
                    </a:lnTo>
                    <a:lnTo>
                      <a:pt x="110" y="527"/>
                    </a:lnTo>
                    <a:lnTo>
                      <a:pt x="70" y="516"/>
                    </a:lnTo>
                    <a:lnTo>
                      <a:pt x="49" y="500"/>
                    </a:lnTo>
                    <a:lnTo>
                      <a:pt x="27" y="474"/>
                    </a:lnTo>
                    <a:lnTo>
                      <a:pt x="18" y="442"/>
                    </a:lnTo>
                    <a:lnTo>
                      <a:pt x="16" y="408"/>
                    </a:lnTo>
                    <a:lnTo>
                      <a:pt x="18" y="369"/>
                    </a:lnTo>
                    <a:lnTo>
                      <a:pt x="38" y="336"/>
                    </a:lnTo>
                    <a:lnTo>
                      <a:pt x="59" y="299"/>
                    </a:lnTo>
                    <a:lnTo>
                      <a:pt x="70" y="276"/>
                    </a:lnTo>
                    <a:lnTo>
                      <a:pt x="65" y="240"/>
                    </a:lnTo>
                    <a:lnTo>
                      <a:pt x="50" y="214"/>
                    </a:lnTo>
                    <a:lnTo>
                      <a:pt x="29" y="187"/>
                    </a:lnTo>
                    <a:lnTo>
                      <a:pt x="7" y="150"/>
                    </a:lnTo>
                    <a:lnTo>
                      <a:pt x="0" y="112"/>
                    </a:lnTo>
                    <a:lnTo>
                      <a:pt x="5" y="75"/>
                    </a:lnTo>
                    <a:lnTo>
                      <a:pt x="18" y="46"/>
                    </a:lnTo>
                    <a:lnTo>
                      <a:pt x="38" y="27"/>
                    </a:lnTo>
                    <a:lnTo>
                      <a:pt x="6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37"/>
              <p:cNvSpPr/>
              <p:nvPr/>
            </p:nvSpPr>
            <p:spPr>
              <a:xfrm>
                <a:off x="648360" y="1335960"/>
                <a:ext cx="779400" cy="404640"/>
              </a:xfrm>
              <a:custGeom>
                <a:avLst/>
                <a:gdLst>
                  <a:gd name="textAreaLeft" fmla="*/ 0 w 779400"/>
                  <a:gd name="textAreaRight" fmla="*/ 779760 w 77940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715" h="371">
                    <a:moveTo>
                      <a:pt x="41" y="269"/>
                    </a:moveTo>
                    <a:lnTo>
                      <a:pt x="20" y="276"/>
                    </a:lnTo>
                    <a:lnTo>
                      <a:pt x="0" y="303"/>
                    </a:lnTo>
                    <a:lnTo>
                      <a:pt x="11" y="330"/>
                    </a:lnTo>
                    <a:lnTo>
                      <a:pt x="51" y="351"/>
                    </a:lnTo>
                    <a:lnTo>
                      <a:pt x="126" y="367"/>
                    </a:lnTo>
                    <a:lnTo>
                      <a:pt x="192" y="371"/>
                    </a:lnTo>
                    <a:lnTo>
                      <a:pt x="287" y="362"/>
                    </a:lnTo>
                    <a:lnTo>
                      <a:pt x="367" y="351"/>
                    </a:lnTo>
                    <a:lnTo>
                      <a:pt x="394" y="351"/>
                    </a:lnTo>
                    <a:lnTo>
                      <a:pt x="413" y="341"/>
                    </a:lnTo>
                    <a:lnTo>
                      <a:pt x="431" y="312"/>
                    </a:lnTo>
                    <a:lnTo>
                      <a:pt x="463" y="263"/>
                    </a:lnTo>
                    <a:lnTo>
                      <a:pt x="504" y="228"/>
                    </a:lnTo>
                    <a:lnTo>
                      <a:pt x="548" y="185"/>
                    </a:lnTo>
                    <a:lnTo>
                      <a:pt x="584" y="158"/>
                    </a:lnTo>
                    <a:lnTo>
                      <a:pt x="623" y="136"/>
                    </a:lnTo>
                    <a:lnTo>
                      <a:pt x="669" y="125"/>
                    </a:lnTo>
                    <a:lnTo>
                      <a:pt x="694" y="115"/>
                    </a:lnTo>
                    <a:lnTo>
                      <a:pt x="715" y="97"/>
                    </a:lnTo>
                    <a:lnTo>
                      <a:pt x="706" y="72"/>
                    </a:lnTo>
                    <a:lnTo>
                      <a:pt x="674" y="65"/>
                    </a:lnTo>
                    <a:lnTo>
                      <a:pt x="649" y="54"/>
                    </a:lnTo>
                    <a:lnTo>
                      <a:pt x="642" y="23"/>
                    </a:lnTo>
                    <a:lnTo>
                      <a:pt x="623" y="0"/>
                    </a:lnTo>
                    <a:lnTo>
                      <a:pt x="600" y="11"/>
                    </a:lnTo>
                    <a:lnTo>
                      <a:pt x="601" y="50"/>
                    </a:lnTo>
                    <a:lnTo>
                      <a:pt x="623" y="81"/>
                    </a:lnTo>
                    <a:lnTo>
                      <a:pt x="612" y="99"/>
                    </a:lnTo>
                    <a:lnTo>
                      <a:pt x="575" y="129"/>
                    </a:lnTo>
                    <a:lnTo>
                      <a:pt x="516" y="163"/>
                    </a:lnTo>
                    <a:lnTo>
                      <a:pt x="452" y="206"/>
                    </a:lnTo>
                    <a:lnTo>
                      <a:pt x="408" y="247"/>
                    </a:lnTo>
                    <a:lnTo>
                      <a:pt x="378" y="285"/>
                    </a:lnTo>
                    <a:lnTo>
                      <a:pt x="357" y="292"/>
                    </a:lnTo>
                    <a:lnTo>
                      <a:pt x="312" y="296"/>
                    </a:lnTo>
                    <a:lnTo>
                      <a:pt x="229" y="298"/>
                    </a:lnTo>
                    <a:lnTo>
                      <a:pt x="160" y="298"/>
                    </a:lnTo>
                    <a:lnTo>
                      <a:pt x="101" y="287"/>
                    </a:lnTo>
                    <a:lnTo>
                      <a:pt x="41" y="2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38"/>
              <p:cNvSpPr/>
              <p:nvPr/>
            </p:nvSpPr>
            <p:spPr>
              <a:xfrm>
                <a:off x="677520" y="1257120"/>
                <a:ext cx="409680" cy="496800"/>
              </a:xfrm>
              <a:custGeom>
                <a:avLst/>
                <a:gdLst>
                  <a:gd name="textAreaLeft" fmla="*/ 0 w 409680"/>
                  <a:gd name="textAreaRight" fmla="*/ 410040 w 409680"/>
                  <a:gd name="textAreaTop" fmla="*/ 0 h 496800"/>
                  <a:gd name="textAreaBottom" fmla="*/ 497160 h 496800"/>
                </a:gdLst>
                <a:ahLst/>
                <a:rect l="textAreaLeft" t="textAreaTop" r="textAreaRight" b="textAreaBottom"/>
                <a:pathLst>
                  <a:path w="376" h="455">
                    <a:moveTo>
                      <a:pt x="32" y="325"/>
                    </a:moveTo>
                    <a:lnTo>
                      <a:pt x="4" y="332"/>
                    </a:lnTo>
                    <a:lnTo>
                      <a:pt x="0" y="357"/>
                    </a:lnTo>
                    <a:lnTo>
                      <a:pt x="21" y="391"/>
                    </a:lnTo>
                    <a:lnTo>
                      <a:pt x="64" y="416"/>
                    </a:lnTo>
                    <a:lnTo>
                      <a:pt x="113" y="439"/>
                    </a:lnTo>
                    <a:lnTo>
                      <a:pt x="186" y="455"/>
                    </a:lnTo>
                    <a:lnTo>
                      <a:pt x="274" y="455"/>
                    </a:lnTo>
                    <a:lnTo>
                      <a:pt x="295" y="453"/>
                    </a:lnTo>
                    <a:lnTo>
                      <a:pt x="301" y="405"/>
                    </a:lnTo>
                    <a:lnTo>
                      <a:pt x="310" y="341"/>
                    </a:lnTo>
                    <a:lnTo>
                      <a:pt x="312" y="268"/>
                    </a:lnTo>
                    <a:lnTo>
                      <a:pt x="315" y="228"/>
                    </a:lnTo>
                    <a:lnTo>
                      <a:pt x="322" y="196"/>
                    </a:lnTo>
                    <a:lnTo>
                      <a:pt x="342" y="180"/>
                    </a:lnTo>
                    <a:lnTo>
                      <a:pt x="376" y="171"/>
                    </a:lnTo>
                    <a:lnTo>
                      <a:pt x="374" y="153"/>
                    </a:lnTo>
                    <a:lnTo>
                      <a:pt x="317" y="153"/>
                    </a:lnTo>
                    <a:lnTo>
                      <a:pt x="304" y="118"/>
                    </a:lnTo>
                    <a:lnTo>
                      <a:pt x="288" y="96"/>
                    </a:lnTo>
                    <a:lnTo>
                      <a:pt x="285" y="68"/>
                    </a:lnTo>
                    <a:lnTo>
                      <a:pt x="299" y="43"/>
                    </a:lnTo>
                    <a:lnTo>
                      <a:pt x="322" y="37"/>
                    </a:lnTo>
                    <a:lnTo>
                      <a:pt x="328" y="20"/>
                    </a:lnTo>
                    <a:lnTo>
                      <a:pt x="299" y="4"/>
                    </a:lnTo>
                    <a:lnTo>
                      <a:pt x="261" y="0"/>
                    </a:lnTo>
                    <a:lnTo>
                      <a:pt x="240" y="11"/>
                    </a:lnTo>
                    <a:lnTo>
                      <a:pt x="224" y="43"/>
                    </a:lnTo>
                    <a:lnTo>
                      <a:pt x="213" y="64"/>
                    </a:lnTo>
                    <a:lnTo>
                      <a:pt x="220" y="96"/>
                    </a:lnTo>
                    <a:lnTo>
                      <a:pt x="231" y="128"/>
                    </a:lnTo>
                    <a:lnTo>
                      <a:pt x="258" y="159"/>
                    </a:lnTo>
                    <a:lnTo>
                      <a:pt x="283" y="177"/>
                    </a:lnTo>
                    <a:lnTo>
                      <a:pt x="285" y="214"/>
                    </a:lnTo>
                    <a:lnTo>
                      <a:pt x="279" y="284"/>
                    </a:lnTo>
                    <a:lnTo>
                      <a:pt x="272" y="337"/>
                    </a:lnTo>
                    <a:lnTo>
                      <a:pt x="252" y="389"/>
                    </a:lnTo>
                    <a:lnTo>
                      <a:pt x="242" y="394"/>
                    </a:lnTo>
                    <a:lnTo>
                      <a:pt x="186" y="389"/>
                    </a:lnTo>
                    <a:lnTo>
                      <a:pt x="134" y="375"/>
                    </a:lnTo>
                    <a:lnTo>
                      <a:pt x="102" y="353"/>
                    </a:lnTo>
                    <a:lnTo>
                      <a:pt x="68" y="337"/>
                    </a:lnTo>
                    <a:lnTo>
                      <a:pt x="32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39"/>
              <p:cNvSpPr/>
              <p:nvPr/>
            </p:nvSpPr>
            <p:spPr>
              <a:xfrm>
                <a:off x="619920" y="2030040"/>
                <a:ext cx="287640" cy="828360"/>
              </a:xfrm>
              <a:custGeom>
                <a:avLst/>
                <a:gdLst>
                  <a:gd name="textAreaLeft" fmla="*/ 0 w 287640"/>
                  <a:gd name="textAreaRight" fmla="*/ 288000 w 287640"/>
                  <a:gd name="textAreaTop" fmla="*/ 0 h 828360"/>
                  <a:gd name="textAreaBottom" fmla="*/ 828720 h 828360"/>
                </a:gdLst>
                <a:ahLst/>
                <a:rect l="textAreaLeft" t="textAreaTop" r="textAreaRight" b="textAreaBottom"/>
                <a:pathLst>
                  <a:path w="264" h="759">
                    <a:moveTo>
                      <a:pt x="16" y="101"/>
                    </a:moveTo>
                    <a:lnTo>
                      <a:pt x="9" y="62"/>
                    </a:lnTo>
                    <a:lnTo>
                      <a:pt x="16" y="25"/>
                    </a:lnTo>
                    <a:lnTo>
                      <a:pt x="43" y="0"/>
                    </a:lnTo>
                    <a:lnTo>
                      <a:pt x="74" y="9"/>
                    </a:lnTo>
                    <a:lnTo>
                      <a:pt x="103" y="41"/>
                    </a:lnTo>
                    <a:lnTo>
                      <a:pt x="112" y="94"/>
                    </a:lnTo>
                    <a:lnTo>
                      <a:pt x="119" y="179"/>
                    </a:lnTo>
                    <a:lnTo>
                      <a:pt x="118" y="255"/>
                    </a:lnTo>
                    <a:lnTo>
                      <a:pt x="108" y="329"/>
                    </a:lnTo>
                    <a:lnTo>
                      <a:pt x="98" y="409"/>
                    </a:lnTo>
                    <a:lnTo>
                      <a:pt x="81" y="471"/>
                    </a:lnTo>
                    <a:lnTo>
                      <a:pt x="74" y="508"/>
                    </a:lnTo>
                    <a:lnTo>
                      <a:pt x="71" y="573"/>
                    </a:lnTo>
                    <a:lnTo>
                      <a:pt x="80" y="616"/>
                    </a:lnTo>
                    <a:lnTo>
                      <a:pt x="96" y="646"/>
                    </a:lnTo>
                    <a:lnTo>
                      <a:pt x="118" y="662"/>
                    </a:lnTo>
                    <a:lnTo>
                      <a:pt x="161" y="683"/>
                    </a:lnTo>
                    <a:lnTo>
                      <a:pt x="221" y="695"/>
                    </a:lnTo>
                    <a:lnTo>
                      <a:pt x="250" y="701"/>
                    </a:lnTo>
                    <a:lnTo>
                      <a:pt x="264" y="715"/>
                    </a:lnTo>
                    <a:lnTo>
                      <a:pt x="259" y="725"/>
                    </a:lnTo>
                    <a:lnTo>
                      <a:pt x="242" y="736"/>
                    </a:lnTo>
                    <a:lnTo>
                      <a:pt x="204" y="757"/>
                    </a:lnTo>
                    <a:lnTo>
                      <a:pt x="166" y="759"/>
                    </a:lnTo>
                    <a:lnTo>
                      <a:pt x="146" y="752"/>
                    </a:lnTo>
                    <a:lnTo>
                      <a:pt x="128" y="731"/>
                    </a:lnTo>
                    <a:lnTo>
                      <a:pt x="96" y="709"/>
                    </a:lnTo>
                    <a:lnTo>
                      <a:pt x="43" y="690"/>
                    </a:lnTo>
                    <a:lnTo>
                      <a:pt x="25" y="688"/>
                    </a:lnTo>
                    <a:lnTo>
                      <a:pt x="5" y="683"/>
                    </a:lnTo>
                    <a:lnTo>
                      <a:pt x="0" y="667"/>
                    </a:lnTo>
                    <a:lnTo>
                      <a:pt x="0" y="642"/>
                    </a:lnTo>
                    <a:lnTo>
                      <a:pt x="11" y="619"/>
                    </a:lnTo>
                    <a:lnTo>
                      <a:pt x="27" y="594"/>
                    </a:lnTo>
                    <a:lnTo>
                      <a:pt x="33" y="531"/>
                    </a:lnTo>
                    <a:lnTo>
                      <a:pt x="31" y="456"/>
                    </a:lnTo>
                    <a:lnTo>
                      <a:pt x="36" y="402"/>
                    </a:lnTo>
                    <a:lnTo>
                      <a:pt x="43" y="350"/>
                    </a:lnTo>
                    <a:lnTo>
                      <a:pt x="42" y="303"/>
                    </a:lnTo>
                    <a:lnTo>
                      <a:pt x="33" y="237"/>
                    </a:lnTo>
                    <a:lnTo>
                      <a:pt x="25" y="186"/>
                    </a:lnTo>
                    <a:lnTo>
                      <a:pt x="27" y="133"/>
                    </a:lnTo>
                    <a:lnTo>
                      <a:pt x="16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40"/>
              <p:cNvSpPr/>
              <p:nvPr/>
            </p:nvSpPr>
            <p:spPr>
              <a:xfrm>
                <a:off x="717840" y="2040120"/>
                <a:ext cx="326880" cy="726840"/>
              </a:xfrm>
              <a:custGeom>
                <a:avLst/>
                <a:gdLst/>
                <a:ahLst/>
                <a:rect l="l" t="t" r="r" b="b"/>
                <a:pathLst>
                  <a:path w="300" h="666">
                    <a:moveTo>
                      <a:pt x="65" y="0"/>
                    </a:moveTo>
                    <a:lnTo>
                      <a:pt x="108" y="44"/>
                    </a:lnTo>
                    <a:lnTo>
                      <a:pt x="133" y="90"/>
                    </a:lnTo>
                    <a:lnTo>
                      <a:pt x="154" y="143"/>
                    </a:lnTo>
                    <a:lnTo>
                      <a:pt x="171" y="207"/>
                    </a:lnTo>
                    <a:lnTo>
                      <a:pt x="178" y="273"/>
                    </a:lnTo>
                    <a:lnTo>
                      <a:pt x="172" y="335"/>
                    </a:lnTo>
                    <a:lnTo>
                      <a:pt x="165" y="399"/>
                    </a:lnTo>
                    <a:lnTo>
                      <a:pt x="156" y="462"/>
                    </a:lnTo>
                    <a:lnTo>
                      <a:pt x="140" y="523"/>
                    </a:lnTo>
                    <a:lnTo>
                      <a:pt x="138" y="560"/>
                    </a:lnTo>
                    <a:lnTo>
                      <a:pt x="144" y="579"/>
                    </a:lnTo>
                    <a:lnTo>
                      <a:pt x="176" y="586"/>
                    </a:lnTo>
                    <a:lnTo>
                      <a:pt x="225" y="592"/>
                    </a:lnTo>
                    <a:lnTo>
                      <a:pt x="280" y="608"/>
                    </a:lnTo>
                    <a:lnTo>
                      <a:pt x="289" y="622"/>
                    </a:lnTo>
                    <a:lnTo>
                      <a:pt x="300" y="654"/>
                    </a:lnTo>
                    <a:lnTo>
                      <a:pt x="295" y="664"/>
                    </a:lnTo>
                    <a:lnTo>
                      <a:pt x="273" y="666"/>
                    </a:lnTo>
                    <a:lnTo>
                      <a:pt x="226" y="655"/>
                    </a:lnTo>
                    <a:lnTo>
                      <a:pt x="181" y="634"/>
                    </a:lnTo>
                    <a:lnTo>
                      <a:pt x="135" y="629"/>
                    </a:lnTo>
                    <a:lnTo>
                      <a:pt x="108" y="627"/>
                    </a:lnTo>
                    <a:lnTo>
                      <a:pt x="79" y="616"/>
                    </a:lnTo>
                    <a:lnTo>
                      <a:pt x="74" y="597"/>
                    </a:lnTo>
                    <a:lnTo>
                      <a:pt x="79" y="574"/>
                    </a:lnTo>
                    <a:lnTo>
                      <a:pt x="97" y="542"/>
                    </a:lnTo>
                    <a:lnTo>
                      <a:pt x="113" y="505"/>
                    </a:lnTo>
                    <a:lnTo>
                      <a:pt x="122" y="422"/>
                    </a:lnTo>
                    <a:lnTo>
                      <a:pt x="122" y="363"/>
                    </a:lnTo>
                    <a:lnTo>
                      <a:pt x="122" y="319"/>
                    </a:lnTo>
                    <a:lnTo>
                      <a:pt x="119" y="273"/>
                    </a:lnTo>
                    <a:lnTo>
                      <a:pt x="108" y="234"/>
                    </a:lnTo>
                    <a:lnTo>
                      <a:pt x="95" y="188"/>
                    </a:lnTo>
                    <a:lnTo>
                      <a:pt x="65" y="143"/>
                    </a:lnTo>
                    <a:lnTo>
                      <a:pt x="41" y="108"/>
                    </a:lnTo>
                    <a:lnTo>
                      <a:pt x="11" y="64"/>
                    </a:lnTo>
                    <a:lnTo>
                      <a:pt x="0" y="34"/>
                    </a:lnTo>
                    <a:lnTo>
                      <a:pt x="11" y="5"/>
                    </a:lnTo>
                    <a:lnTo>
                      <a:pt x="32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1" name="Connettore 1 41"/>
          <p:cNvSpPr/>
          <p:nvPr/>
        </p:nvSpPr>
        <p:spPr>
          <a:xfrm>
            <a:off x="798480" y="3137040"/>
            <a:ext cx="3773520" cy="321768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Connettore 1 43"/>
          <p:cNvSpPr/>
          <p:nvPr/>
        </p:nvSpPr>
        <p:spPr>
          <a:xfrm>
            <a:off x="2847960" y="1216080"/>
            <a:ext cx="6029280" cy="36972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e 44"/>
          <p:cNvSpPr/>
          <p:nvPr/>
        </p:nvSpPr>
        <p:spPr>
          <a:xfrm>
            <a:off x="3992400" y="1967040"/>
            <a:ext cx="2894040" cy="1355760"/>
          </a:xfrm>
          <a:prstGeom prst="ellipse">
            <a:avLst/>
          </a:prstGeom>
          <a:noFill/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49320" bIns="49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ASPETTI ORGANIZZA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e 45"/>
          <p:cNvSpPr/>
          <p:nvPr/>
        </p:nvSpPr>
        <p:spPr>
          <a:xfrm>
            <a:off x="4840200" y="3902040"/>
            <a:ext cx="2894040" cy="1354320"/>
          </a:xfrm>
          <a:prstGeom prst="ellipse">
            <a:avLst/>
          </a:prstGeom>
          <a:noFill/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49320" bIns="49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STILE MANAGER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CasellaDiTesto 46"/>
          <p:cNvSpPr/>
          <p:nvPr/>
        </p:nvSpPr>
        <p:spPr>
          <a:xfrm rot="18176400">
            <a:off x="1242360" y="2149560"/>
            <a:ext cx="206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NOSTRO</a:t>
            </a:r>
            <a:br>
              <a:rPr sz="1800"/>
            </a:b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 PUNTO DI V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egnaposto numero diapositiva 45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41FF-F887-4B08-88D9-80EA4ED8EC09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leve organizzativ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18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F157-85CC-47FD-8B5C-8E555B67B90F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CasellaDiTesto 2"/>
          <p:cNvSpPr/>
          <p:nvPr/>
        </p:nvSpPr>
        <p:spPr>
          <a:xfrm>
            <a:off x="638640" y="1424160"/>
            <a:ext cx="8374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8920" indent="-358920">
              <a:lnSpc>
                <a:spcPct val="15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hiarezza dell’organizzazione e adeguatezza dei proce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5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mbienti e strumenti sicuri e adegu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5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ircolazione delle inform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5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istema di valutazione delle prest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5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istema per legare le ricompense alle prest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5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iani di formazione e mobilità int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5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Momenti definiti di comunicazione int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3"/>
          <p:cNvSpPr/>
          <p:nvPr/>
        </p:nvSpPr>
        <p:spPr>
          <a:xfrm>
            <a:off x="695160" y="1158840"/>
            <a:ext cx="852516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ouglas McGreg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lo stile di direzione di un capo è condizionato dal modo in cui egli considera la natura uman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questo determina due ipotesi sull’uomo in relazione al suo lavoro: “Teoria X” e “Teoria 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673200" y="4135320"/>
            <a:ext cx="854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obert Blake e Jane Mout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nalizzano quanto i capi considerino come fattori rilevanti per il loro successo la produzione o le pers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“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Griglia manageria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Gli stili di direzion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23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9EAF-0911-4052-AD4A-E0E1596D32CF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3"/>
          <p:cNvSpPr/>
          <p:nvPr/>
        </p:nvSpPr>
        <p:spPr>
          <a:xfrm>
            <a:off x="695160" y="1014480"/>
            <a:ext cx="8525160" cy="50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40000"/>
              </a:lnSpc>
              <a:spcBef>
                <a:spcPts val="1500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L’essere umano di solito ha una resistenza innata al lavoro e se è possibile lo eviterà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40000"/>
              </a:lnSpc>
              <a:spcBef>
                <a:spcPts val="1500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 causa della resistenza dell’uomo al lavoro, egli deve essere controllato, diretto o minacciato di punizioni per indurlo ad impiegare uno sforzo adeguato verso il raggiungimento degli obiettivi dell’organizzaz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40000"/>
              </a:lnSpc>
              <a:spcBef>
                <a:spcPts val="1500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L’essere umano di solito preferisce essere diretto, desidera evitare le responsabilità, possiede un’ambizione relativamente limitata e vuole soprattutto la sicurez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Teoria X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26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11AD-9CF7-40AD-8C53-7C16862D80CD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Object 2" descr=""/>
          <p:cNvPicPr/>
          <p:nvPr/>
        </p:nvPicPr>
        <p:blipFill>
          <a:blip r:embed="rId1"/>
          <a:stretch/>
        </p:blipFill>
        <p:spPr>
          <a:xfrm>
            <a:off x="6765840" y="847800"/>
            <a:ext cx="1925640" cy="21668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3"/>
          <p:cNvSpPr/>
          <p:nvPr/>
        </p:nvSpPr>
        <p:spPr>
          <a:xfrm>
            <a:off x="915480" y="130824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1b587c"/>
                </a:solidFill>
                <a:latin typeface="Arial"/>
              </a:rPr>
              <a:t>S’interpreta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753480" y="3133800"/>
            <a:ext cx="852912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Gli attori organizzativi non sono molto diversi da quelli teatral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er essere efficaci entrambi hanno bisogno d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1b587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oscenze tecnico-specialist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1b587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bilità tecnico-specialist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1b587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aratteristiche personali ada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1b587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bilità relazion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1b587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valori e motiv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l ruol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95" name="Segnaposto numero diapositiva 5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D027-995F-4A0C-8F0A-C1BB34D9BC74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3"/>
          <p:cNvSpPr/>
          <p:nvPr/>
        </p:nvSpPr>
        <p:spPr>
          <a:xfrm>
            <a:off x="695160" y="1000080"/>
            <a:ext cx="8525160" cy="52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30000"/>
              </a:lnSpc>
              <a:spcBef>
                <a:spcPts val="1500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L’impiego di uno sforzo fisico e mentale sul lavoro è naturale quanto il gioco e il ripo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30000"/>
              </a:lnSpc>
              <a:spcBef>
                <a:spcPts val="1500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l controllo esterno e la minaccia di punizioni non sono l’unico mezzo per indurre l’uomo a lavorare verso gli obiettivi dell’organizzazione. Gli uomini si dirigeranno da sé ed eserciteranno un autocontrollo nell’intento di raggiungere gli obiettivi per i quali sono impegna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30000"/>
              </a:lnSpc>
              <a:spcBef>
                <a:spcPts val="1500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L’impegno a raggiungere gli obiettivi è in funzione della ricompensa associata al loro ottenimento (stima ed autorealizzazione, ad es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Teoria Y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29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64A6-D262-445C-99F0-2CC252DB39A1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3"/>
          <p:cNvSpPr/>
          <p:nvPr/>
        </p:nvSpPr>
        <p:spPr>
          <a:xfrm>
            <a:off x="695160" y="1000080"/>
            <a:ext cx="852516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50000"/>
              </a:lnSpc>
              <a:spcBef>
                <a:spcPts val="1500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L’essere umano in genere impara, in condizioni adatte non solo ad accettare ma anche a cercare le responsabilità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50000"/>
              </a:lnSpc>
              <a:spcBef>
                <a:spcPts val="1500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Molte persone sono dotate di un livello d’immaginazione relativamente alto, così come d’ingegnosità e di creatività nel risolvere i problemi organizzativ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50000"/>
              </a:lnSpc>
              <a:spcBef>
                <a:spcPts val="1500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elle condizioni dell’azienda moderna il potenziale intellettuale medio di una persona viene utilizzato solo parzial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Teoria Y (segue)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32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149C-281D-44F6-BF97-9058B3440D5A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3" name="Object 3"/>
          <p:cNvGraphicFramePr/>
          <p:nvPr/>
        </p:nvGraphicFramePr>
        <p:xfrm>
          <a:off x="1476360" y="1128600"/>
          <a:ext cx="7039080" cy="455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128600"/>
                    <a:ext cx="703908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5" name="Group 4"/>
          <p:cNvGrpSpPr/>
          <p:nvPr/>
        </p:nvGrpSpPr>
        <p:grpSpPr>
          <a:xfrm>
            <a:off x="1049040" y="1233360"/>
            <a:ext cx="298800" cy="4350600"/>
            <a:chOff x="1049040" y="1233360"/>
            <a:chExt cx="298800" cy="4350600"/>
          </a:xfrm>
        </p:grpSpPr>
        <p:sp>
          <p:nvSpPr>
            <p:cNvPr id="436" name="Text Box 5"/>
            <p:cNvSpPr/>
            <p:nvPr/>
          </p:nvSpPr>
          <p:spPr>
            <a:xfrm>
              <a:off x="1054080" y="52768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6"/>
            <p:cNvSpPr/>
            <p:nvPr/>
          </p:nvSpPr>
          <p:spPr>
            <a:xfrm>
              <a:off x="1068120" y="3262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7"/>
            <p:cNvSpPr/>
            <p:nvPr/>
          </p:nvSpPr>
          <p:spPr>
            <a:xfrm>
              <a:off x="1068120" y="2757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8"/>
            <p:cNvSpPr/>
            <p:nvPr/>
          </p:nvSpPr>
          <p:spPr>
            <a:xfrm>
              <a:off x="1068120" y="2243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 Box 9"/>
            <p:cNvSpPr/>
            <p:nvPr/>
          </p:nvSpPr>
          <p:spPr>
            <a:xfrm>
              <a:off x="1068120" y="1752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10"/>
            <p:cNvSpPr/>
            <p:nvPr/>
          </p:nvSpPr>
          <p:spPr>
            <a:xfrm>
              <a:off x="1068120" y="1233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11"/>
            <p:cNvSpPr/>
            <p:nvPr/>
          </p:nvSpPr>
          <p:spPr>
            <a:xfrm>
              <a:off x="1062000" y="4772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12"/>
            <p:cNvSpPr/>
            <p:nvPr/>
          </p:nvSpPr>
          <p:spPr>
            <a:xfrm>
              <a:off x="1049040" y="42670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13"/>
            <p:cNvSpPr/>
            <p:nvPr/>
          </p:nvSpPr>
          <p:spPr>
            <a:xfrm>
              <a:off x="1068120" y="3762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Group 14"/>
          <p:cNvGrpSpPr/>
          <p:nvPr/>
        </p:nvGrpSpPr>
        <p:grpSpPr>
          <a:xfrm>
            <a:off x="1699920" y="5791320"/>
            <a:ext cx="6528240" cy="307080"/>
            <a:chOff x="1699920" y="5791320"/>
            <a:chExt cx="6528240" cy="307080"/>
          </a:xfrm>
        </p:grpSpPr>
        <p:sp>
          <p:nvSpPr>
            <p:cNvPr id="446" name="Text Box 15"/>
            <p:cNvSpPr/>
            <p:nvPr/>
          </p:nvSpPr>
          <p:spPr>
            <a:xfrm>
              <a:off x="169992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16"/>
            <p:cNvSpPr/>
            <p:nvPr/>
          </p:nvSpPr>
          <p:spPr>
            <a:xfrm>
              <a:off x="480204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17"/>
            <p:cNvSpPr/>
            <p:nvPr/>
          </p:nvSpPr>
          <p:spPr>
            <a:xfrm>
              <a:off x="559728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18"/>
            <p:cNvSpPr/>
            <p:nvPr/>
          </p:nvSpPr>
          <p:spPr>
            <a:xfrm>
              <a:off x="634824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19"/>
            <p:cNvSpPr/>
            <p:nvPr/>
          </p:nvSpPr>
          <p:spPr>
            <a:xfrm>
              <a:off x="718632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20"/>
            <p:cNvSpPr/>
            <p:nvPr/>
          </p:nvSpPr>
          <p:spPr>
            <a:xfrm>
              <a:off x="794844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21"/>
            <p:cNvSpPr/>
            <p:nvPr/>
          </p:nvSpPr>
          <p:spPr>
            <a:xfrm>
              <a:off x="246204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22"/>
            <p:cNvSpPr/>
            <p:nvPr/>
          </p:nvSpPr>
          <p:spPr>
            <a:xfrm>
              <a:off x="325260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23"/>
            <p:cNvSpPr/>
            <p:nvPr/>
          </p:nvSpPr>
          <p:spPr>
            <a:xfrm>
              <a:off x="403380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Text Box 24"/>
          <p:cNvSpPr/>
          <p:nvPr/>
        </p:nvSpPr>
        <p:spPr>
          <a:xfrm rot="16174200">
            <a:off x="-1148400" y="3240720"/>
            <a:ext cx="396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rado d’interesse verso gli uom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25"/>
          <p:cNvSpPr/>
          <p:nvPr/>
        </p:nvSpPr>
        <p:spPr>
          <a:xfrm>
            <a:off x="2929680" y="6058080"/>
            <a:ext cx="40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rado d’interesse verso la prod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a griglia manageria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58" name="Segnaposto numero diapositiva 25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E6B6-A706-4BFA-AF9B-A5DA89D608B1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adership situaziona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60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8F11-B055-4FC1-846A-520A649627B5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4" descr=""/>
          <p:cNvPicPr/>
          <p:nvPr/>
        </p:nvPicPr>
        <p:blipFill>
          <a:blip r:embed="rId1"/>
          <a:stretch/>
        </p:blipFill>
        <p:spPr>
          <a:xfrm>
            <a:off x="2611440" y="1071720"/>
            <a:ext cx="4684680" cy="49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Oval 3"/>
          <p:cNvSpPr/>
          <p:nvPr/>
        </p:nvSpPr>
        <p:spPr>
          <a:xfrm>
            <a:off x="3854520" y="2687760"/>
            <a:ext cx="2200320" cy="2133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E DIMENSIONI DEL MANAGER DI SUCC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4"/>
          <p:cNvSpPr/>
          <p:nvPr/>
        </p:nvSpPr>
        <p:spPr>
          <a:xfrm flipV="1">
            <a:off x="4952880" y="17733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5"/>
          <p:cNvSpPr/>
          <p:nvPr/>
        </p:nvSpPr>
        <p:spPr>
          <a:xfrm>
            <a:off x="4952880" y="48211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6"/>
          <p:cNvSpPr/>
          <p:nvPr/>
        </p:nvSpPr>
        <p:spPr>
          <a:xfrm flipH="1">
            <a:off x="2895480" y="38307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7"/>
          <p:cNvSpPr/>
          <p:nvPr/>
        </p:nvSpPr>
        <p:spPr>
          <a:xfrm>
            <a:off x="6019920" y="38307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8"/>
          <p:cNvSpPr/>
          <p:nvPr/>
        </p:nvSpPr>
        <p:spPr>
          <a:xfrm flipV="1">
            <a:off x="5805720" y="2465280"/>
            <a:ext cx="885240" cy="59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9"/>
          <p:cNvSpPr/>
          <p:nvPr/>
        </p:nvSpPr>
        <p:spPr>
          <a:xfrm>
            <a:off x="5777280" y="4462920"/>
            <a:ext cx="789480" cy="71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0"/>
          <p:cNvSpPr/>
          <p:nvPr/>
        </p:nvSpPr>
        <p:spPr>
          <a:xfrm flipH="1">
            <a:off x="3291480" y="4523040"/>
            <a:ext cx="883800" cy="59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11"/>
          <p:cNvSpPr/>
          <p:nvPr/>
        </p:nvSpPr>
        <p:spPr>
          <a:xfrm flipH="1" flipV="1">
            <a:off x="3238200" y="2343240"/>
            <a:ext cx="914400" cy="68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2"/>
          <p:cNvSpPr/>
          <p:nvPr/>
        </p:nvSpPr>
        <p:spPr>
          <a:xfrm>
            <a:off x="838080" y="489744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E’ ESIG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3"/>
          <p:cNvSpPr/>
          <p:nvPr/>
        </p:nvSpPr>
        <p:spPr>
          <a:xfrm>
            <a:off x="533520" y="35258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SA ASCOL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4"/>
          <p:cNvSpPr/>
          <p:nvPr/>
        </p:nvSpPr>
        <p:spPr>
          <a:xfrm>
            <a:off x="838080" y="184932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MANAGER SA ESPRIMERE RICONOSCIM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5"/>
          <p:cNvSpPr/>
          <p:nvPr/>
        </p:nvSpPr>
        <p:spPr>
          <a:xfrm>
            <a:off x="6629400" y="203184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MANAGER SA CRE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“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SPIRITO DI GRUPP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6"/>
          <p:cNvSpPr/>
          <p:nvPr/>
        </p:nvSpPr>
        <p:spPr>
          <a:xfrm>
            <a:off x="7238880" y="352584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MANAGER DEL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7"/>
          <p:cNvSpPr/>
          <p:nvPr/>
        </p:nvSpPr>
        <p:spPr>
          <a:xfrm>
            <a:off x="6750000" y="4821120"/>
            <a:ext cx="285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MANAGER ESIGE DAI SUOI UOMINI UN LAVORO COMPL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8"/>
          <p:cNvSpPr/>
          <p:nvPr/>
        </p:nvSpPr>
        <p:spPr>
          <a:xfrm>
            <a:off x="3505320" y="57355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MANAGER HA STIMA DEI SUOI UOM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9"/>
          <p:cNvSpPr/>
          <p:nvPr/>
        </p:nvSpPr>
        <p:spPr>
          <a:xfrm>
            <a:off x="3003840" y="1042920"/>
            <a:ext cx="387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MANAGER OTTIENE RISUL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ATTRAVERSO ALTRE PERS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Un ritratto del manager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80" name="Segnaposto numero diapositiva 19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9107-6801-43C7-8888-5CE2BEDD9698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3"/>
          <p:cNvSpPr/>
          <p:nvPr/>
        </p:nvSpPr>
        <p:spPr>
          <a:xfrm>
            <a:off x="771480" y="1523880"/>
            <a:ext cx="4038480" cy="44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La riunion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7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nformativ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7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 scambio d’informazion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7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cisiona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7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egozia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7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motivaziona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7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m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4"/>
          <p:cNvSpPr/>
          <p:nvPr/>
        </p:nvSpPr>
        <p:spPr>
          <a:xfrm>
            <a:off x="5334120" y="1523880"/>
            <a:ext cx="4114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l colloquio individua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5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perativo/decisional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5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 biasim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5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motivazional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5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 assegnazione degli obiettiv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5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 valutazione dei risultat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5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sciplin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situazioni organizzative di gestione dei collaborator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84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99D1-BDA7-446C-A6B5-24618EB38C48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3"/>
          <p:cNvSpPr/>
          <p:nvPr/>
        </p:nvSpPr>
        <p:spPr>
          <a:xfrm>
            <a:off x="838080" y="1523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ell’affrontare riunioni e colloqui il responsabile dovr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714240" y="2397240"/>
            <a:ext cx="845820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3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finire chiaramente i propri obiet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3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reparare adeguatamente il materiale necess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3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rogrammare sempre con anticipo salvo emerge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3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dicare tutto il tempo necess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3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timolare la partecipazione e il coinvolgimento dei collabor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3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cludere ogni evento chiarendo a tutti i partecipanti i risultati emer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situazioni organizzative di gestione dei collaborator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88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7541-02DD-443D-A49A-5AAE8A435824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3"/>
          <p:cNvSpPr/>
          <p:nvPr/>
        </p:nvSpPr>
        <p:spPr>
          <a:xfrm>
            <a:off x="838080" y="1523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apendo ch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4"/>
          <p:cNvSpPr/>
          <p:nvPr/>
        </p:nvSpPr>
        <p:spPr>
          <a:xfrm>
            <a:off x="714240" y="2397240"/>
            <a:ext cx="84582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n ogni occasione organizzativa gli è richies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4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 trasmettere i valori e la mission dell’organ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4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 preoccuparsi della crescita e dell’apprendimento dei propri collaboratori in termini di contenuti e di me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4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 captare i segnali inviati dal gruppo o dal sing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4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 non lasciare cadere nessuna sollecitazione rispetto al suo ruolo o al clima organizz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situazioni organizzative di gestione dei collaborator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92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2C96-7061-426D-A788-8DEA233B8FC1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Attenzione al team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94" name="Segnaposto numero diapositiva 21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97D1-D406-42BD-8AAB-48C473C0AB67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e 2"/>
          <p:cNvSpPr/>
          <p:nvPr/>
        </p:nvSpPr>
        <p:spPr>
          <a:xfrm>
            <a:off x="660240" y="3865680"/>
            <a:ext cx="4710240" cy="2361960"/>
          </a:xfrm>
          <a:prstGeom prst="ellipse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49320" bIns="493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riangolo isoscele 3"/>
          <p:cNvSpPr/>
          <p:nvPr/>
        </p:nvSpPr>
        <p:spPr>
          <a:xfrm>
            <a:off x="1157400" y="1111320"/>
            <a:ext cx="3681360" cy="24192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07f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0440" rIns="100440" tIns="49320" bIns="493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onnettore 1 5"/>
          <p:cNvSpPr/>
          <p:nvPr/>
        </p:nvSpPr>
        <p:spPr>
          <a:xfrm flipH="1">
            <a:off x="2082960" y="1110600"/>
            <a:ext cx="914400" cy="240804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Connettore 1 7"/>
          <p:cNvSpPr/>
          <p:nvPr/>
        </p:nvSpPr>
        <p:spPr>
          <a:xfrm>
            <a:off x="2997360" y="1111320"/>
            <a:ext cx="406080" cy="240804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onnettore 1 8"/>
          <p:cNvSpPr/>
          <p:nvPr/>
        </p:nvSpPr>
        <p:spPr>
          <a:xfrm flipH="1">
            <a:off x="2743200" y="1110600"/>
            <a:ext cx="254160" cy="240804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onnettore 1 9"/>
          <p:cNvSpPr/>
          <p:nvPr/>
        </p:nvSpPr>
        <p:spPr>
          <a:xfrm>
            <a:off x="2996640" y="1111320"/>
            <a:ext cx="1076040" cy="241920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Connettore 1 18"/>
          <p:cNvSpPr/>
          <p:nvPr/>
        </p:nvSpPr>
        <p:spPr>
          <a:xfrm flipH="1">
            <a:off x="1349280" y="4210920"/>
            <a:ext cx="3330720" cy="167004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Connettore 1 20"/>
          <p:cNvSpPr/>
          <p:nvPr/>
        </p:nvSpPr>
        <p:spPr>
          <a:xfrm>
            <a:off x="1349280" y="4211640"/>
            <a:ext cx="4021200" cy="8352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Connettore 1 22"/>
          <p:cNvSpPr/>
          <p:nvPr/>
        </p:nvSpPr>
        <p:spPr>
          <a:xfrm>
            <a:off x="660240" y="5046840"/>
            <a:ext cx="2354400" cy="11808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onnettore 1 24"/>
          <p:cNvSpPr/>
          <p:nvPr/>
        </p:nvSpPr>
        <p:spPr>
          <a:xfrm flipH="1" flipV="1">
            <a:off x="1349280" y="4211640"/>
            <a:ext cx="1665360" cy="20160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onnettore 1 28"/>
          <p:cNvSpPr/>
          <p:nvPr/>
        </p:nvSpPr>
        <p:spPr>
          <a:xfrm flipH="1" flipV="1">
            <a:off x="660240" y="5046480"/>
            <a:ext cx="4019760" cy="83484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e 29"/>
          <p:cNvSpPr/>
          <p:nvPr/>
        </p:nvSpPr>
        <p:spPr>
          <a:xfrm>
            <a:off x="2951280" y="3808440"/>
            <a:ext cx="115920" cy="138240"/>
          </a:xfrm>
          <a:prstGeom prst="ellipse">
            <a:avLst/>
          </a:prstGeom>
          <a:solidFill>
            <a:srgbClr val="b45f07"/>
          </a:solidFill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48600" bIns="48600" anchor="t">
            <a:noAutofit/>
          </a:bodyPr>
          <a:p>
            <a:pPr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Connettore 1 31"/>
          <p:cNvSpPr/>
          <p:nvPr/>
        </p:nvSpPr>
        <p:spPr>
          <a:xfrm>
            <a:off x="4680000" y="4213080"/>
            <a:ext cx="1440" cy="16686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onnettore 1 33"/>
          <p:cNvSpPr/>
          <p:nvPr/>
        </p:nvSpPr>
        <p:spPr>
          <a:xfrm flipH="1">
            <a:off x="3014640" y="5046840"/>
            <a:ext cx="2355840" cy="11808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onnettore 1 35"/>
          <p:cNvSpPr/>
          <p:nvPr/>
        </p:nvSpPr>
        <p:spPr>
          <a:xfrm>
            <a:off x="1349280" y="4211640"/>
            <a:ext cx="3330720" cy="167004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onnettore 1 37"/>
          <p:cNvSpPr/>
          <p:nvPr/>
        </p:nvSpPr>
        <p:spPr>
          <a:xfrm flipH="1">
            <a:off x="660240" y="4211640"/>
            <a:ext cx="4019760" cy="8352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CasellaDiTesto 38"/>
          <p:cNvSpPr/>
          <p:nvPr/>
        </p:nvSpPr>
        <p:spPr>
          <a:xfrm>
            <a:off x="5532480" y="1655640"/>
            <a:ext cx="410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Far lavorare il grup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Valorizzare il grup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Integrare il grup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gevolare il lavoro del grup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rco 43"/>
          <p:cNvSpPr/>
          <p:nvPr/>
        </p:nvSpPr>
        <p:spPr>
          <a:xfrm>
            <a:off x="1724040" y="3727440"/>
            <a:ext cx="2616120" cy="1030320"/>
          </a:xfrm>
          <a:custGeom>
            <a:avLst/>
            <a:gdLst/>
            <a:ahLst/>
            <a:rect l="l" t="t" r="r" b="b"/>
            <a:pathLst>
              <a:path stroke="0" w="2616200" h="1030288">
                <a:moveTo>
                  <a:pt x="1308100" y="0"/>
                </a:moveTo>
                <a:cubicBezTo>
                  <a:pt x="1664125" y="0"/>
                  <a:pt x="2004769" y="57148"/>
                  <a:pt x="2251420" y="158256"/>
                </a:cubicBezTo>
                <a:lnTo>
                  <a:pt x="1308100" y="515144"/>
                </a:lnTo>
                <a:lnTo>
                  <a:pt x="1308100" y="0"/>
                </a:lnTo>
                <a:close/>
              </a:path>
              <a:path fill="none" w="2616200" h="1030288">
                <a:moveTo>
                  <a:pt x="1308100" y="0"/>
                </a:moveTo>
                <a:cubicBezTo>
                  <a:pt x="1664125" y="0"/>
                  <a:pt x="2004769" y="57148"/>
                  <a:pt x="2251420" y="158256"/>
                </a:cubicBezTo>
              </a:path>
            </a:pathLst>
          </a:custGeom>
          <a:noFill/>
          <a:ln w="28440">
            <a:solidFill>
              <a:srgbClr val="f07f0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49320" bIns="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Arco 44" descr=""/>
          <p:cNvPicPr/>
          <p:nvPr/>
        </p:nvPicPr>
        <p:blipFill>
          <a:blip r:embed="rId1"/>
          <a:stretch/>
        </p:blipFill>
        <p:spPr>
          <a:xfrm>
            <a:off x="2000160" y="3676680"/>
            <a:ext cx="998640" cy="31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3"/>
          <p:cNvSpPr/>
          <p:nvPr/>
        </p:nvSpPr>
        <p:spPr>
          <a:xfrm>
            <a:off x="762120" y="1835280"/>
            <a:ext cx="845820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spcAft>
                <a:spcPts val="2401"/>
              </a:spcAft>
              <a:buClr>
                <a:srgbClr val="1b587c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una persona che non riesce ad inserirsi positivamente tra i colleg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Aft>
                <a:spcPts val="2401"/>
              </a:spcAft>
              <a:buClr>
                <a:srgbClr val="1b587c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una persona che non raggiunge i livelli di prestazione richiesti dal Responsabi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Aft>
                <a:spcPts val="2401"/>
              </a:spcAft>
              <a:buClr>
                <a:srgbClr val="1b587c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una persona che non è d’accordo con il Respons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Aft>
                <a:spcPts val="2401"/>
              </a:spcAft>
              <a:buClr>
                <a:srgbClr val="1b587c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una persona antip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Aft>
                <a:spcPts val="2401"/>
              </a:spcAft>
              <a:buClr>
                <a:srgbClr val="1b587c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una persona fortemente sindacalizz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Chi è il dipendente difficile?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16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005A-BDB5-4C67-B7A3-E0F043BC4366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488880" y="3279600"/>
            <a:ext cx="51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1b587c"/>
                </a:solidFill>
                <a:latin typeface="Arial"/>
              </a:rPr>
              <a:t>…</a:t>
            </a:r>
            <a:r>
              <a:rPr b="0" lang="it-IT" sz="3600" spc="-1" strike="noStrike">
                <a:solidFill>
                  <a:srgbClr val="1b587c"/>
                </a:solidFill>
                <a:latin typeface="Arial"/>
              </a:rPr>
              <a:t>in relazione con altri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635040" y="4800600"/>
            <a:ext cx="460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1b587c"/>
                </a:solidFill>
                <a:latin typeface="Arial"/>
              </a:rPr>
              <a:t>...per raggiungere un obiet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285920" y="1679400"/>
            <a:ext cx="29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1b587c"/>
                </a:solidFill>
                <a:latin typeface="Arial"/>
              </a:rPr>
              <a:t>S’interpreta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Object 5" descr=""/>
          <p:cNvPicPr/>
          <p:nvPr/>
        </p:nvPicPr>
        <p:blipFill>
          <a:blip r:embed="rId1"/>
          <a:stretch/>
        </p:blipFill>
        <p:spPr>
          <a:xfrm>
            <a:off x="5479920" y="1198440"/>
            <a:ext cx="4046760" cy="24591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6"/>
          <p:cNvSpPr/>
          <p:nvPr/>
        </p:nvSpPr>
        <p:spPr>
          <a:xfrm>
            <a:off x="5791320" y="3886200"/>
            <a:ext cx="38098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Gli obiettivi di ciascuno sono lo strumento per trasformare in realtà la missione dell’organizz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l ruol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02" name="Segnaposto numero diapositiva 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D7D4-A34D-4146-99A2-67956321833A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Object 3" descr=""/>
          <p:cNvPicPr/>
          <p:nvPr/>
        </p:nvPicPr>
        <p:blipFill>
          <a:blip r:embed="rId1"/>
          <a:stretch/>
        </p:blipFill>
        <p:spPr>
          <a:xfrm>
            <a:off x="4562640" y="2781360"/>
            <a:ext cx="1604880" cy="157644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4"/>
          <p:cNvSpPr/>
          <p:nvPr/>
        </p:nvSpPr>
        <p:spPr>
          <a:xfrm>
            <a:off x="1081080" y="143208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IMINUZIONE DEL REND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6524640" y="1428840"/>
            <a:ext cx="260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SCARSA QUALITA’ DEL LAV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6"/>
          <p:cNvSpPr/>
          <p:nvPr/>
        </p:nvSpPr>
        <p:spPr>
          <a:xfrm>
            <a:off x="7223040" y="2143080"/>
            <a:ext cx="230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SCADENZE NON RISPET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7315200" y="2997360"/>
            <a:ext cx="23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SCARSO SPIRITO D’INIZI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8"/>
          <p:cNvSpPr/>
          <p:nvPr/>
        </p:nvSpPr>
        <p:spPr>
          <a:xfrm>
            <a:off x="7147080" y="3835440"/>
            <a:ext cx="260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FUGA DAI COMPITI PIU’ DIFFICI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9"/>
          <p:cNvSpPr/>
          <p:nvPr/>
        </p:nvSpPr>
        <p:spPr>
          <a:xfrm>
            <a:off x="4394160" y="5584680"/>
            <a:ext cx="184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UMENTO DI LAMEN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0"/>
          <p:cNvSpPr/>
          <p:nvPr/>
        </p:nvSpPr>
        <p:spPr>
          <a:xfrm>
            <a:off x="952560" y="400068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MENO INTERAZIONE CON I COLLEG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1"/>
          <p:cNvSpPr/>
          <p:nvPr/>
        </p:nvSpPr>
        <p:spPr>
          <a:xfrm>
            <a:off x="738360" y="31845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MANCATO RISPETTO DELLE DIRET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2"/>
          <p:cNvSpPr/>
          <p:nvPr/>
        </p:nvSpPr>
        <p:spPr>
          <a:xfrm>
            <a:off x="760320" y="2270160"/>
            <a:ext cx="397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TTEGGIAMENTO IRRITABILE E DIFENS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3"/>
          <p:cNvSpPr/>
          <p:nvPr/>
        </p:nvSpPr>
        <p:spPr>
          <a:xfrm>
            <a:off x="6431040" y="5359320"/>
            <a:ext cx="271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SCARSA COLLABORATIVIT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4"/>
          <p:cNvSpPr/>
          <p:nvPr/>
        </p:nvSpPr>
        <p:spPr>
          <a:xfrm>
            <a:off x="4038480" y="91440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TTRIBUZIONE DI RESPONSABILITA’ AI COLLEG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5"/>
          <p:cNvSpPr/>
          <p:nvPr/>
        </p:nvSpPr>
        <p:spPr>
          <a:xfrm>
            <a:off x="6918480" y="4597560"/>
            <a:ext cx="237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INTROVABILE QUANDO SE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6"/>
          <p:cNvSpPr/>
          <p:nvPr/>
        </p:nvSpPr>
        <p:spPr>
          <a:xfrm>
            <a:off x="1332000" y="4786200"/>
            <a:ext cx="28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FEEDBACK NEGATIVI IN AU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7"/>
          <p:cNvSpPr/>
          <p:nvPr/>
        </p:nvSpPr>
        <p:spPr>
          <a:xfrm>
            <a:off x="2077560" y="5572080"/>
            <a:ext cx="20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SSENTE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 sintomi…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33" name="Segnaposto numero diapositiva 1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7D98-6311-4C4E-8F24-8C72E40A546B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3"/>
          <p:cNvSpPr/>
          <p:nvPr/>
        </p:nvSpPr>
        <p:spPr>
          <a:xfrm>
            <a:off x="685800" y="1000080"/>
            <a:ext cx="8458200" cy="52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spcBef>
                <a:spcPts val="3900"/>
              </a:spcBef>
              <a:buClr>
                <a:srgbClr val="1b587c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DOTTARE MISURE CORRETTIVE E NON PUNITIVE (quali sono gli obiettivi del Responsabile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3900"/>
              </a:spcBef>
              <a:buClr>
                <a:srgbClr val="1b587c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TRASFORMARE OGNI EVENTO ORGANIZZATIVO IN OCCASIONE D’APPRENDIMENTO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(coaching e counseling per i propri collaborato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3900"/>
              </a:spcBef>
              <a:buClr>
                <a:srgbClr val="1b587c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SSERE RISOLUTI (non ritardare l’intervento), GIUSTI (né lassismo, né accanimento), SINCERAMENTE INTERESSATI (il vostro collaboratore è una perso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3900"/>
              </a:spcBef>
              <a:buClr>
                <a:srgbClr val="1b587c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ROGARE UN PROVVEDIMENTO DISCIPLINARE SOLO SE TUTTO QUESTO NON FUNZI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Alcuni principi fondamental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36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77B0-AC84-4BFE-B4FE-63C46A3692CB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55280" y="2739960"/>
            <a:ext cx="8381880" cy="1433520"/>
          </a:xfrm>
          <a:prstGeom prst="rect">
            <a:avLst/>
          </a:prstGeom>
          <a:noFill/>
          <a:ln w="9360">
            <a:solidFill>
              <a:srgbClr val="1b587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f2936"/>
                </a:solidFill>
                <a:latin typeface="Century Gothic"/>
              </a:rPr>
              <a:t>IL MESTIERE DI CAPO E LA GESTIONE DEI COLLABORATORI</a:t>
            </a:r>
            <a:endParaRPr b="1" lang="en-US" sz="36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742680" y="4621320"/>
            <a:ext cx="8297640" cy="11779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1b587c"/>
                </a:solidFill>
                <a:latin typeface="Century Gothic"/>
              </a:rPr>
              <a:t>Indicazioni concrete per i responsabili</a:t>
            </a:r>
            <a:endParaRPr b="0" lang="en-US" sz="2800" spc="-1" strike="noStrike">
              <a:solidFill>
                <a:srgbClr val="1b587c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1b587c"/>
                </a:solidFill>
                <a:latin typeface="Century Gothic"/>
              </a:rPr>
              <a:t>Terzo incontro</a:t>
            </a:r>
            <a:endParaRPr b="0" lang="en-US" sz="28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a motivazion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40" name="Rettangolo 2"/>
          <p:cNvSpPr/>
          <p:nvPr/>
        </p:nvSpPr>
        <p:spPr>
          <a:xfrm>
            <a:off x="752400" y="1162080"/>
            <a:ext cx="84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vallone definisce la motivazione come un complesso processo di forze che attivano, dirigono e sostengono il comportamento e la motivazione al lavoro come l'insieme delle variabili in grado di dar conto del dispiegamento delle energie psicofisiche nell'attività professionale e dell'intensità e persistenza di questo invest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"/>
          <p:cNvSpPr/>
          <p:nvPr/>
        </p:nvSpPr>
        <p:spPr>
          <a:xfrm>
            <a:off x="776160" y="5639400"/>
            <a:ext cx="8356680" cy="31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440" rIns="100440" tIns="49320" bIns="49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AVALLONE F. (1994) "Psicologia del lavoro", La Nuova Italia Scientific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FB0F-945B-4288-AB2A-0550A36D9DB8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a motivazione (segue)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44" name="Rettangolo 2"/>
          <p:cNvSpPr/>
          <p:nvPr/>
        </p:nvSpPr>
        <p:spPr>
          <a:xfrm>
            <a:off x="752400" y="1162080"/>
            <a:ext cx="846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me si nota, la motivazi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’ intrinseca alla pers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è determinabile dall’es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uò essere aumentata dal contesto organizz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uò, allo stesso modo, essere depre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64FC-9616-4235-B8F9-8B5F5F188B01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Fattori motivanti e fattori igienic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47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6716-6142-47BB-A58F-84FD1023BE03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8" name="Object 2"/>
          <p:cNvGraphicFramePr/>
          <p:nvPr/>
        </p:nvGraphicFramePr>
        <p:xfrm>
          <a:off x="2103480" y="669960"/>
          <a:ext cx="6276960" cy="577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3480" y="669960"/>
                    <a:ext cx="6276960" cy="57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teorie della motivazion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833400" y="1219320"/>
          <a:ext cx="8542440" cy="4570200"/>
        </p:xfrm>
        <a:graphic>
          <a:graphicData uri="http://schemas.openxmlformats.org/drawingml/2006/table">
            <a:tbl>
              <a:tblPr/>
              <a:tblGrid>
                <a:gridCol w="3508560"/>
                <a:gridCol w="2314440"/>
                <a:gridCol w="2719440"/>
              </a:tblGrid>
              <a:tr h="217440"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MAS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HERZBER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520"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AUTO- REALIZZAZIONE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COMPLETA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FATTORI MOTIVAZION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IL LAVO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REALIZZA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OPPORTUNITA' DI SVILUP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RESPONSABILIT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STIMA E 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PROMOZION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RICONOSCI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SENSO DI APPARTENENZA E ATTIVITA' SOCI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FATTO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IGIENIC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RAPPORTI INTERPERSON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SUPERVIS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COLLEG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DIPENDEN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 rowSpan="3"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SOPRAVVIVENZA E SICUREZ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SUPERVISIONE TECN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POLITICA E GESTIONE AZIEND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SICUREZZA SUL POSTO DI LAVO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BISOGNI FISIOLOGIC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CONDIZIONI DI LAVO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RETRIBU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SISTEMA DI VITA PERSON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2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E7AA-A26D-4CB0-A5AF-022ED8AF1984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Attenzione alle relazion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54" name="Segnaposto numero diapositiva 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DF52-0A1B-4877-8FD3-E58F696A71BB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CasellaDiTesto 3"/>
          <p:cNvSpPr/>
          <p:nvPr/>
        </p:nvSpPr>
        <p:spPr>
          <a:xfrm>
            <a:off x="7014960" y="1122480"/>
            <a:ext cx="2492640" cy="13726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Parlate e ascolt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Rispet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Clima positivo in Azien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Tenere al corr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CasellaDiTesto 4"/>
          <p:cNvSpPr/>
          <p:nvPr/>
        </p:nvSpPr>
        <p:spPr>
          <a:xfrm>
            <a:off x="714960" y="2214720"/>
            <a:ext cx="316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1b587c"/>
                </a:solidFill>
                <a:uFillTx/>
                <a:latin typeface="Arial"/>
              </a:rPr>
              <a:t>PARLATE E ASCOL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CasellaDiTesto 5"/>
          <p:cNvSpPr/>
          <p:nvPr/>
        </p:nvSpPr>
        <p:spPr>
          <a:xfrm>
            <a:off x="1305000" y="2722680"/>
            <a:ext cx="368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HIEDETE COSA VOGLIO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IMPARATE A CONOSCER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CasellaDiTesto 6"/>
          <p:cNvSpPr/>
          <p:nvPr/>
        </p:nvSpPr>
        <p:spPr>
          <a:xfrm>
            <a:off x="756720" y="392760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1b587c"/>
                </a:solidFill>
                <a:uFillTx/>
                <a:latin typeface="Arial"/>
              </a:rPr>
              <a:t>RISP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CasellaDiTesto 7"/>
          <p:cNvSpPr/>
          <p:nvPr/>
        </p:nvSpPr>
        <p:spPr>
          <a:xfrm>
            <a:off x="1297800" y="4435560"/>
            <a:ext cx="72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RISPETTO SUL LAV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RISPETTO PER GLI AMBITI FAMILIARI ED EXTRA LAV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Attenzione alle relazion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61" name="Segnaposto numero diapositiva 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4101-5300-4E80-83CC-EA489117D110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CasellaDiTesto 3"/>
          <p:cNvSpPr/>
          <p:nvPr/>
        </p:nvSpPr>
        <p:spPr>
          <a:xfrm>
            <a:off x="7014960" y="1122480"/>
            <a:ext cx="2492640" cy="13726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Parlate e ascolt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Rispet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Clima positivo in Azien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Tenere al corr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CasellaDiTesto 4"/>
          <p:cNvSpPr/>
          <p:nvPr/>
        </p:nvSpPr>
        <p:spPr>
          <a:xfrm>
            <a:off x="785880" y="2338560"/>
            <a:ext cx="433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1b587c"/>
                </a:solidFill>
                <a:uFillTx/>
                <a:latin typeface="Arial"/>
              </a:rPr>
              <a:t>MANTENERE UN CLIMA POSI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CasellaDiTesto 5"/>
          <p:cNvSpPr/>
          <p:nvPr/>
        </p:nvSpPr>
        <p:spPr>
          <a:xfrm>
            <a:off x="990360" y="2859120"/>
            <a:ext cx="802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EFINIRE E ALLINEARE I VAL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OSTRUIRE UN AMBIENTE PIACEV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OINVOLGERE E LEGARE ALL’ORGANIZZAZIONE E AL GRUP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CasellaDiTesto 6"/>
          <p:cNvSpPr/>
          <p:nvPr/>
        </p:nvSpPr>
        <p:spPr>
          <a:xfrm>
            <a:off x="776520" y="4456080"/>
            <a:ext cx="309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1b587c"/>
                </a:solidFill>
                <a:uFillTx/>
                <a:latin typeface="Arial"/>
              </a:rPr>
              <a:t>TENERE AL CORR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CasellaDiTesto 7"/>
          <p:cNvSpPr/>
          <p:nvPr/>
        </p:nvSpPr>
        <p:spPr>
          <a:xfrm>
            <a:off x="971280" y="4976640"/>
            <a:ext cx="583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INFORMARE CIRCA I RISULTATI E I PROGE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INFORMARE CIRCA LE DECISIONI PR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Attenzione alla crescita professiona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68" name="Segnaposto numero diapositiva 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C42E-6A8A-4D6D-BA17-3ECA68B1B07C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"/>
          <p:cNvSpPr/>
          <p:nvPr/>
        </p:nvSpPr>
        <p:spPr>
          <a:xfrm>
            <a:off x="6457680" y="1203480"/>
            <a:ext cx="2683080" cy="13726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Assistere e consiglia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Dare opportunità di cresci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Concedere autonom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Arricchire le mansio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CasellaDiTesto 3"/>
          <p:cNvSpPr/>
          <p:nvPr/>
        </p:nvSpPr>
        <p:spPr>
          <a:xfrm>
            <a:off x="724680" y="2349360"/>
            <a:ext cx="365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1b587c"/>
                </a:solidFill>
                <a:uFillTx/>
                <a:latin typeface="Arial"/>
              </a:rPr>
              <a:t>ASSISTERE E CONSIGLI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CasellaDiTesto 4"/>
          <p:cNvSpPr/>
          <p:nvPr/>
        </p:nvSpPr>
        <p:spPr>
          <a:xfrm>
            <a:off x="908280" y="2859120"/>
            <a:ext cx="5978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ESSERE D’ESEMP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INCORAGGI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ONDURRE ATTRAVERSO L’ORGANIZZ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CasellaDiTesto 5"/>
          <p:cNvSpPr/>
          <p:nvPr/>
        </p:nvSpPr>
        <p:spPr>
          <a:xfrm>
            <a:off x="694800" y="4376880"/>
            <a:ext cx="45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1b587c"/>
                </a:solidFill>
                <a:uFillTx/>
                <a:latin typeface="Arial"/>
              </a:rPr>
              <a:t>DARE OPPORTUNITA’ DI CRESC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CasellaDiTesto 6"/>
          <p:cNvSpPr/>
          <p:nvPr/>
        </p:nvSpPr>
        <p:spPr>
          <a:xfrm>
            <a:off x="920880" y="4886280"/>
            <a:ext cx="738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INDIRIZZARE LA CARRIERA IN VERTI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UTILIZZARE E SPIEGARE LA MOBILITA’ INTERFUNZ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REARE E OFFRIRE OPPORTUNITA’ DI SVILUP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Oval 2"/>
          <p:cNvSpPr/>
          <p:nvPr/>
        </p:nvSpPr>
        <p:spPr>
          <a:xfrm>
            <a:off x="6400800" y="1449000"/>
            <a:ext cx="3200400" cy="1426320"/>
          </a:xfrm>
          <a:prstGeom prst="ellipse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  <a:ea typeface="Arial"/>
              </a:rPr>
              <a:t>Quali sono le fasi del processo produttivo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3"/>
          <p:cNvSpPr/>
          <p:nvPr/>
        </p:nvSpPr>
        <p:spPr>
          <a:xfrm>
            <a:off x="3681360" y="900000"/>
            <a:ext cx="3090960" cy="995400"/>
          </a:xfrm>
          <a:prstGeom prst="ellipse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  <a:ea typeface="Arial"/>
              </a:rPr>
              <a:t>Di chi è la responsabilità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6200640" y="4286160"/>
            <a:ext cx="3276720" cy="995400"/>
          </a:xfrm>
          <a:prstGeom prst="ellipse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  <a:ea typeface="Arial"/>
              </a:rPr>
              <a:t>Cosa succede se lavoro be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5"/>
          <p:cNvSpPr/>
          <p:nvPr/>
        </p:nvSpPr>
        <p:spPr>
          <a:xfrm>
            <a:off x="6381720" y="3200400"/>
            <a:ext cx="3371760" cy="995400"/>
          </a:xfrm>
          <a:prstGeom prst="ellipse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  <a:ea typeface="Arial"/>
              </a:rPr>
              <a:t>Cosa vi aspettate da 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2692440" y="4872600"/>
            <a:ext cx="4282920" cy="1426320"/>
          </a:xfrm>
          <a:prstGeom prst="ellipse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  <a:ea typeface="Arial"/>
              </a:rPr>
              <a:t>Ho tutte le informazioni che mi servono, quando mi servon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685800" y="909720"/>
            <a:ext cx="2819520" cy="1066680"/>
          </a:xfrm>
          <a:prstGeom prst="ellipse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  <a:ea typeface="Arial"/>
              </a:rPr>
              <a:t>Chi fa che cos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Object 8" descr=""/>
          <p:cNvPicPr/>
          <p:nvPr/>
        </p:nvPicPr>
        <p:blipFill>
          <a:blip r:embed="rId1"/>
          <a:stretch/>
        </p:blipFill>
        <p:spPr>
          <a:xfrm>
            <a:off x="4524480" y="2209680"/>
            <a:ext cx="1116000" cy="2400480"/>
          </a:xfrm>
          <a:prstGeom prst="rect">
            <a:avLst/>
          </a:prstGeom>
          <a:ln w="0">
            <a:noFill/>
          </a:ln>
        </p:spPr>
      </p:pic>
      <p:sp>
        <p:nvSpPr>
          <p:cNvPr id="210" name="Oval 9"/>
          <p:cNvSpPr/>
          <p:nvPr/>
        </p:nvSpPr>
        <p:spPr>
          <a:xfrm>
            <a:off x="125280" y="3823920"/>
            <a:ext cx="3589560" cy="142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  <a:ea typeface="Arial"/>
              </a:rPr>
              <a:t>Abbiamo tutte le conoscenze che occorron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0"/>
          <p:cNvSpPr/>
          <p:nvPr/>
        </p:nvSpPr>
        <p:spPr>
          <a:xfrm>
            <a:off x="326880" y="2251800"/>
            <a:ext cx="3689640" cy="142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  <a:ea typeface="Arial"/>
              </a:rPr>
              <a:t>Quali sono i livelli qualitativi che devo rispetta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32464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Una finestra sul tema dell’organizzazion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13" name="Segnaposto numero diapositiva 11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F41A-285E-48C7-BA2E-C5A298134360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Attenzione alla crescita professiona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75" name="Segnaposto numero diapositiva 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49A4-4EBE-42D8-813C-8761D07DD9FD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"/>
          <p:cNvSpPr/>
          <p:nvPr/>
        </p:nvSpPr>
        <p:spPr>
          <a:xfrm>
            <a:off x="6529320" y="1071720"/>
            <a:ext cx="2683080" cy="13726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Assistere e consiglia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Dare opportunità di cresci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Concedere autonom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Arricchire le mansio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CasellaDiTesto 3"/>
          <p:cNvSpPr/>
          <p:nvPr/>
        </p:nvSpPr>
        <p:spPr>
          <a:xfrm>
            <a:off x="718560" y="2349360"/>
            <a:ext cx="34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1b587c"/>
                </a:solidFill>
                <a:uFillTx/>
                <a:latin typeface="Arial"/>
              </a:rPr>
              <a:t>CONCEDERE AUTONO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CasellaDiTesto 4"/>
          <p:cNvSpPr/>
          <p:nvPr/>
        </p:nvSpPr>
        <p:spPr>
          <a:xfrm>
            <a:off x="929160" y="2859120"/>
            <a:ext cx="865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NELL’ORGANIZZAZIONE DEL PROPRIO LAVORO E DEI PROPRI SPA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NELLA MESSA IN DISCUSSIONE DELLE REG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NELLA DEFINIZIONE DEL PROPRIO STILE NEL RU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CasellaDiTesto 5"/>
          <p:cNvSpPr/>
          <p:nvPr/>
        </p:nvSpPr>
        <p:spPr>
          <a:xfrm>
            <a:off x="729720" y="4376880"/>
            <a:ext cx="347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1b587c"/>
                </a:solidFill>
                <a:uFillTx/>
                <a:latin typeface="Arial"/>
              </a:rPr>
              <a:t>ARRICCHIRE LE MANS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CasellaDiTesto 6"/>
          <p:cNvSpPr/>
          <p:nvPr/>
        </p:nvSpPr>
        <p:spPr>
          <a:xfrm>
            <a:off x="947520" y="4886280"/>
            <a:ext cx="717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A QUANTO TEMPO FA LO STESSO LAVOR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IN QUALE DIREZIONE POTREBBE ESSERE ARRICCHI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OSA GLI PIACEREBBE FA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a deleg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82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45BC-9505-46DC-A2BF-BE55E50CDD6B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3"/>
          <p:cNvSpPr/>
          <p:nvPr/>
        </p:nvSpPr>
        <p:spPr>
          <a:xfrm>
            <a:off x="744480" y="928800"/>
            <a:ext cx="8475840" cy="54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87200" indent="-18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b587c"/>
                </a:solidFill>
                <a:latin typeface="Arial"/>
              </a:rPr>
              <a:t>COSA DELEGA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20000"/>
              </a:lnSpc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cisioni che prendete con maggior frequ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20000"/>
              </a:lnSpc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mpiti tecnico specialis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20000"/>
              </a:lnSpc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mpiti per cui siete meno qualific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20000"/>
              </a:lnSpc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funzioni che non vi piacci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20000"/>
              </a:lnSpc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mpiti che procurano esperienza o crescita professionale ai collabor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20000"/>
              </a:lnSpc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mpiti che aggiungono varietà alla routine lavor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20000"/>
              </a:lnSpc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ività che completerebbero una posi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3"/>
          <p:cNvSpPr/>
          <p:nvPr/>
        </p:nvSpPr>
        <p:spPr>
          <a:xfrm>
            <a:off x="0" y="7372440"/>
            <a:ext cx="990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Sei livelli di autorità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86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4CE0-3145-4B6B-89E5-CE2A37EE4737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457200" y="952560"/>
          <a:ext cx="9067680" cy="5411880"/>
        </p:xfrm>
        <a:graphic>
          <a:graphicData uri="http://schemas.openxmlformats.org/drawingml/2006/table">
            <a:tbl>
              <a:tblPr/>
              <a:tblGrid>
                <a:gridCol w="1154160"/>
                <a:gridCol w="3792600"/>
                <a:gridCol w="4120920"/>
              </a:tblGrid>
              <a:tr h="788760">
                <a:tc>
                  <a:txBody>
                    <a:bodyPr lIns="76320" rIns="76320" tIns="76320" bIns="7632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3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Livello di autorità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3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INCARIC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3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MOTIV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920">
                <a:tc>
                  <a:txBody>
                    <a:bodyPr lIns="76320" rIns="76320" tIns="76320" bIns="7632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3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1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Analizza la situazione. Trova tutti i dati possibili e fammi un rapporto. Deciderò io il da farsi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1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Lavoratore inesperto. Il capo vuole mantenere il controllo sui risultati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76320" rIns="76320" tIns="76320" bIns="7632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3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1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Identifica il problema. Stabilisci soluzioni alternative con pro e contro e sottoponine una alla mia approvazione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1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Il collaboratore è in fase di sviluppo ed il capo vuole vedere come affronta i problemi e come prende le decision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76320" rIns="76320" tIns="76320" bIns="7632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3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1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Esamina i problemi. Fammi sapere cosa intendi fare ma non agire senza avermi consultato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1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Il capo ha fiducia ma non vuole che si agisca senza la sua approvazione. Può dipendere da vincoli aziendali o con partner estern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76320" rIns="76320" tIns="76320" bIns="7632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3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1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Risolvi il problema. Fammi sapere come intendi procedere e vai a meno che io non mi opponga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1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Il superiore rispetta l’abilità ed il giudizio del dipendente. Si riserva solo un controllo finale prima delle operazioni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76320" rIns="76320" tIns="76320" bIns="7632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3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1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Fai qualcosa in proposito ed informami su come è andat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1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Il superiore ha piena fiducia. Desidera solo essere informato degli esiti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76320" rIns="76320" tIns="76320" bIns="7632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3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1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Agisci. Non hai bisogno di altri contatti con me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1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Fiducia totale con completa autorità per il collaborator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a deleg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89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24A6-29DA-420B-9079-32F334B134FF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595440" y="857160"/>
            <a:ext cx="8366040" cy="56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87200" indent="-18720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MODALITA’ DI DELEG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LLOQUIO DI DELEGA PER</a:t>
            </a:r>
            <a:r>
              <a:rPr b="0" lang="it-IT" sz="2800" spc="-1" strike="noStrike">
                <a:solidFill>
                  <a:srgbClr val="1b587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30000"/>
              </a:lnSpc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hiarire, mettere in comune obiettivi, autonomie, autorità, controlli, criteri di valut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30000"/>
              </a:lnSpc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ttenere responsabilizzazione e coinvolgimento sugli obiet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VITARE INCARICHI GENER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30000"/>
              </a:lnSpc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stringono il collaboratore a chiedere chiarimenti in itin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30000"/>
              </a:lnSpc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lasciano pericolose zone d’ombra per la fase di valut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ogiche di deleg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92" name="Segnaposto numero diapositiva 6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C2A9-6C49-4699-A3C0-AFAEB910A587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3"/>
          <p:cNvSpPr/>
          <p:nvPr/>
        </p:nvSpPr>
        <p:spPr>
          <a:xfrm>
            <a:off x="750960" y="844560"/>
            <a:ext cx="891540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1b587c"/>
                </a:solidFill>
                <a:latin typeface="Arial"/>
              </a:rPr>
              <a:t>IL TUO TEMPO E’ A MIA DISPOSI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1138320" y="3000240"/>
            <a:ext cx="805644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1b587c"/>
                </a:solidFill>
                <a:latin typeface="Arial"/>
              </a:rPr>
              <a:t>IL TUO TEMPO E’ UNA TUA RISORSA PER IL LAVORO CHE TI HO ASSEGNA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806400" y="1706400"/>
            <a:ext cx="8861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VANTAGGI: evito i miei ritardi, posso seguire le mie urge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SVANTAGGI: causo perdite di tempo ai miei collaborat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6"/>
          <p:cNvSpPr/>
          <p:nvPr/>
        </p:nvSpPr>
        <p:spPr>
          <a:xfrm>
            <a:off x="663480" y="4294080"/>
            <a:ext cx="8861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VANTAGGI: evito perdite di tempo ai collaboratori, li costringo ad organizzare il loro tempo e a finalizzarne l’utiliz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SVANTAGGI: rischio ritardi su urgenze emergenti, ho meno margini di recupero sulle mie efficie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a deleg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98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4C61-4DB8-4C36-A139-9C4C1F503D4C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3"/>
          <p:cNvSpPr/>
          <p:nvPr/>
        </p:nvSpPr>
        <p:spPr>
          <a:xfrm>
            <a:off x="809640" y="1147680"/>
            <a:ext cx="7924680" cy="47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87200" indent="-18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TENUTI DELLA DELEG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BIET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ISULTATI VOL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RITERI DI MIS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ISORSE DISPONIBILI E VINCO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SCREZIONALITA’, AUTOR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TEMPIST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MODALITA’ DI CONT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3"/>
          <p:cNvSpPr/>
          <p:nvPr/>
        </p:nvSpPr>
        <p:spPr>
          <a:xfrm>
            <a:off x="880920" y="1162080"/>
            <a:ext cx="77724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L CONT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i applica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3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mpiti esecu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i caratterizza p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3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vicinanza temporale al momento d’assegnazione del comp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3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tempestività d’intervento del respons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3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bbligo di reportistica immediato da parte del subordinato in caso di probl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Controllo o verifica dei risultati?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02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C060-CE50-4838-A610-355800B38790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3"/>
          <p:cNvSpPr/>
          <p:nvPr/>
        </p:nvSpPr>
        <p:spPr>
          <a:xfrm>
            <a:off x="1066680" y="1200240"/>
            <a:ext cx="777240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LA VERIFICA DEI RISUL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i applica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biettivi o funzioni dele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i caratterizza p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slocazione temporale concordata e distante dal momento d’assegn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ispetto del margine di discrezionalità affidato al collaboratore salvo gravi situ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eport concordati a scadenza periodica salvo situazioni di cri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Controllo o verifica dei risultati?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05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5D22-C13F-4D3C-878C-7BE76244BD8A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sequenze dell’apprendiment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07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6C31-FDCC-4515-A791-5D0CF422E9A3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CasellaDiTesto 2"/>
          <p:cNvSpPr/>
          <p:nvPr/>
        </p:nvSpPr>
        <p:spPr>
          <a:xfrm>
            <a:off x="857160" y="1019160"/>
            <a:ext cx="3308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F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FAR F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FAR SPERIM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CasellaDiTesto 3"/>
          <p:cNvSpPr/>
          <p:nvPr/>
        </p:nvSpPr>
        <p:spPr>
          <a:xfrm>
            <a:off x="5627520" y="1309680"/>
            <a:ext cx="3759480" cy="4483080"/>
          </a:xfrm>
          <a:prstGeom prst="rect">
            <a:avLst/>
          </a:prstGeom>
          <a:noFill/>
          <a:ln w="9360">
            <a:solidFill>
              <a:srgbClr val="b45f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ECONDO KOLB ESISTONO 4 STILI DI APPRENDIMENTO CHE SI CARATTERIZZANO PER LA SEQUENZA IN CUI GRADISCONO SIANO DISPOSTE LE FA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55280" y="2739960"/>
            <a:ext cx="8381880" cy="1433520"/>
          </a:xfrm>
          <a:prstGeom prst="rect">
            <a:avLst/>
          </a:prstGeom>
          <a:noFill/>
          <a:ln w="9360">
            <a:solidFill>
              <a:srgbClr val="1b587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f2936"/>
                </a:solidFill>
                <a:latin typeface="Century Gothic"/>
              </a:rPr>
              <a:t>IL MESTIERE DI CAPO E LA GESTIONE DEI COLLABORATORI</a:t>
            </a:r>
            <a:endParaRPr b="1" lang="en-US" sz="36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742680" y="4621320"/>
            <a:ext cx="8297640" cy="11779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1b587c"/>
                </a:solidFill>
                <a:latin typeface="Century Gothic"/>
              </a:rPr>
              <a:t>Indicazioni concrete per i responsabili</a:t>
            </a:r>
            <a:endParaRPr b="0" lang="en-US" sz="2800" spc="-1" strike="noStrike">
              <a:solidFill>
                <a:srgbClr val="1b587c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1b587c"/>
                </a:solidFill>
                <a:latin typeface="Century Gothic"/>
              </a:rPr>
              <a:t>Quarto incontro</a:t>
            </a:r>
            <a:endParaRPr b="0" lang="en-US" sz="28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685800" y="928800"/>
            <a:ext cx="8534520" cy="50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E L’ORGANIZZAZIONE AZIENDALE NON E’ DEFINITA NON POSSO ASPETTARMI CHE LE PERSONE SEGUANO UN COPIONE PRESTABIL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IASCUNO RECITERA’ A SOGGETTO, SECONDO LA PROPRIA SENSIBILITA’ INDIPENDENTEMENTE DALL’EFFICIACIA E DALL’EFFICIENZA DEI COMPORTAMENTI, RISPETTO AL RAGGIUNGIMENTO DEGLI OBIETTIV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Quindi…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16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5E12-2E90-4E5A-AFEF-E2AB6875FAE5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Attenzione alla valutazione e al feedback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13" name="Segnaposto numero diapositiva 8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58C2-DE3E-4DD5-9D5A-15CCE326A21A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1"/>
          <p:cNvSpPr/>
          <p:nvPr/>
        </p:nvSpPr>
        <p:spPr>
          <a:xfrm>
            <a:off x="6696000" y="1203480"/>
            <a:ext cx="3071880" cy="105300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Valutare correttam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Riconoscere i meri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Dare feedback positivi e negativ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CasellaDiTesto 4"/>
          <p:cNvSpPr/>
          <p:nvPr/>
        </p:nvSpPr>
        <p:spPr>
          <a:xfrm>
            <a:off x="911520" y="2068560"/>
            <a:ext cx="38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1b587c"/>
                </a:solidFill>
                <a:uFillTx/>
                <a:latin typeface="Arial"/>
              </a:rPr>
              <a:t>VALUTARE CORRETT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CasellaDiTesto 5"/>
          <p:cNvSpPr/>
          <p:nvPr/>
        </p:nvSpPr>
        <p:spPr>
          <a:xfrm>
            <a:off x="1145880" y="2577960"/>
            <a:ext cx="501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ONCENTRARSI SULLA PRES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PREDISPORRE STRUMENTI AFFIDABI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ESSERE EQ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CasellaDiTesto 6"/>
          <p:cNvSpPr/>
          <p:nvPr/>
        </p:nvSpPr>
        <p:spPr>
          <a:xfrm>
            <a:off x="936000" y="4095720"/>
            <a:ext cx="314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1b587c"/>
                </a:solidFill>
                <a:uFillTx/>
                <a:latin typeface="Arial"/>
              </a:rPr>
              <a:t>RICONOSCERE I MERI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CasellaDiTesto 7"/>
          <p:cNvSpPr/>
          <p:nvPr/>
        </p:nvSpPr>
        <p:spPr>
          <a:xfrm>
            <a:off x="1131840" y="4605480"/>
            <a:ext cx="803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SE IL DIPENDENTE SE LO ASPETTA NON E’ PIU’ UN COMPEN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I RICONOSCIMENTI DEVONO SODDISFARE I BISOGNI</a:t>
            </a:r>
            <a:br>
              <a:rPr sz="2000"/>
            </a:b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MA ANCHE I DESIDERI DEI DIPEND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UMENTARE LE MODALITA’ DI RICONOSC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Attenzione alla valutazione e al feedback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20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6A54-4DE7-4BFB-ADB8-6FF65F1061C2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CasellaDiTesto 4"/>
          <p:cNvSpPr/>
          <p:nvPr/>
        </p:nvSpPr>
        <p:spPr>
          <a:xfrm>
            <a:off x="692640" y="107640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1b587c"/>
                </a:solidFill>
                <a:uFillTx/>
                <a:latin typeface="Arial"/>
              </a:rPr>
              <a:t>DARE FEEDBACK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3"/>
          <p:cNvSpPr/>
          <p:nvPr/>
        </p:nvSpPr>
        <p:spPr>
          <a:xfrm>
            <a:off x="465840" y="2286000"/>
            <a:ext cx="89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FEEDBACK: informazioni o dati di ritorno forniti dall’altra pers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896400" y="3809880"/>
            <a:ext cx="80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RITICA: giudizio sfavorevole nei confronti di una pers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5"/>
          <p:cNvSpPr/>
          <p:nvPr/>
        </p:nvSpPr>
        <p:spPr>
          <a:xfrm>
            <a:off x="1022760" y="5334120"/>
            <a:ext cx="78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LOGIO: giudizio favorevole nei confronti di una pers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Cos’è un feedback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26" name="Segnaposto numero diapositiva 5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712D-4375-419A-A5F4-115A52BCACAD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Object 2" descr=""/>
          <p:cNvPicPr/>
          <p:nvPr/>
        </p:nvPicPr>
        <p:blipFill>
          <a:blip r:embed="rId1"/>
          <a:stretch/>
        </p:blipFill>
        <p:spPr>
          <a:xfrm>
            <a:off x="1209600" y="888840"/>
            <a:ext cx="7477200" cy="5740560"/>
          </a:xfrm>
          <a:prstGeom prst="rect">
            <a:avLst/>
          </a:prstGeom>
          <a:ln w="0">
            <a:noFill/>
          </a:ln>
        </p:spPr>
      </p:pic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dentità e lavor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29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CCC6-E072-468F-A689-4DBA652EAA37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3"/>
          <p:cNvSpPr/>
          <p:nvPr/>
        </p:nvSpPr>
        <p:spPr>
          <a:xfrm>
            <a:off x="1402200" y="1411200"/>
            <a:ext cx="25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D. PERS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4"/>
          <p:cNvSpPr/>
          <p:nvPr/>
        </p:nvSpPr>
        <p:spPr>
          <a:xfrm>
            <a:off x="7120080" y="4267080"/>
            <a:ext cx="761760" cy="838440"/>
          </a:xfrm>
          <a:prstGeom prst="downArrow">
            <a:avLst>
              <a:gd name="adj1" fmla="val 50000"/>
              <a:gd name="adj2" fmla="val 275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"/>
          <p:cNvSpPr/>
          <p:nvPr/>
        </p:nvSpPr>
        <p:spPr>
          <a:xfrm>
            <a:off x="5885640" y="141120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D. PROFESS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6"/>
          <p:cNvSpPr/>
          <p:nvPr/>
        </p:nvSpPr>
        <p:spPr>
          <a:xfrm>
            <a:off x="1127160" y="308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7"/>
          <p:cNvSpPr/>
          <p:nvPr/>
        </p:nvSpPr>
        <p:spPr>
          <a:xfrm>
            <a:off x="749880" y="3392640"/>
            <a:ext cx="38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EGNO DELL’OPIN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8"/>
          <p:cNvSpPr/>
          <p:nvPr/>
        </p:nvSpPr>
        <p:spPr>
          <a:xfrm>
            <a:off x="2278080" y="2209680"/>
            <a:ext cx="762120" cy="838440"/>
          </a:xfrm>
          <a:prstGeom prst="downArrow">
            <a:avLst>
              <a:gd name="adj1" fmla="val 50000"/>
              <a:gd name="adj2" fmla="val 27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9"/>
          <p:cNvSpPr/>
          <p:nvPr/>
        </p:nvSpPr>
        <p:spPr>
          <a:xfrm>
            <a:off x="858600" y="5486400"/>
            <a:ext cx="36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ICHIAMA IL GIUDIZ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D IL SENSO DI COL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10"/>
          <p:cNvSpPr/>
          <p:nvPr/>
        </p:nvSpPr>
        <p:spPr>
          <a:xfrm>
            <a:off x="7120080" y="2209680"/>
            <a:ext cx="761760" cy="838440"/>
          </a:xfrm>
          <a:prstGeom prst="downArrow">
            <a:avLst>
              <a:gd name="adj1" fmla="val 50000"/>
              <a:gd name="adj2" fmla="val 275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1"/>
          <p:cNvSpPr/>
          <p:nvPr/>
        </p:nvSpPr>
        <p:spPr>
          <a:xfrm>
            <a:off x="6090120" y="339264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EGNO DEI FA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AutoShape 12"/>
          <p:cNvSpPr/>
          <p:nvPr/>
        </p:nvSpPr>
        <p:spPr>
          <a:xfrm>
            <a:off x="2278080" y="4267080"/>
            <a:ext cx="762120" cy="838440"/>
          </a:xfrm>
          <a:prstGeom prst="downArrow">
            <a:avLst>
              <a:gd name="adj1" fmla="val 50000"/>
              <a:gd name="adj2" fmla="val 27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3"/>
          <p:cNvSpPr/>
          <p:nvPr/>
        </p:nvSpPr>
        <p:spPr>
          <a:xfrm>
            <a:off x="5318280" y="5486400"/>
            <a:ext cx="432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ICHIAMA LA VALUT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D IL FEED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dentità personale e identità professiona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42" name="Segnaposto numero diapositiva 1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CE96-2205-4506-B03A-5DA8980583BE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 Box 3"/>
          <p:cNvSpPr/>
          <p:nvPr/>
        </p:nvSpPr>
        <p:spPr>
          <a:xfrm>
            <a:off x="528480" y="928800"/>
            <a:ext cx="9068040" cy="53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SIATE SPECIFICI  E FOCALIZZATI SULLA PREST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FORNITE FATTI O ESEMPI A SOSTEGNO DELLA VOSTRA T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ESPRIMETE APPREZZAMENTO QUANDO FORNITE UN FEED BACK SULLE SITUAZIONI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MANIFESTATE PREOCCUPAZIONE QUANDO FORNITE FEED BACK SULLE SITUAZIONI 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SIATE DIRETTI E SINC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FORNITE IL FEED BACK PERSONAL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FORNITE IL FEED BACK TEMPESTIV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NTERVENITE EQUAMENTE SIA PER I FATTI POSITIVI CHE PER QUELLI NEGA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Per fornire un feedback costruttiv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45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7E67-6076-4A67-B57B-D833EA35F141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3"/>
          <p:cNvSpPr/>
          <p:nvPr/>
        </p:nvSpPr>
        <p:spPr>
          <a:xfrm>
            <a:off x="528480" y="928800"/>
            <a:ext cx="9068040" cy="48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NON SIATE GENERICI MA ANALIZZATE LA SITUAZIONE POSITIVA METTENDONE A FUOCO I COMPORTAMENTI ECCELL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RICONOSCETE LO SFORZO COMPIUTO SE LA SITUAZIONE POSITIVA E’ A VALLE DI UNA CRITICA RICEVU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VALORIZZATE E RINFORZATE LE PRESTAZIONI SOPRA LA MEDIA CON GLI STRUMENTI CHE AVETE A DISPOSI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MOTIVATE LA RISORSA A PROSEGUIRE NEGLI SFORZI PROSPETTANDO I POSSIBILI SVILUPPI ORGANIZZA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SE CONFERITE UN AUMENTO RETRIBUTIVO O UN PREMIO METTETELO IN RELAZIONE IL PIU’ POSSIBILE AD EVENTI PRECISI E NON AD UN GENERICO MIGLIOR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Quando date un feedback positiv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48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35B4-452C-415A-9D5A-74188A8AC17E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2"/>
          <p:cNvSpPr/>
          <p:nvPr/>
        </p:nvSpPr>
        <p:spPr>
          <a:xfrm>
            <a:off x="1395360" y="4238640"/>
            <a:ext cx="2158920" cy="21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15171" dir="376851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GEST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TEN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Oval 3"/>
          <p:cNvSpPr/>
          <p:nvPr/>
        </p:nvSpPr>
        <p:spPr>
          <a:xfrm>
            <a:off x="6705720" y="2514600"/>
            <a:ext cx="2536560" cy="2604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15171" dir="376851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GEST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L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EL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4"/>
          <p:cNvSpPr/>
          <p:nvPr/>
        </p:nvSpPr>
        <p:spPr>
          <a:xfrm>
            <a:off x="822240" y="1000080"/>
            <a:ext cx="3305160" cy="2048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15171" dir="376851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BIETTIV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LLOQU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5"/>
          <p:cNvSpPr/>
          <p:nvPr/>
        </p:nvSpPr>
        <p:spPr>
          <a:xfrm flipV="1">
            <a:off x="4114800" y="4495320"/>
            <a:ext cx="236232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6"/>
          <p:cNvSpPr/>
          <p:nvPr/>
        </p:nvSpPr>
        <p:spPr>
          <a:xfrm>
            <a:off x="4495680" y="2209680"/>
            <a:ext cx="2057400" cy="838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7"/>
          <p:cNvSpPr/>
          <p:nvPr/>
        </p:nvSpPr>
        <p:spPr>
          <a:xfrm>
            <a:off x="2400480" y="3286080"/>
            <a:ext cx="0" cy="704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Comunicare…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56" name="Segnaposto numero diapositiva 8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3E16-F31C-400A-93AD-3E8A56528EC7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4"/>
          <p:cNvSpPr/>
          <p:nvPr/>
        </p:nvSpPr>
        <p:spPr>
          <a:xfrm>
            <a:off x="624960" y="1182600"/>
            <a:ext cx="1145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R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5"/>
          <p:cNvSpPr/>
          <p:nvPr/>
        </p:nvSpPr>
        <p:spPr>
          <a:xfrm>
            <a:off x="609480" y="2021040"/>
            <a:ext cx="868680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spcBef>
                <a:spcPts val="2401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RGANIZZATE LA DOCUMENTAZIONE PERTINENTE DA MOSTRARE AL COLLABOR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2401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FISSATE DATA E ORA DELLA RIUNIONE MANTENENDO LA RISERVATEZZA CON ALTRI NON INTERESS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2401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SULTATE IN ANTICIPO ALTRE PARTI IN CAUSA A SECONDA DELLA VOSTRA REALTA’ AZIEND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2401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ERCATE DI PREVEDERE LE POSSIBILI REAZIONI DEL DIPENDENTE E LE CRITICITA’ INSITE NEL COLLOQU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Si va in scena con il colloquio: il copion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60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8B1A-C255-4524-A86D-C2A3EE2FB082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 Box 2"/>
          <p:cNvSpPr/>
          <p:nvPr/>
        </p:nvSpPr>
        <p:spPr>
          <a:xfrm>
            <a:off x="1074240" y="1166760"/>
            <a:ext cx="78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UNA MAPPA PER GESTIRE LE SITUAZIONI CRIT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val 3"/>
          <p:cNvSpPr/>
          <p:nvPr/>
        </p:nvSpPr>
        <p:spPr>
          <a:xfrm>
            <a:off x="952560" y="2243160"/>
            <a:ext cx="3200400" cy="182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89808" dir="4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SCORD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’OPIN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Oval 4"/>
          <p:cNvSpPr/>
          <p:nvPr/>
        </p:nvSpPr>
        <p:spPr>
          <a:xfrm>
            <a:off x="914400" y="4343400"/>
            <a:ext cx="3200400" cy="182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89808" dir="4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APPO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FLITTU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val 5"/>
          <p:cNvSpPr/>
          <p:nvPr/>
        </p:nvSpPr>
        <p:spPr>
          <a:xfrm>
            <a:off x="6019920" y="2243160"/>
            <a:ext cx="3200400" cy="182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89808" dir="4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ASSIVITA’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LLABOR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val 6"/>
          <p:cNvSpPr/>
          <p:nvPr/>
        </p:nvSpPr>
        <p:spPr>
          <a:xfrm>
            <a:off x="6019920" y="4343400"/>
            <a:ext cx="3200400" cy="182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89808" dir="4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EGGIA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COER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Si va in scena con il colloquio: istruzion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67" name="Segnaposto numero diapositiva 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6AE4-7A8C-4B2B-869A-6C8BC4410387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Esercitazione: l’uso del tem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graphicFrame>
        <p:nvGraphicFramePr>
          <p:cNvPr id="218" name="Object 3"/>
          <p:cNvGraphicFramePr/>
          <p:nvPr/>
        </p:nvGraphicFramePr>
        <p:xfrm>
          <a:off x="741240" y="868320"/>
          <a:ext cx="8379000" cy="552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240" y="868320"/>
                    <a:ext cx="8379000" cy="55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A8FA-9FBF-4BF7-9A67-1FA7B0F9E12C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Oval 3"/>
          <p:cNvSpPr/>
          <p:nvPr/>
        </p:nvSpPr>
        <p:spPr>
          <a:xfrm>
            <a:off x="304920" y="1409760"/>
            <a:ext cx="2743200" cy="1371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89808" dir="4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SCORD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’OPIN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4"/>
          <p:cNvSpPr/>
          <p:nvPr/>
        </p:nvSpPr>
        <p:spPr>
          <a:xfrm>
            <a:off x="3676680" y="1019160"/>
            <a:ext cx="6019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VVERTENZE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IMOSTRARE INTERESSE PER L’OPINIONE DEL COLLABORATORE E DISPONIBILITA’ ALL’ASCOL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EVIDENZIARE LE AREE DI DISCORDA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RICERCARNE INSIEME I MOTIVI PORTANDO DATI DI REALTA’, STIMOLANDO LA RICE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OPO IL CONFRONTO CHIARIRE GLI ASPETTI SU CUI SI CONCORDA E QUELLI CHE RIMANGONO DA CHIAR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5"/>
          <p:cNvSpPr/>
          <p:nvPr/>
        </p:nvSpPr>
        <p:spPr>
          <a:xfrm>
            <a:off x="528480" y="4357800"/>
            <a:ext cx="9068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A EVITARE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IRRIGIDIRSI SULLE PROPRIE POSI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IMPORRE LA PROPRIA OPINIONE ATTRAVERSO IL G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SSUMERE ATTEGGIAMENTI ACCUSAT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SSUMERE ATTEGGIAMENTI MANIPOLATIV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Si va in scena con il colloquio: istruzion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72" name="Segnaposto numero diapositiva 5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6637-E669-45AB-B8E0-874796A864E2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Oval 3"/>
          <p:cNvSpPr/>
          <p:nvPr/>
        </p:nvSpPr>
        <p:spPr>
          <a:xfrm>
            <a:off x="457200" y="4514760"/>
            <a:ext cx="2514600" cy="182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89808" dir="4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APPO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FLITTU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4"/>
          <p:cNvSpPr/>
          <p:nvPr/>
        </p:nvSpPr>
        <p:spPr>
          <a:xfrm>
            <a:off x="457200" y="1033560"/>
            <a:ext cx="9067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VVERTENZE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OMPRENDERNE LE CA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IRCOSCRIVERE LA CONFLITTUALITA’ SU TEMI SPECIFICI UTILIZZANDO SIA STRUMENTI PROFESSIONALI CHE GERARCH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EVIDENZIARE GLI ASPETTI POSITIVI PRES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ORIENTARE IL CONFRONTO SU DATI DI REALTA’, FATTI E COMPORTAM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CCOGLIERE, ANCHE SE ENTRO LIMITI DEFINITI, L’AGGRESSIVITA’ ESPRE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5"/>
          <p:cNvSpPr/>
          <p:nvPr/>
        </p:nvSpPr>
        <p:spPr>
          <a:xfrm>
            <a:off x="3267000" y="4403880"/>
            <a:ext cx="6019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A EVITARE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SSUMERE COMPORTAMENTI SIMMETR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RACCOGLIERE LA SF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LLARGARE I TEMPI DEL CONFLI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SSUMERE VALUTAZIONI SULLA PERS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Si va in scena con il colloquio: istruzion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77" name="Segnaposto numero diapositiva 5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93A9-87D9-4704-9A14-349508546179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Oval 3"/>
          <p:cNvSpPr/>
          <p:nvPr/>
        </p:nvSpPr>
        <p:spPr>
          <a:xfrm>
            <a:off x="6781680" y="1428840"/>
            <a:ext cx="2819520" cy="1752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89808" dir="4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ASSIVITA’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LLABOR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4"/>
          <p:cNvSpPr/>
          <p:nvPr/>
        </p:nvSpPr>
        <p:spPr>
          <a:xfrm>
            <a:off x="485640" y="1071720"/>
            <a:ext cx="632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VVERTENZE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HIEDERE DATI, INFORMAZIONI, OPIN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STIMOLARE CON DOMA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EVIDENZIARE LA DIFFICOLTA’ DI OFFRIRE UN FEED BACK DI SUPPORTO SE MANCA LO SCAMB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EVIDENZIARE LE OPPOERTUNITA’ OFFERTE DAL COLLOQUIO E DAL LAV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5"/>
          <p:cNvSpPr/>
          <p:nvPr/>
        </p:nvSpPr>
        <p:spPr>
          <a:xfrm>
            <a:off x="523800" y="407196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A EVITARE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BANALIZZARE LA SITUAZIONE CHIUDENDO IL COLLOQUIO SENZA AFFRONTARE LA QUEST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SSUMERE ATTEGGIAMENTI ESORTATIVI O DI COLPEVOLIZZ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TRASFORMARE IL COLLOQUIO IN UN MONO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Si va in scena con il colloquio: istruzion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82" name="Segnaposto numero diapositiva 5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6840-E927-4C59-90D6-0CE244B6B3D6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Oval 3"/>
          <p:cNvSpPr/>
          <p:nvPr/>
        </p:nvSpPr>
        <p:spPr>
          <a:xfrm>
            <a:off x="1417680" y="1171440"/>
            <a:ext cx="2666880" cy="1371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89808" dir="4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EGGIA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COER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4"/>
          <p:cNvSpPr/>
          <p:nvPr/>
        </p:nvSpPr>
        <p:spPr>
          <a:xfrm>
            <a:off x="5881680" y="1171440"/>
            <a:ext cx="289548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89808" dir="483908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RITICITA’ 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APO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LLABOR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5"/>
          <p:cNvSpPr/>
          <p:nvPr/>
        </p:nvSpPr>
        <p:spPr>
          <a:xfrm>
            <a:off x="659880" y="2892600"/>
            <a:ext cx="434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EGGIAMENTO PUN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(del valutat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6"/>
          <p:cNvSpPr/>
          <p:nvPr/>
        </p:nvSpPr>
        <p:spPr>
          <a:xfrm>
            <a:off x="1112040" y="3929040"/>
            <a:ext cx="346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EGGI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TRODIPEN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(del valuta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7"/>
          <p:cNvSpPr/>
          <p:nvPr/>
        </p:nvSpPr>
        <p:spPr>
          <a:xfrm>
            <a:off x="508320" y="5415120"/>
            <a:ext cx="465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EGGIAMENTO COLLU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(di entramb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AutoShape 8"/>
          <p:cNvSpPr/>
          <p:nvPr/>
        </p:nvSpPr>
        <p:spPr>
          <a:xfrm>
            <a:off x="5181480" y="2876400"/>
            <a:ext cx="76320" cy="3657600"/>
          </a:xfrm>
          <a:custGeom>
            <a:avLst/>
            <a:gdLst>
              <a:gd name="textAreaLeft" fmla="*/ 48960 w 76320"/>
              <a:gd name="textAreaRight" fmla="*/ 76320 w 7632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9"/>
          <p:cNvSpPr/>
          <p:nvPr/>
        </p:nvSpPr>
        <p:spPr>
          <a:xfrm>
            <a:off x="5879160" y="2800440"/>
            <a:ext cx="316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bloccare lo scamb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hiudere la rel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emotivare il collabora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0"/>
          <p:cNvSpPr/>
          <p:nvPr/>
        </p:nvSpPr>
        <p:spPr>
          <a:xfrm>
            <a:off x="5568840" y="3867120"/>
            <a:ext cx="3970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ontrapposizione fro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ricorso al g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risposta sul piano pers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llargamento del confli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1"/>
          <p:cNvSpPr/>
          <p:nvPr/>
        </p:nvSpPr>
        <p:spPr>
          <a:xfrm>
            <a:off x="5383080" y="5322960"/>
            <a:ext cx="40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eliminare dati non conferm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negare il proprio ru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puntare sulla relazione affe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Si va in scena con il colloquio: istruzion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93" name="Segnaposto numero diapositiva 11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8DA3-5719-4356-A0B9-28EC1A081014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Object 3" descr=""/>
          <p:cNvPicPr/>
          <p:nvPr/>
        </p:nvPicPr>
        <p:blipFill>
          <a:blip r:embed="rId1"/>
          <a:stretch/>
        </p:blipFill>
        <p:spPr>
          <a:xfrm>
            <a:off x="3997440" y="2554200"/>
            <a:ext cx="1882800" cy="1758960"/>
          </a:xfrm>
          <a:prstGeom prst="rect">
            <a:avLst/>
          </a:prstGeom>
          <a:ln w="0">
            <a:noFill/>
          </a:ln>
        </p:spPr>
      </p:pic>
      <p:sp>
        <p:nvSpPr>
          <p:cNvPr id="695" name="Oval 4"/>
          <p:cNvSpPr/>
          <p:nvPr/>
        </p:nvSpPr>
        <p:spPr>
          <a:xfrm>
            <a:off x="3746520" y="865080"/>
            <a:ext cx="2184480" cy="1179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le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val 6"/>
          <p:cNvSpPr/>
          <p:nvPr/>
        </p:nvSpPr>
        <p:spPr>
          <a:xfrm>
            <a:off x="3529080" y="4809960"/>
            <a:ext cx="2624040" cy="1417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valutazione delle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rest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Oval 7"/>
          <p:cNvSpPr/>
          <p:nvPr/>
        </p:nvSpPr>
        <p:spPr>
          <a:xfrm>
            <a:off x="6262560" y="4770360"/>
            <a:ext cx="2590920" cy="1408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nsegnamento/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ddestr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8"/>
          <p:cNvSpPr/>
          <p:nvPr/>
        </p:nvSpPr>
        <p:spPr>
          <a:xfrm>
            <a:off x="6089760" y="800280"/>
            <a:ext cx="2392200" cy="1179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ritica costrut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val 9"/>
          <p:cNvSpPr/>
          <p:nvPr/>
        </p:nvSpPr>
        <p:spPr>
          <a:xfrm>
            <a:off x="7394400" y="2023920"/>
            <a:ext cx="2184480" cy="1179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lo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Oval 10"/>
          <p:cNvSpPr/>
          <p:nvPr/>
        </p:nvSpPr>
        <p:spPr>
          <a:xfrm>
            <a:off x="243000" y="1330200"/>
            <a:ext cx="3429000" cy="1371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rganizzazione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 proce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11"/>
          <p:cNvSpPr/>
          <p:nvPr/>
        </p:nvSpPr>
        <p:spPr>
          <a:xfrm>
            <a:off x="6632640" y="3252960"/>
            <a:ext cx="3149640" cy="1371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motivazione/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involg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Riassumendo …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703" name="Oval 4"/>
          <p:cNvSpPr/>
          <p:nvPr/>
        </p:nvSpPr>
        <p:spPr>
          <a:xfrm>
            <a:off x="378000" y="2986200"/>
            <a:ext cx="2568240" cy="1387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municazione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ffic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6"/>
          <p:cNvSpPr/>
          <p:nvPr/>
        </p:nvSpPr>
        <p:spPr>
          <a:xfrm>
            <a:off x="800280" y="4557600"/>
            <a:ext cx="2624040" cy="1417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gestione delle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icomp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egnaposto numero diapositiva 12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8C3D-D827-4527-B524-42ACCF00FEB4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3"/>
          <p:cNvSpPr/>
          <p:nvPr/>
        </p:nvSpPr>
        <p:spPr>
          <a:xfrm>
            <a:off x="974880" y="1419120"/>
            <a:ext cx="7940520" cy="41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’ in grado di assumere decisioni anche diffic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vverte la necessità di motivarle al suo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timola il gruppo a prendere decisioni collet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Facilita il lavoro del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sente il dovere di trovare in prima persona la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oluzione a tutti i probl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osce l’importanza di deleg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l responsabile decisor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708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AD50-9E1A-4E01-B764-6A1B2C73B7A6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3"/>
          <p:cNvSpPr/>
          <p:nvPr/>
        </p:nvSpPr>
        <p:spPr>
          <a:xfrm>
            <a:off x="838080" y="1447920"/>
            <a:ext cx="8245440" cy="46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’ Consapevole di essere un punto di riferimento per i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uoi collabor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Trasmette in ogni circostanza i Valori dell’organ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i coordina con le altre figure chiave dell’organizzazione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er mantenere la coerenza con quei Val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elle fasi di cambiamento stimola i collaboratori a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iflettere sulle nuove sfide e sulle scelte compi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è mai acritico ma è fedele alla linea stabilita dal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vertice dell’organ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l responsabile diffusor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711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E6D1-2A2A-46A5-B8AD-BF2BFC47B04C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 Box 3"/>
          <p:cNvSpPr/>
          <p:nvPr/>
        </p:nvSpPr>
        <p:spPr>
          <a:xfrm>
            <a:off x="838080" y="1447920"/>
            <a:ext cx="8245440" cy="45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’ autorevole presso i suoi collabor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a gestire i conflitti tra e con i collabor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glie i “segnali debol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dica tempo ai collabor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a erogare premi e punizioni utilizzando criteri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traspar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Ha chiaro cosa si aspetta dai suoi collaboratori ed è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apace di comunicarlo in modo effic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l responsabile gestor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714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761D-55CC-4D41-A247-50F80937353A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 Box 3"/>
          <p:cNvSpPr/>
          <p:nvPr/>
        </p:nvSpPr>
        <p:spPr>
          <a:xfrm>
            <a:off x="838080" y="1447920"/>
            <a:ext cx="824544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a insegnare ai propri collaboratori e pensa sia suo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overe far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’ in grado di fornire feedback costruttivi sia positivi che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ega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a essere mentore e consigliere dei propri collaboratori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elativamente al percorso di carr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Valuta i propri collaboratori sforzandosi di restare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ncorato ai fatti e non alle sens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osce i pericoli insiti nel non valutare e nel valutare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corrett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l responsabile coach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717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09F6-9E95-4D8B-8AE7-497E3469AD6A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400320" y="1030320"/>
            <a:ext cx="906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FACCIA UN ELENCO DELLE ATTIVITA’ CHE PUO’/POTREBBE 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VOLGERE SOLO LEI ALL’INTERNO DELLA SUA AZIENDA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NDICANDO QUANTO TEMPO RIESCE A DEDICARV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698400" y="2554200"/>
            <a:ext cx="611208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IV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7086600" y="2554200"/>
            <a:ext cx="228600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T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Esercitazione: attività non delegabil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25" name="Segnaposto numero diapositiva 5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7624-8A77-4783-9056-8BB42D6DE4A5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6:34:11Z</dcterms:created>
  <dc:creator>Gianmarco Falzi</dc:creator>
  <dc:description/>
  <dc:language>en-US</dc:language>
  <cp:lastModifiedBy>Gianmarco Falzi</cp:lastModifiedBy>
  <dcterms:modified xsi:type="dcterms:W3CDTF">2013-10-07T15:24:41Z</dcterms:modified>
  <cp:revision>93</cp:revision>
  <dc:subject/>
  <dc:title>Diapositiva 1</dc:title>
</cp:coreProperties>
</file>